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28A-A93B-49E1-9105-E977FE11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10D-4ADC-4792-BD47-B63B9CE1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94126-63EE-4C27-B0F4-CBB52629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3FF2E-A543-45EE-8068-3E98A493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3136E-34C0-40A0-8557-A7A65B64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97197-F247-4007-9020-AE9890D8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4B29A-C0B2-4FA7-8426-552E81E6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4B261-BFBC-4B68-946F-FF9FA42F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8DFBC-4AF2-450C-83EF-9F8088AE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CB501-CFA8-41FB-89BB-72048BD9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1CCD2-E148-414B-8553-DF7E6297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D1514-0AB4-43D7-9176-2EB63E5F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3B9-A1A9-42F7-BD32-E2D25820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776B0-D299-432D-8B88-3F3D300A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BD849-851E-4BF5-9E39-F9D51B9C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FD626-1146-4B78-84A1-B1FCB23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A6509-83CE-400C-B2E8-B58F9839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C7A53-8256-4EB0-A988-540570C1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05712-533D-42F3-905D-3FFC606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B99DC-EDB9-4EBB-ACF6-B5E26B18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519DB-5472-4215-8634-93893A24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71FF7-87E9-42BB-84F7-D9C08539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83848-92C6-43A1-81E7-009D8494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ED5-BB58-49ED-9BFB-035D75E8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61BC9-6ED3-4B3B-B7F5-A9B60B60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1837-C6B4-4FA6-831A-065D6003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5DA7-FE4E-43B5-9BF3-937B8FD0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F76E-41F7-4C10-9B6D-6745505A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A5D3-B232-42AC-898E-58BBBB00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FD90-5C6D-4191-A031-033D2132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D527-A223-4D09-9ED9-34EC233C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D72E-DB8F-4DF0-9B58-D0F97E7F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9AF-764F-42A9-B3D4-ADF01F94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5168-0D4D-4BB1-BDCC-F91C5D39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2983-2A15-47E3-95E3-2BE2E908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3102-E9AD-458F-A8C1-9F35F233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F495-64FE-4231-9C75-06305534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A2A1-7259-4434-949E-C053BB49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F80B-CB0C-4EBE-BD66-43014A29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ABF3-BC46-402B-9728-5CA26EF4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9A02-E754-4C10-A629-0E89B994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72E5-9724-4280-B349-390F8EB9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6F4A-A426-48B0-97C5-D3345241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D11-690D-4148-8902-1688AC0F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15EA-595B-43F5-A900-B5AEB07F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8898-3562-4567-B248-466D907B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05DE-6DEB-49BF-8767-30FC9C74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0DD1-6FBA-40AB-AA1A-44FDB0A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CC08-4207-4A0F-A4A5-7FBE0F4F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7F0F-79AE-4A18-B0E5-D944874B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CBA1-7E97-4257-BDDD-D0D71C16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6AEF-593E-4FE5-A75A-81E75885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8FD9-B885-4D49-AE1F-D7EC2FE4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F4E8E-31C5-4957-A805-501F94EB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C5D-EE10-4ACE-AA1C-C01A9E6E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3955-0D93-4238-BA49-F172D088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3178-D573-45D7-A4D4-D278C11D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5437C-FDF4-4587-AE4B-DD228096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551C3-E44F-4307-BD29-4ED4862E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D3DC-AB17-492B-9A26-AB3D9094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A282-E519-4BC8-B4F1-3836E29D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D871-0C95-4BA1-958E-040340B3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DDF9-3758-4209-B35E-E30C2354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C96A-3E1F-4C0D-BE3A-7D415AB4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217D-AD2D-4725-B5FC-44BF1082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D9B-9135-402C-88E7-BF84D654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50070-2A6C-40C6-BFA2-94245805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28865-7715-4BC6-950C-BDF247EB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2D8B6-34AE-4380-8CCD-88FBFC1E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59A7-FDC2-4BDB-8951-56689AA6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C49D-49E2-420B-991D-90CA44E8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9FC65-4CB1-4986-BF39-BC080520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755AE-461A-42EA-BD28-020DFC22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BA46-6871-4094-9FD3-76A7BE4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61791-0D05-4F61-9FEB-DFE3FFCD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3CF0E-303C-42AD-B9BF-2B08BA1F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CFC-5183-4D36-9C61-BB783CEE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D7E57-C0E3-4947-BCE9-3FDCFAB9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0C7F2-D493-42D9-A9F4-72014F12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6D44F-46CC-4D98-90AA-9402AF21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F334-90FF-4CBD-AF0E-10C943EF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D1851-2637-45A9-A510-9304BB4D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A7906-7335-4AEF-8D40-FF48CABE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3151B-BA3A-456E-AA7F-55AC34B6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90DD7-0572-4794-8FD7-5DAAFEEA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CD2EC-D818-4B10-A02E-BDB2E02A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5039B-FC02-4752-B944-5786D6B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59E-3E95-46DB-994E-B5415E6D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C8AF9-AF94-40CA-A28F-9D217022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441C-F1EA-4AED-9F9E-C6DD4A3C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77C28-01E4-4EAB-AE82-578443E9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C70C-241B-409B-BD56-EAE9F844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E1FEA-EA7A-4C7D-99A2-64BB46CE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6CA9D-9F6D-4EE9-8BA9-7C0359F8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FA110-A8A6-4F36-977E-2E04A7EF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A08A0-5086-4505-863F-FF72EDD2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7AB9B-D578-4F1C-97CC-AE774BE1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F02AF-8FEE-4E99-BA02-4B4A5D67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BE6-C89C-42AB-A8CE-29ADB65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82465-92AD-48B3-8D24-51A5A25C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8E7AC-5E82-4412-9569-EA74301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E2D93-6BD6-448D-BF0C-A5BF88FE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E2146-88CA-4F35-967B-BDF2682C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D290B-3077-4D7B-A78D-DD3C1F7A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E6ECA-D644-400A-A23F-B07FC3A9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ADBF2-8F2E-4712-AA0C-98748AB1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F88D1-18D8-40F1-B42A-9F725C9B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85F41-56C0-44EA-8727-89F0E3D5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8F5C3-2FE6-4434-89B6-7B24BF3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4F4-B300-410A-A05F-96E5DB40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E2013-ABD2-40C4-A709-9AA7BFF2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7CDCD-9177-4733-BD3E-D1D798C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F1470-B6FE-4656-9BD2-6B81DC1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AB4F5-01D1-4871-BFB0-42404C2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AFC78-0081-47CC-BD06-12B5B3AD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87DBE-E3FA-402D-9A9F-1A10FEB3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28054-9106-4BD0-88E5-4DA9466E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F3712-A47B-4728-84FD-BE93BC34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BAAA8-193C-42C9-B48F-992FDE1E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B3DD6-CF98-4F22-A26C-3E99EC73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0DB8-793F-4D78-B3B1-A31398B6D65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1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1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2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2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2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5EB4-58EC-4F52-ABA4-AF49900195F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CD1B-F950-4190-80EF-AFB791CD31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FA58-49DE-4134-8A68-48748CDE48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2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3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2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5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8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1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4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7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3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6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9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8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7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3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8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7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0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3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9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2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5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8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8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9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2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1ED8-EDED-46A7-B1AC-79459DFB881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828D-2748-4DE9-AA5D-5ADE2E3E6ED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3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3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5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5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5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77A7-8BC0-4270-9E2C-A99EBB23B86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2D36-82D1-4B44-A7B9-C0DD40013A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A351-6CDD-46FA-9537-3607130C84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3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3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540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54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4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545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546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549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552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5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558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61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564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567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570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573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576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579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582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585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588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591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59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597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00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0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06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8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0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11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14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17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20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23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26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29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32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35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638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4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3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644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645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65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5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6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7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0330-D305-4C9B-A4E7-D96698C0FF2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WordArt 4"/>
          <p:cNvSpPr txBox="1"/>
          <p:nvPr/>
        </p:nvSpPr>
        <p:spPr>
          <a:xfrm>
            <a:off x="762120" y="2819520"/>
            <a:ext cx="7886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 бірліг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2743200" y="1295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ейне көріністерден не байқадыңыздар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ұл көліктер бір-бірінен несімен ерекшеленеді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990720" y="1397160"/>
          <a:ext cx="7467480" cy="4063680"/>
        </p:xfrm>
        <a:graphic>
          <a:graphicData uri="http://schemas.openxmlformats.org/drawingml/2006/table">
            <a:tbl>
              <a:tblPr/>
              <a:tblGrid>
                <a:gridCol w="4647960"/>
                <a:gridCol w="2819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изикалық шам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ылдамдық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Жылдамдық дегеніміз..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Физикалық мағынасы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Жылдамдық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ХБЖ өлшем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Text Box 36"/>
          <p:cNvSpPr/>
          <p:nvPr/>
        </p:nvSpPr>
        <p:spPr>
          <a:xfrm>
            <a:off x="1659600" y="324000"/>
            <a:ext cx="51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Түртіп алу” стратегияс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Ink 39"/>
          <p:cNvSpPr/>
          <p:nvPr/>
        </p:nvSpPr>
        <p:spPr>
          <a:xfrm>
            <a:off x="5754600" y="2135160"/>
            <a:ext cx="1476360" cy="587520"/>
          </a:xfrm>
          <a:custGeom>
            <a:avLst/>
            <a:gdLst/>
            <a:ahLst/>
            <a:rect l="l" t="t" r="r" b="b"/>
            <a:pathLst>
              <a:path w="4102" h="1633">
                <a:moveTo>
                  <a:pt x="15985" y="6416"/>
                </a:move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6007" y="6394"/>
                </a:lnTo>
                <a:lnTo>
                  <a:pt x="16007" y="6372"/>
                </a:lnTo>
                <a:lnTo>
                  <a:pt x="16029" y="6372"/>
                </a:lnTo>
                <a:lnTo>
                  <a:pt x="16029" y="6350"/>
                </a:lnTo>
                <a:lnTo>
                  <a:pt x="16051" y="6350"/>
                </a:lnTo>
                <a:lnTo>
                  <a:pt x="16051" y="6328"/>
                </a:lnTo>
                <a:lnTo>
                  <a:pt x="16073" y="6328"/>
                </a:lnTo>
                <a:lnTo>
                  <a:pt x="16095" y="6306"/>
                </a:lnTo>
                <a:lnTo>
                  <a:pt x="16118" y="6306"/>
                </a:lnTo>
                <a:lnTo>
                  <a:pt x="16140" y="6306"/>
                </a:lnTo>
                <a:lnTo>
                  <a:pt x="16162" y="6306"/>
                </a:lnTo>
                <a:lnTo>
                  <a:pt x="16162" y="6284"/>
                </a:lnTo>
                <a:lnTo>
                  <a:pt x="16184" y="6284"/>
                </a:lnTo>
                <a:lnTo>
                  <a:pt x="16206" y="6284"/>
                </a:lnTo>
                <a:lnTo>
                  <a:pt x="16228" y="6284"/>
                </a:lnTo>
                <a:lnTo>
                  <a:pt x="16250" y="6284"/>
                </a:lnTo>
                <a:lnTo>
                  <a:pt x="16272" y="6284"/>
                </a:lnTo>
                <a:lnTo>
                  <a:pt x="16294" y="6306"/>
                </a:lnTo>
                <a:lnTo>
                  <a:pt x="16316" y="6328"/>
                </a:lnTo>
                <a:lnTo>
                  <a:pt x="16316" y="6350"/>
                </a:lnTo>
                <a:lnTo>
                  <a:pt x="16316" y="6372"/>
                </a:lnTo>
                <a:lnTo>
                  <a:pt x="16316" y="6394"/>
                </a:lnTo>
                <a:lnTo>
                  <a:pt x="16316" y="6416"/>
                </a:lnTo>
                <a:lnTo>
                  <a:pt x="16316" y="6438"/>
                </a:lnTo>
                <a:lnTo>
                  <a:pt x="16338" y="6460"/>
                </a:lnTo>
                <a:lnTo>
                  <a:pt x="16338" y="6482"/>
                </a:lnTo>
                <a:lnTo>
                  <a:pt x="16338" y="6504"/>
                </a:lnTo>
                <a:lnTo>
                  <a:pt x="16338" y="6526"/>
                </a:lnTo>
                <a:lnTo>
                  <a:pt x="16338" y="6548"/>
                </a:lnTo>
                <a:lnTo>
                  <a:pt x="16338" y="6570"/>
                </a:lnTo>
                <a:lnTo>
                  <a:pt x="16338" y="6593"/>
                </a:lnTo>
                <a:lnTo>
                  <a:pt x="16338" y="6615"/>
                </a:lnTo>
                <a:lnTo>
                  <a:pt x="16338" y="6637"/>
                </a:lnTo>
                <a:lnTo>
                  <a:pt x="16360" y="6637"/>
                </a:lnTo>
                <a:lnTo>
                  <a:pt x="16360" y="6659"/>
                </a:lnTo>
                <a:lnTo>
                  <a:pt x="16338" y="6681"/>
                </a:lnTo>
                <a:lnTo>
                  <a:pt x="16338" y="6703"/>
                </a:lnTo>
                <a:lnTo>
                  <a:pt x="16338" y="6725"/>
                </a:lnTo>
                <a:lnTo>
                  <a:pt x="16338" y="6747"/>
                </a:lnTo>
                <a:lnTo>
                  <a:pt x="16338" y="6769"/>
                </a:lnTo>
                <a:lnTo>
                  <a:pt x="16338" y="6791"/>
                </a:lnTo>
                <a:lnTo>
                  <a:pt x="16338" y="6813"/>
                </a:lnTo>
                <a:lnTo>
                  <a:pt x="16338" y="6835"/>
                </a:lnTo>
                <a:lnTo>
                  <a:pt x="16316" y="6857"/>
                </a:lnTo>
                <a:lnTo>
                  <a:pt x="16316" y="6879"/>
                </a:lnTo>
                <a:lnTo>
                  <a:pt x="16316" y="6901"/>
                </a:lnTo>
                <a:lnTo>
                  <a:pt x="16316" y="6923"/>
                </a:lnTo>
                <a:lnTo>
                  <a:pt x="16294" y="6923"/>
                </a:lnTo>
                <a:lnTo>
                  <a:pt x="16294" y="6945"/>
                </a:lnTo>
                <a:lnTo>
                  <a:pt x="16294" y="6967"/>
                </a:lnTo>
                <a:lnTo>
                  <a:pt x="16294" y="6989"/>
                </a:lnTo>
                <a:lnTo>
                  <a:pt x="16272" y="6989"/>
                </a:lnTo>
                <a:lnTo>
                  <a:pt x="16272" y="7011"/>
                </a:lnTo>
                <a:lnTo>
                  <a:pt x="16272" y="7034"/>
                </a:lnTo>
                <a:lnTo>
                  <a:pt x="16272" y="7056"/>
                </a:lnTo>
                <a:lnTo>
                  <a:pt x="16272" y="7078"/>
                </a:lnTo>
                <a:lnTo>
                  <a:pt x="16272" y="7100"/>
                </a:lnTo>
                <a:lnTo>
                  <a:pt x="16272" y="7122"/>
                </a:lnTo>
                <a:lnTo>
                  <a:pt x="16272" y="7144"/>
                </a:lnTo>
                <a:lnTo>
                  <a:pt x="16272" y="7166"/>
                </a:lnTo>
                <a:lnTo>
                  <a:pt x="16272" y="7188"/>
                </a:lnTo>
                <a:lnTo>
                  <a:pt x="16294" y="7188"/>
                </a:lnTo>
                <a:lnTo>
                  <a:pt x="16294" y="7210"/>
                </a:lnTo>
                <a:lnTo>
                  <a:pt x="16316" y="7210"/>
                </a:lnTo>
                <a:lnTo>
                  <a:pt x="16338" y="7210"/>
                </a:lnTo>
                <a:lnTo>
                  <a:pt x="16360" y="7210"/>
                </a:lnTo>
                <a:lnTo>
                  <a:pt x="16382" y="7210"/>
                </a:lnTo>
                <a:lnTo>
                  <a:pt x="16404" y="7210"/>
                </a:lnTo>
                <a:lnTo>
                  <a:pt x="16426" y="7210"/>
                </a:lnTo>
                <a:lnTo>
                  <a:pt x="16448" y="7210"/>
                </a:lnTo>
                <a:lnTo>
                  <a:pt x="16470" y="7188"/>
                </a:lnTo>
                <a:lnTo>
                  <a:pt x="16492" y="7188"/>
                </a:lnTo>
                <a:lnTo>
                  <a:pt x="16492" y="7166"/>
                </a:lnTo>
                <a:lnTo>
                  <a:pt x="16514" y="7166"/>
                </a:lnTo>
                <a:lnTo>
                  <a:pt x="16536" y="7144"/>
                </a:lnTo>
                <a:lnTo>
                  <a:pt x="16536" y="7122"/>
                </a:lnTo>
                <a:lnTo>
                  <a:pt x="16559" y="7100"/>
                </a:lnTo>
                <a:lnTo>
                  <a:pt x="16581" y="7078"/>
                </a:lnTo>
                <a:lnTo>
                  <a:pt x="16581" y="7056"/>
                </a:lnTo>
                <a:lnTo>
                  <a:pt x="16603" y="7034"/>
                </a:lnTo>
                <a:lnTo>
                  <a:pt x="16625" y="7034"/>
                </a:lnTo>
                <a:lnTo>
                  <a:pt x="16625" y="7011"/>
                </a:lnTo>
                <a:lnTo>
                  <a:pt x="16647" y="6989"/>
                </a:lnTo>
                <a:lnTo>
                  <a:pt x="16647" y="6967"/>
                </a:lnTo>
                <a:lnTo>
                  <a:pt x="16669" y="6945"/>
                </a:lnTo>
                <a:lnTo>
                  <a:pt x="16669" y="6923"/>
                </a:lnTo>
                <a:lnTo>
                  <a:pt x="16691" y="6901"/>
                </a:lnTo>
                <a:lnTo>
                  <a:pt x="16691" y="6879"/>
                </a:lnTo>
                <a:lnTo>
                  <a:pt x="16713" y="6857"/>
                </a:lnTo>
                <a:lnTo>
                  <a:pt x="16713" y="6835"/>
                </a:lnTo>
                <a:lnTo>
                  <a:pt x="16713" y="6813"/>
                </a:lnTo>
                <a:lnTo>
                  <a:pt x="16735" y="6791"/>
                </a:lnTo>
                <a:lnTo>
                  <a:pt x="16735" y="6769"/>
                </a:lnTo>
                <a:lnTo>
                  <a:pt x="16735" y="6747"/>
                </a:lnTo>
                <a:lnTo>
                  <a:pt x="16735" y="6725"/>
                </a:lnTo>
                <a:lnTo>
                  <a:pt x="16757" y="6703"/>
                </a:lnTo>
                <a:lnTo>
                  <a:pt x="16757" y="6681"/>
                </a:lnTo>
                <a:lnTo>
                  <a:pt x="16757" y="6659"/>
                </a:lnTo>
                <a:lnTo>
                  <a:pt x="16757" y="6637"/>
                </a:lnTo>
                <a:lnTo>
                  <a:pt x="16757" y="6615"/>
                </a:lnTo>
                <a:lnTo>
                  <a:pt x="16779" y="6593"/>
                </a:lnTo>
                <a:lnTo>
                  <a:pt x="16779" y="6570"/>
                </a:lnTo>
                <a:lnTo>
                  <a:pt x="16779" y="6548"/>
                </a:lnTo>
                <a:lnTo>
                  <a:pt x="16779" y="6526"/>
                </a:lnTo>
                <a:lnTo>
                  <a:pt x="16779" y="6504"/>
                </a:lnTo>
                <a:lnTo>
                  <a:pt x="16779" y="6482"/>
                </a:lnTo>
                <a:lnTo>
                  <a:pt x="16779" y="6460"/>
                </a:lnTo>
                <a:lnTo>
                  <a:pt x="16779" y="6438"/>
                </a:lnTo>
                <a:lnTo>
                  <a:pt x="16779" y="6416"/>
                </a:lnTo>
                <a:lnTo>
                  <a:pt x="16779" y="6394"/>
                </a:lnTo>
                <a:lnTo>
                  <a:pt x="16801" y="6372"/>
                </a:lnTo>
                <a:lnTo>
                  <a:pt x="16801" y="6350"/>
                </a:lnTo>
                <a:lnTo>
                  <a:pt x="16801" y="6328"/>
                </a:lnTo>
                <a:lnTo>
                  <a:pt x="16801" y="6306"/>
                </a:lnTo>
                <a:lnTo>
                  <a:pt x="16801" y="6284"/>
                </a:lnTo>
                <a:lnTo>
                  <a:pt x="16801" y="6262"/>
                </a:lnTo>
                <a:lnTo>
                  <a:pt x="16801" y="6240"/>
                </a:lnTo>
                <a:lnTo>
                  <a:pt x="16801" y="6218"/>
                </a:lnTo>
                <a:lnTo>
                  <a:pt x="16801" y="6196"/>
                </a:lnTo>
                <a:lnTo>
                  <a:pt x="16801" y="6174"/>
                </a:lnTo>
                <a:lnTo>
                  <a:pt x="16801" y="6196"/>
                </a:lnTo>
                <a:lnTo>
                  <a:pt x="16801" y="6196"/>
                </a:lnTo>
              </a:path>
              <a:path w="4102" h="1633">
                <a:moveTo>
                  <a:pt x="17242" y="6504"/>
                </a:moveTo>
                <a:cubicBezTo>
                  <a:pt x="17374" y="6504"/>
                  <a:pt x="17507" y="6504"/>
                  <a:pt x="17639" y="6504"/>
                </a:cubicBezTo>
              </a:path>
              <a:path w="4102" h="1633">
                <a:moveTo>
                  <a:pt x="17264" y="6791"/>
                </a:moveTo>
                <a:cubicBezTo>
                  <a:pt x="17323" y="6791"/>
                  <a:pt x="17514" y="6813"/>
                  <a:pt x="17529" y="6769"/>
                </a:cubicBezTo>
                <a:cubicBezTo>
                  <a:pt x="17569" y="6789"/>
                  <a:pt x="17550" y="6780"/>
                  <a:pt x="17595" y="6769"/>
                </a:cubicBezTo>
              </a:path>
              <a:path w="4102" h="1633">
                <a:moveTo>
                  <a:pt x="17970" y="6615"/>
                </a:moveTo>
                <a:cubicBezTo>
                  <a:pt x="18021" y="6615"/>
                  <a:pt x="18083" y="6597"/>
                  <a:pt x="18102" y="6593"/>
                </a:cubicBezTo>
                <a:cubicBezTo>
                  <a:pt x="18263" y="6561"/>
                  <a:pt x="18477" y="6595"/>
                  <a:pt x="18631" y="6615"/>
                </a:cubicBezTo>
                <a:cubicBezTo>
                  <a:pt x="18869" y="6646"/>
                  <a:pt x="19131" y="6604"/>
                  <a:pt x="19359" y="6637"/>
                </a:cubicBezTo>
                <a:cubicBezTo>
                  <a:pt x="19540" y="6663"/>
                  <a:pt x="19732" y="6631"/>
                  <a:pt x="19910" y="6659"/>
                </a:cubicBezTo>
                <a:cubicBezTo>
                  <a:pt x="19965" y="6668"/>
                  <a:pt x="20030" y="6659"/>
                  <a:pt x="20086" y="6659"/>
                </a:cubicBezTo>
              </a:path>
              <a:path w="4102" h="1633">
                <a:moveTo>
                  <a:pt x="19050" y="5997"/>
                </a:moveTo>
                <a:cubicBezTo>
                  <a:pt x="19040" y="5968"/>
                  <a:pt x="19015" y="5971"/>
                  <a:pt x="19006" y="5953"/>
                </a:cubicBezTo>
                <a:cubicBezTo>
                  <a:pt x="19006" y="5931"/>
                  <a:pt x="19006" y="5924"/>
                  <a:pt x="18984" y="5931"/>
                </a:cubicBezTo>
                <a:cubicBezTo>
                  <a:pt x="18981" y="5932"/>
                  <a:pt x="18920" y="5950"/>
                  <a:pt x="18918" y="5953"/>
                </a:cubicBezTo>
                <a:cubicBezTo>
                  <a:pt x="18903" y="5972"/>
                  <a:pt x="18880" y="5991"/>
                  <a:pt x="18852" y="6019"/>
                </a:cubicBezTo>
                <a:cubicBezTo>
                  <a:pt x="18829" y="6042"/>
                  <a:pt x="18810" y="6100"/>
                  <a:pt x="18807" y="6130"/>
                </a:cubicBezTo>
                <a:cubicBezTo>
                  <a:pt x="18804" y="6153"/>
                  <a:pt x="18816" y="6209"/>
                  <a:pt x="18830" y="6218"/>
                </a:cubicBezTo>
                <a:cubicBezTo>
                  <a:pt x="18848" y="6230"/>
                  <a:pt x="18865" y="6270"/>
                  <a:pt x="18896" y="6284"/>
                </a:cubicBezTo>
                <a:cubicBezTo>
                  <a:pt x="18920" y="6295"/>
                  <a:pt x="18925" y="6320"/>
                  <a:pt x="18940" y="6328"/>
                </a:cubicBezTo>
                <a:cubicBezTo>
                  <a:pt x="18962" y="6339"/>
                  <a:pt x="18999" y="6369"/>
                  <a:pt x="19006" y="6372"/>
                </a:cubicBezTo>
                <a:cubicBezTo>
                  <a:pt x="19037" y="6387"/>
                  <a:pt x="19028" y="6395"/>
                  <a:pt x="19028" y="6438"/>
                </a:cubicBezTo>
                <a:cubicBezTo>
                  <a:pt x="19028" y="6489"/>
                  <a:pt x="18977" y="6481"/>
                  <a:pt x="18962" y="6504"/>
                </a:cubicBezTo>
                <a:cubicBezTo>
                  <a:pt x="18951" y="6521"/>
                  <a:pt x="18927" y="6538"/>
                  <a:pt x="18896" y="6548"/>
                </a:cubicBezTo>
                <a:cubicBezTo>
                  <a:pt x="18867" y="6558"/>
                  <a:pt x="18834" y="6561"/>
                  <a:pt x="18807" y="6570"/>
                </a:cubicBezTo>
                <a:cubicBezTo>
                  <a:pt x="18748" y="6589"/>
                  <a:pt x="18678" y="6564"/>
                  <a:pt x="18631" y="6548"/>
                </a:cubicBezTo>
                <a:cubicBezTo>
                  <a:pt x="18609" y="6548"/>
                  <a:pt x="18602" y="6548"/>
                  <a:pt x="18609" y="6526"/>
                </a:cubicBezTo>
              </a:path>
              <a:path w="4102" h="1633">
                <a:moveTo>
                  <a:pt x="18896" y="6813"/>
                </a:moveTo>
                <a:cubicBezTo>
                  <a:pt x="18894" y="6820"/>
                  <a:pt x="18877" y="6899"/>
                  <a:pt x="18874" y="6901"/>
                </a:cubicBezTo>
                <a:cubicBezTo>
                  <a:pt x="18830" y="6936"/>
                  <a:pt x="18857" y="6938"/>
                  <a:pt x="18830" y="6989"/>
                </a:cubicBezTo>
                <a:cubicBezTo>
                  <a:pt x="18807" y="7034"/>
                  <a:pt x="18785" y="7075"/>
                  <a:pt x="18763" y="7122"/>
                </a:cubicBezTo>
                <a:cubicBezTo>
                  <a:pt x="18736" y="7179"/>
                  <a:pt x="18711" y="7214"/>
                  <a:pt x="18697" y="7276"/>
                </a:cubicBezTo>
                <a:cubicBezTo>
                  <a:pt x="18689" y="7309"/>
                  <a:pt x="18688" y="7378"/>
                  <a:pt x="18675" y="7408"/>
                </a:cubicBezTo>
                <a:cubicBezTo>
                  <a:pt x="18659" y="7447"/>
                  <a:pt x="18653" y="7472"/>
                  <a:pt x="18653" y="7519"/>
                </a:cubicBezTo>
                <a:cubicBezTo>
                  <a:pt x="18653" y="7546"/>
                  <a:pt x="18690" y="7560"/>
                  <a:pt x="18719" y="7563"/>
                </a:cubicBezTo>
                <a:cubicBezTo>
                  <a:pt x="18790" y="7571"/>
                  <a:pt x="18859" y="7561"/>
                  <a:pt x="18918" y="7541"/>
                </a:cubicBezTo>
                <a:cubicBezTo>
                  <a:pt x="18952" y="7530"/>
                  <a:pt x="18997" y="7528"/>
                  <a:pt x="19028" y="7519"/>
                </a:cubicBezTo>
                <a:cubicBezTo>
                  <a:pt x="19052" y="7512"/>
                  <a:pt x="19091" y="7519"/>
                  <a:pt x="19116" y="7519"/>
                </a:cubicBezTo>
              </a:path>
              <a:path w="4102" h="1633">
                <a:moveTo>
                  <a:pt x="18565" y="7210"/>
                </a:moveTo>
                <a:cubicBezTo>
                  <a:pt x="18603" y="7210"/>
                  <a:pt x="18641" y="7200"/>
                  <a:pt x="18675" y="7188"/>
                </a:cubicBezTo>
                <a:cubicBezTo>
                  <a:pt x="18741" y="7165"/>
                  <a:pt x="18807" y="7161"/>
                  <a:pt x="18874" y="7144"/>
                </a:cubicBezTo>
                <a:cubicBezTo>
                  <a:pt x="18941" y="7127"/>
                  <a:pt x="18943" y="7122"/>
                  <a:pt x="19006" y="7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Ink 40"/>
          <p:cNvSpPr/>
          <p:nvPr/>
        </p:nvSpPr>
        <p:spPr>
          <a:xfrm>
            <a:off x="7230960" y="2881440"/>
            <a:ext cx="1825560" cy="230040"/>
          </a:xfrm>
          <a:custGeom>
            <a:avLst/>
            <a:gdLst/>
            <a:ahLst/>
            <a:rect l="l" t="t" r="r" b="b"/>
            <a:pathLst>
              <a:path w="5072" h="640">
                <a:moveTo>
                  <a:pt x="20593" y="8467"/>
                </a:moveTo>
                <a:cubicBezTo>
                  <a:pt x="20666" y="8467"/>
                  <a:pt x="20731" y="8479"/>
                  <a:pt x="20792" y="8489"/>
                </a:cubicBezTo>
                <a:cubicBezTo>
                  <a:pt x="20822" y="8494"/>
                  <a:pt x="20858" y="8507"/>
                  <a:pt x="20880" y="8511"/>
                </a:cubicBezTo>
                <a:cubicBezTo>
                  <a:pt x="21007" y="8532"/>
                  <a:pt x="21164" y="8508"/>
                  <a:pt x="21277" y="8489"/>
                </a:cubicBezTo>
                <a:cubicBezTo>
                  <a:pt x="21434" y="8463"/>
                  <a:pt x="21614" y="8492"/>
                  <a:pt x="21762" y="8467"/>
                </a:cubicBezTo>
                <a:cubicBezTo>
                  <a:pt x="21819" y="8457"/>
                  <a:pt x="21889" y="8453"/>
                  <a:pt x="21938" y="8445"/>
                </a:cubicBezTo>
                <a:cubicBezTo>
                  <a:pt x="22003" y="8434"/>
                  <a:pt x="22081" y="8432"/>
                  <a:pt x="22137" y="8423"/>
                </a:cubicBezTo>
                <a:cubicBezTo>
                  <a:pt x="22251" y="8404"/>
                  <a:pt x="22385" y="8418"/>
                  <a:pt x="22490" y="8401"/>
                </a:cubicBezTo>
                <a:cubicBezTo>
                  <a:pt x="22555" y="8390"/>
                  <a:pt x="22632" y="8388"/>
                  <a:pt x="22688" y="8378"/>
                </a:cubicBezTo>
                <a:cubicBezTo>
                  <a:pt x="22798" y="8359"/>
                  <a:pt x="22929" y="8378"/>
                  <a:pt x="23041" y="8378"/>
                </a:cubicBezTo>
              </a:path>
              <a:path w="5072" h="640">
                <a:moveTo>
                  <a:pt x="20086" y="8533"/>
                </a:moveTo>
                <a:cubicBezTo>
                  <a:pt x="20156" y="8533"/>
                  <a:pt x="20224" y="8531"/>
                  <a:pt x="20263" y="8511"/>
                </a:cubicBezTo>
                <a:cubicBezTo>
                  <a:pt x="20291" y="8497"/>
                  <a:pt x="20363" y="8511"/>
                  <a:pt x="20395" y="8511"/>
                </a:cubicBezTo>
                <a:cubicBezTo>
                  <a:pt x="20339" y="8511"/>
                  <a:pt x="20309" y="8518"/>
                  <a:pt x="20263" y="8533"/>
                </a:cubicBezTo>
                <a:cubicBezTo>
                  <a:pt x="20237" y="8542"/>
                  <a:pt x="20086" y="8533"/>
                  <a:pt x="20130" y="8533"/>
                </a:cubicBezTo>
                <a:cubicBezTo>
                  <a:pt x="20152" y="8533"/>
                  <a:pt x="20159" y="8533"/>
                  <a:pt x="20174" y="8533"/>
                </a:cubicBezTo>
              </a:path>
              <a:path w="5072" h="640">
                <a:moveTo>
                  <a:pt x="20770" y="8202"/>
                </a:moveTo>
                <a:cubicBezTo>
                  <a:pt x="20756" y="8147"/>
                  <a:pt x="20756" y="8165"/>
                  <a:pt x="20770" y="8136"/>
                </a:cubicBezTo>
                <a:cubicBezTo>
                  <a:pt x="20788" y="8100"/>
                  <a:pt x="20755" y="8077"/>
                  <a:pt x="20814" y="8070"/>
                </a:cubicBezTo>
                <a:cubicBezTo>
                  <a:pt x="20864" y="8064"/>
                  <a:pt x="20844" y="8087"/>
                  <a:pt x="20880" y="8092"/>
                </a:cubicBezTo>
                <a:cubicBezTo>
                  <a:pt x="20916" y="8097"/>
                  <a:pt x="20896" y="8114"/>
                  <a:pt x="20946" y="8114"/>
                </a:cubicBezTo>
                <a:cubicBezTo>
                  <a:pt x="20917" y="8104"/>
                  <a:pt x="20920" y="8079"/>
                  <a:pt x="20902" y="8070"/>
                </a:cubicBezTo>
                <a:cubicBezTo>
                  <a:pt x="20859" y="8048"/>
                  <a:pt x="20805" y="8086"/>
                  <a:pt x="20792" y="8092"/>
                </a:cubicBezTo>
                <a:cubicBezTo>
                  <a:pt x="20762" y="8107"/>
                  <a:pt x="20739" y="8120"/>
                  <a:pt x="20726" y="8158"/>
                </a:cubicBezTo>
                <a:cubicBezTo>
                  <a:pt x="20715" y="8191"/>
                  <a:pt x="20704" y="8208"/>
                  <a:pt x="20704" y="8246"/>
                </a:cubicBezTo>
                <a:cubicBezTo>
                  <a:pt x="20704" y="8273"/>
                  <a:pt x="20704" y="8341"/>
                  <a:pt x="20726" y="8356"/>
                </a:cubicBezTo>
                <a:cubicBezTo>
                  <a:pt x="20743" y="8367"/>
                  <a:pt x="20763" y="8391"/>
                  <a:pt x="20792" y="8401"/>
                </a:cubicBezTo>
                <a:cubicBezTo>
                  <a:pt x="20833" y="8415"/>
                  <a:pt x="20851" y="8388"/>
                  <a:pt x="20880" y="8378"/>
                </a:cubicBezTo>
                <a:cubicBezTo>
                  <a:pt x="20913" y="8366"/>
                  <a:pt x="20926" y="8349"/>
                  <a:pt x="20946" y="8334"/>
                </a:cubicBezTo>
                <a:cubicBezTo>
                  <a:pt x="20976" y="8312"/>
                  <a:pt x="20973" y="8272"/>
                  <a:pt x="20990" y="8246"/>
                </a:cubicBezTo>
                <a:cubicBezTo>
                  <a:pt x="21013" y="8211"/>
                  <a:pt x="21012" y="8202"/>
                  <a:pt x="21012" y="8158"/>
                </a:cubicBezTo>
                <a:cubicBezTo>
                  <a:pt x="21012" y="8137"/>
                  <a:pt x="20989" y="8081"/>
                  <a:pt x="20968" y="8070"/>
                </a:cubicBezTo>
                <a:cubicBezTo>
                  <a:pt x="20936" y="8054"/>
                  <a:pt x="20909" y="8072"/>
                  <a:pt x="20902" y="8092"/>
                </a:cubicBezTo>
              </a:path>
              <a:path w="5072" h="640">
                <a:moveTo>
                  <a:pt x="21056" y="8004"/>
                </a:moveTo>
                <a:cubicBezTo>
                  <a:pt x="21067" y="8037"/>
                  <a:pt x="21078" y="8023"/>
                  <a:pt x="21078" y="8070"/>
                </a:cubicBezTo>
                <a:cubicBezTo>
                  <a:pt x="21078" y="8132"/>
                  <a:pt x="21086" y="8145"/>
                  <a:pt x="21101" y="8202"/>
                </a:cubicBezTo>
                <a:cubicBezTo>
                  <a:pt x="21119" y="8272"/>
                  <a:pt x="21119" y="8459"/>
                  <a:pt x="21078" y="8511"/>
                </a:cubicBezTo>
                <a:cubicBezTo>
                  <a:pt x="21078" y="8423"/>
                  <a:pt x="21080" y="8350"/>
                  <a:pt x="21101" y="8268"/>
                </a:cubicBezTo>
                <a:cubicBezTo>
                  <a:pt x="21109" y="8237"/>
                  <a:pt x="21106" y="8206"/>
                  <a:pt x="21123" y="8180"/>
                </a:cubicBezTo>
                <a:cubicBezTo>
                  <a:pt x="21142" y="8152"/>
                  <a:pt x="21150" y="8117"/>
                  <a:pt x="21167" y="8092"/>
                </a:cubicBezTo>
                <a:cubicBezTo>
                  <a:pt x="21190" y="8057"/>
                  <a:pt x="21201" y="8056"/>
                  <a:pt x="21211" y="8026"/>
                </a:cubicBezTo>
                <a:cubicBezTo>
                  <a:pt x="21236" y="8034"/>
                  <a:pt x="21251" y="8056"/>
                  <a:pt x="21255" y="8092"/>
                </a:cubicBezTo>
                <a:cubicBezTo>
                  <a:pt x="21265" y="8184"/>
                  <a:pt x="21247" y="8295"/>
                  <a:pt x="21277" y="8356"/>
                </a:cubicBezTo>
                <a:cubicBezTo>
                  <a:pt x="21292" y="8386"/>
                  <a:pt x="21289" y="8368"/>
                  <a:pt x="21299" y="8401"/>
                </a:cubicBezTo>
                <a:cubicBezTo>
                  <a:pt x="21306" y="8379"/>
                  <a:pt x="21327" y="8359"/>
                  <a:pt x="21343" y="8334"/>
                </a:cubicBezTo>
                <a:cubicBezTo>
                  <a:pt x="21363" y="8304"/>
                  <a:pt x="21383" y="8260"/>
                  <a:pt x="21387" y="8224"/>
                </a:cubicBezTo>
                <a:cubicBezTo>
                  <a:pt x="21393" y="8173"/>
                  <a:pt x="21432" y="8046"/>
                  <a:pt x="21409" y="8092"/>
                </a:cubicBezTo>
                <a:cubicBezTo>
                  <a:pt x="21390" y="8129"/>
                  <a:pt x="21387" y="8135"/>
                  <a:pt x="21387" y="8180"/>
                </a:cubicBezTo>
                <a:cubicBezTo>
                  <a:pt x="21387" y="8220"/>
                  <a:pt x="21365" y="8248"/>
                  <a:pt x="21365" y="8290"/>
                </a:cubicBezTo>
                <a:cubicBezTo>
                  <a:pt x="21365" y="8331"/>
                  <a:pt x="21402" y="8342"/>
                  <a:pt x="21409" y="8356"/>
                </a:cubicBezTo>
                <a:cubicBezTo>
                  <a:pt x="21413" y="8363"/>
                  <a:pt x="21453" y="8406"/>
                  <a:pt x="21475" y="8378"/>
                </a:cubicBezTo>
                <a:cubicBezTo>
                  <a:pt x="21492" y="8357"/>
                  <a:pt x="21497" y="8350"/>
                  <a:pt x="21497" y="8312"/>
                </a:cubicBezTo>
                <a:cubicBezTo>
                  <a:pt x="21497" y="8284"/>
                  <a:pt x="21490" y="8253"/>
                  <a:pt x="21475" y="8246"/>
                </a:cubicBezTo>
                <a:cubicBezTo>
                  <a:pt x="21465" y="8241"/>
                  <a:pt x="21391" y="8229"/>
                  <a:pt x="21387" y="8224"/>
                </a:cubicBezTo>
                <a:cubicBezTo>
                  <a:pt x="21387" y="8217"/>
                  <a:pt x="21387" y="8209"/>
                  <a:pt x="21387" y="8202"/>
                </a:cubicBezTo>
                <a:cubicBezTo>
                  <a:pt x="21412" y="8177"/>
                  <a:pt x="21443" y="8147"/>
                  <a:pt x="21475" y="8136"/>
                </a:cubicBezTo>
                <a:cubicBezTo>
                  <a:pt x="21483" y="8133"/>
                  <a:pt x="21561" y="8117"/>
                  <a:pt x="21564" y="8114"/>
                </a:cubicBezTo>
                <a:cubicBezTo>
                  <a:pt x="21581" y="8093"/>
                  <a:pt x="21575" y="8094"/>
                  <a:pt x="21608" y="8070"/>
                </a:cubicBezTo>
                <a:cubicBezTo>
                  <a:pt x="21601" y="8097"/>
                  <a:pt x="21578" y="8156"/>
                  <a:pt x="21564" y="8180"/>
                </a:cubicBezTo>
                <a:cubicBezTo>
                  <a:pt x="21533" y="8233"/>
                  <a:pt x="21557" y="8227"/>
                  <a:pt x="21564" y="8290"/>
                </a:cubicBezTo>
                <a:cubicBezTo>
                  <a:pt x="21569" y="8340"/>
                  <a:pt x="21614" y="8333"/>
                  <a:pt x="21630" y="8356"/>
                </a:cubicBezTo>
                <a:cubicBezTo>
                  <a:pt x="21657" y="8396"/>
                  <a:pt x="21651" y="8371"/>
                  <a:pt x="21696" y="8356"/>
                </a:cubicBezTo>
                <a:cubicBezTo>
                  <a:pt x="21728" y="8345"/>
                  <a:pt x="21750" y="8325"/>
                  <a:pt x="21762" y="8290"/>
                </a:cubicBezTo>
                <a:cubicBezTo>
                  <a:pt x="21772" y="8261"/>
                  <a:pt x="21775" y="8228"/>
                  <a:pt x="21784" y="8202"/>
                </a:cubicBezTo>
                <a:cubicBezTo>
                  <a:pt x="21799" y="8156"/>
                  <a:pt x="21774" y="8135"/>
                  <a:pt x="21806" y="8092"/>
                </a:cubicBezTo>
                <a:cubicBezTo>
                  <a:pt x="21806" y="8132"/>
                  <a:pt x="21788" y="8144"/>
                  <a:pt x="21784" y="8180"/>
                </a:cubicBezTo>
                <a:cubicBezTo>
                  <a:pt x="21777" y="8244"/>
                  <a:pt x="21792" y="8277"/>
                  <a:pt x="21806" y="8334"/>
                </a:cubicBezTo>
                <a:cubicBezTo>
                  <a:pt x="21811" y="8353"/>
                  <a:pt x="21806" y="8381"/>
                  <a:pt x="21806" y="8401"/>
                </a:cubicBezTo>
                <a:cubicBezTo>
                  <a:pt x="21806" y="8331"/>
                  <a:pt x="21808" y="8263"/>
                  <a:pt x="21828" y="8224"/>
                </a:cubicBezTo>
                <a:cubicBezTo>
                  <a:pt x="21842" y="8195"/>
                  <a:pt x="21887" y="8149"/>
                  <a:pt x="21894" y="8136"/>
                </a:cubicBezTo>
                <a:cubicBezTo>
                  <a:pt x="21908" y="8107"/>
                  <a:pt x="21897" y="8114"/>
                  <a:pt x="21938" y="8114"/>
                </a:cubicBezTo>
                <a:cubicBezTo>
                  <a:pt x="21912" y="8148"/>
                  <a:pt x="21910" y="8186"/>
                  <a:pt x="21894" y="8224"/>
                </a:cubicBezTo>
                <a:cubicBezTo>
                  <a:pt x="21878" y="8261"/>
                  <a:pt x="21854" y="8298"/>
                  <a:pt x="21850" y="8334"/>
                </a:cubicBezTo>
                <a:cubicBezTo>
                  <a:pt x="21850" y="8356"/>
                  <a:pt x="21850" y="8363"/>
                  <a:pt x="21850" y="8378"/>
                </a:cubicBezTo>
                <a:cubicBezTo>
                  <a:pt x="21895" y="8378"/>
                  <a:pt x="21897" y="8365"/>
                  <a:pt x="21916" y="8356"/>
                </a:cubicBezTo>
                <a:cubicBezTo>
                  <a:pt x="21938" y="8345"/>
                  <a:pt x="21966" y="8336"/>
                  <a:pt x="21982" y="8334"/>
                </a:cubicBezTo>
                <a:cubicBezTo>
                  <a:pt x="21990" y="8334"/>
                  <a:pt x="21997" y="8334"/>
                  <a:pt x="22005" y="8334"/>
                </a:cubicBezTo>
              </a:path>
              <a:path w="5072" h="640">
                <a:moveTo>
                  <a:pt x="22203" y="8136"/>
                </a:moveTo>
                <a:cubicBezTo>
                  <a:pt x="22248" y="8121"/>
                  <a:pt x="22199" y="8094"/>
                  <a:pt x="22247" y="8070"/>
                </a:cubicBezTo>
                <a:cubicBezTo>
                  <a:pt x="22276" y="8056"/>
                  <a:pt x="22269" y="8048"/>
                  <a:pt x="22313" y="8048"/>
                </a:cubicBezTo>
                <a:cubicBezTo>
                  <a:pt x="22345" y="8048"/>
                  <a:pt x="22377" y="8054"/>
                  <a:pt x="22401" y="8070"/>
                </a:cubicBezTo>
                <a:cubicBezTo>
                  <a:pt x="22433" y="8091"/>
                  <a:pt x="22459" y="8125"/>
                  <a:pt x="22468" y="8158"/>
                </a:cubicBezTo>
                <a:cubicBezTo>
                  <a:pt x="22468" y="8129"/>
                  <a:pt x="22460" y="8100"/>
                  <a:pt x="22445" y="8092"/>
                </a:cubicBezTo>
                <a:cubicBezTo>
                  <a:pt x="22423" y="8081"/>
                  <a:pt x="22415" y="8055"/>
                  <a:pt x="22401" y="8048"/>
                </a:cubicBezTo>
                <a:cubicBezTo>
                  <a:pt x="22366" y="8030"/>
                  <a:pt x="22337" y="8062"/>
                  <a:pt x="22313" y="8070"/>
                </a:cubicBezTo>
                <a:cubicBezTo>
                  <a:pt x="22284" y="8080"/>
                  <a:pt x="22254" y="8102"/>
                  <a:pt x="22247" y="8136"/>
                </a:cubicBezTo>
                <a:cubicBezTo>
                  <a:pt x="22237" y="8185"/>
                  <a:pt x="22240" y="8216"/>
                  <a:pt x="22247" y="8246"/>
                </a:cubicBezTo>
                <a:cubicBezTo>
                  <a:pt x="22257" y="8292"/>
                  <a:pt x="22253" y="8296"/>
                  <a:pt x="22291" y="8334"/>
                </a:cubicBezTo>
                <a:cubicBezTo>
                  <a:pt x="22320" y="8363"/>
                  <a:pt x="22340" y="8356"/>
                  <a:pt x="22379" y="8356"/>
                </a:cubicBezTo>
                <a:cubicBezTo>
                  <a:pt x="22401" y="8356"/>
                  <a:pt x="22422" y="8332"/>
                  <a:pt x="22445" y="8312"/>
                </a:cubicBezTo>
                <a:cubicBezTo>
                  <a:pt x="22487" y="8276"/>
                  <a:pt x="22470" y="8260"/>
                  <a:pt x="22490" y="8224"/>
                </a:cubicBezTo>
                <a:cubicBezTo>
                  <a:pt x="22510" y="8187"/>
                  <a:pt x="22512" y="8181"/>
                  <a:pt x="22512" y="8136"/>
                </a:cubicBezTo>
                <a:cubicBezTo>
                  <a:pt x="22512" y="8114"/>
                  <a:pt x="22512" y="8107"/>
                  <a:pt x="22512" y="8092"/>
                </a:cubicBezTo>
                <a:cubicBezTo>
                  <a:pt x="22545" y="8103"/>
                  <a:pt x="22534" y="8118"/>
                  <a:pt x="22534" y="8158"/>
                </a:cubicBezTo>
                <a:cubicBezTo>
                  <a:pt x="22534" y="8215"/>
                  <a:pt x="22518" y="8292"/>
                  <a:pt x="22556" y="8334"/>
                </a:cubicBezTo>
                <a:cubicBezTo>
                  <a:pt x="22566" y="8345"/>
                  <a:pt x="22627" y="8377"/>
                  <a:pt x="22644" y="8356"/>
                </a:cubicBezTo>
                <a:cubicBezTo>
                  <a:pt x="22658" y="8339"/>
                  <a:pt x="22672" y="8314"/>
                  <a:pt x="22688" y="8290"/>
                </a:cubicBezTo>
                <a:cubicBezTo>
                  <a:pt x="22708" y="8260"/>
                  <a:pt x="22737" y="8227"/>
                  <a:pt x="22754" y="8202"/>
                </a:cubicBezTo>
                <a:cubicBezTo>
                  <a:pt x="22777" y="8167"/>
                  <a:pt x="22776" y="8158"/>
                  <a:pt x="22776" y="8114"/>
                </a:cubicBezTo>
                <a:cubicBezTo>
                  <a:pt x="22776" y="8107"/>
                  <a:pt x="22776" y="8033"/>
                  <a:pt x="22776" y="8092"/>
                </a:cubicBezTo>
                <a:cubicBezTo>
                  <a:pt x="22776" y="8154"/>
                  <a:pt x="22781" y="8194"/>
                  <a:pt x="22798" y="8246"/>
                </a:cubicBezTo>
                <a:cubicBezTo>
                  <a:pt x="22807" y="8273"/>
                  <a:pt x="22800" y="8302"/>
                  <a:pt x="22820" y="8312"/>
                </a:cubicBezTo>
                <a:cubicBezTo>
                  <a:pt x="22842" y="8312"/>
                  <a:pt x="22849" y="8312"/>
                  <a:pt x="22842" y="8334"/>
                </a:cubicBezTo>
                <a:cubicBezTo>
                  <a:pt x="22874" y="8326"/>
                  <a:pt x="22905" y="8319"/>
                  <a:pt x="22909" y="8290"/>
                </a:cubicBezTo>
                <a:cubicBezTo>
                  <a:pt x="22914" y="8254"/>
                  <a:pt x="22931" y="8274"/>
                  <a:pt x="22931" y="8224"/>
                </a:cubicBezTo>
                <a:cubicBezTo>
                  <a:pt x="22931" y="8195"/>
                  <a:pt x="22931" y="8165"/>
                  <a:pt x="22931" y="8136"/>
                </a:cubicBezTo>
                <a:cubicBezTo>
                  <a:pt x="22931" y="8077"/>
                  <a:pt x="22931" y="8170"/>
                  <a:pt x="22931" y="8180"/>
                </a:cubicBezTo>
                <a:cubicBezTo>
                  <a:pt x="22931" y="8235"/>
                  <a:pt x="22940" y="8260"/>
                  <a:pt x="22953" y="8312"/>
                </a:cubicBezTo>
                <a:cubicBezTo>
                  <a:pt x="22969" y="8376"/>
                  <a:pt x="22953" y="8466"/>
                  <a:pt x="22953" y="8533"/>
                </a:cubicBezTo>
                <a:cubicBezTo>
                  <a:pt x="22903" y="8533"/>
                  <a:pt x="22886" y="8522"/>
                  <a:pt x="22864" y="8511"/>
                </a:cubicBezTo>
                <a:cubicBezTo>
                  <a:pt x="22852" y="8505"/>
                  <a:pt x="22806" y="8477"/>
                  <a:pt x="22820" y="8445"/>
                </a:cubicBezTo>
                <a:cubicBezTo>
                  <a:pt x="22828" y="8427"/>
                  <a:pt x="22852" y="8342"/>
                  <a:pt x="22864" y="8334"/>
                </a:cubicBezTo>
                <a:cubicBezTo>
                  <a:pt x="22871" y="8334"/>
                  <a:pt x="22879" y="8334"/>
                  <a:pt x="22886" y="8334"/>
                </a:cubicBezTo>
              </a:path>
              <a:path w="5072" h="640">
                <a:moveTo>
                  <a:pt x="23019" y="8114"/>
                </a:moveTo>
                <a:cubicBezTo>
                  <a:pt x="23019" y="8200"/>
                  <a:pt x="23014" y="8303"/>
                  <a:pt x="23041" y="8356"/>
                </a:cubicBezTo>
                <a:cubicBezTo>
                  <a:pt x="23041" y="8378"/>
                  <a:pt x="23041" y="8385"/>
                  <a:pt x="23063" y="8378"/>
                </a:cubicBezTo>
                <a:cubicBezTo>
                  <a:pt x="23073" y="8347"/>
                  <a:pt x="23102" y="8357"/>
                  <a:pt x="23107" y="8312"/>
                </a:cubicBezTo>
                <a:cubicBezTo>
                  <a:pt x="23111" y="8275"/>
                  <a:pt x="23100" y="8265"/>
                  <a:pt x="23085" y="8246"/>
                </a:cubicBezTo>
                <a:cubicBezTo>
                  <a:pt x="23065" y="8226"/>
                  <a:pt x="23058" y="8222"/>
                  <a:pt x="23063" y="8202"/>
                </a:cubicBezTo>
                <a:cubicBezTo>
                  <a:pt x="23103" y="8202"/>
                  <a:pt x="23115" y="8184"/>
                  <a:pt x="23151" y="8180"/>
                </a:cubicBezTo>
                <a:cubicBezTo>
                  <a:pt x="23172" y="8178"/>
                  <a:pt x="23196" y="8180"/>
                  <a:pt x="23217" y="8180"/>
                </a:cubicBezTo>
                <a:cubicBezTo>
                  <a:pt x="23217" y="8220"/>
                  <a:pt x="23199" y="8232"/>
                  <a:pt x="23195" y="8268"/>
                </a:cubicBezTo>
                <a:cubicBezTo>
                  <a:pt x="23192" y="8296"/>
                  <a:pt x="23195" y="8327"/>
                  <a:pt x="23195" y="8356"/>
                </a:cubicBezTo>
                <a:cubicBezTo>
                  <a:pt x="23240" y="8356"/>
                  <a:pt x="23247" y="8346"/>
                  <a:pt x="23283" y="8334"/>
                </a:cubicBezTo>
                <a:cubicBezTo>
                  <a:pt x="23307" y="8326"/>
                  <a:pt x="23324" y="8318"/>
                  <a:pt x="23327" y="8290"/>
                </a:cubicBezTo>
                <a:cubicBezTo>
                  <a:pt x="23332" y="8254"/>
                  <a:pt x="23349" y="8274"/>
                  <a:pt x="23349" y="8224"/>
                </a:cubicBezTo>
                <a:cubicBezTo>
                  <a:pt x="23349" y="8203"/>
                  <a:pt x="23373" y="8146"/>
                  <a:pt x="23394" y="8136"/>
                </a:cubicBezTo>
                <a:cubicBezTo>
                  <a:pt x="23417" y="8124"/>
                  <a:pt x="23478" y="8136"/>
                  <a:pt x="23504" y="8136"/>
                </a:cubicBezTo>
                <a:cubicBezTo>
                  <a:pt x="23469" y="8162"/>
                  <a:pt x="23448" y="8140"/>
                  <a:pt x="23416" y="8158"/>
                </a:cubicBezTo>
                <a:cubicBezTo>
                  <a:pt x="23386" y="8174"/>
                  <a:pt x="23353" y="8216"/>
                  <a:pt x="23349" y="8246"/>
                </a:cubicBezTo>
                <a:cubicBezTo>
                  <a:pt x="23343" y="8297"/>
                  <a:pt x="23344" y="8336"/>
                  <a:pt x="23372" y="8356"/>
                </a:cubicBezTo>
                <a:cubicBezTo>
                  <a:pt x="23406" y="8381"/>
                  <a:pt x="23417" y="8378"/>
                  <a:pt x="23460" y="8378"/>
                </a:cubicBezTo>
                <a:cubicBezTo>
                  <a:pt x="23493" y="8378"/>
                  <a:pt x="23582" y="8369"/>
                  <a:pt x="23614" y="8356"/>
                </a:cubicBezTo>
                <a:cubicBezTo>
                  <a:pt x="23629" y="8350"/>
                  <a:pt x="23679" y="8315"/>
                  <a:pt x="23680" y="8312"/>
                </a:cubicBezTo>
                <a:cubicBezTo>
                  <a:pt x="23680" y="8305"/>
                  <a:pt x="23680" y="8297"/>
                  <a:pt x="23680" y="8290"/>
                </a:cubicBezTo>
              </a:path>
              <a:path w="5072" h="640">
                <a:moveTo>
                  <a:pt x="23658" y="8070"/>
                </a:moveTo>
                <a:cubicBezTo>
                  <a:pt x="23669" y="8088"/>
                  <a:pt x="23668" y="8101"/>
                  <a:pt x="23680" y="8136"/>
                </a:cubicBezTo>
                <a:cubicBezTo>
                  <a:pt x="23694" y="8175"/>
                  <a:pt x="23700" y="8200"/>
                  <a:pt x="23702" y="8246"/>
                </a:cubicBezTo>
                <a:cubicBezTo>
                  <a:pt x="23705" y="8312"/>
                  <a:pt x="23702" y="8379"/>
                  <a:pt x="23702" y="8445"/>
                </a:cubicBezTo>
                <a:cubicBezTo>
                  <a:pt x="23702" y="8394"/>
                  <a:pt x="23717" y="8351"/>
                  <a:pt x="23724" y="8312"/>
                </a:cubicBezTo>
                <a:cubicBezTo>
                  <a:pt x="23731" y="8268"/>
                  <a:pt x="23740" y="8240"/>
                  <a:pt x="23746" y="8202"/>
                </a:cubicBezTo>
                <a:cubicBezTo>
                  <a:pt x="23747" y="8193"/>
                  <a:pt x="23760" y="8120"/>
                  <a:pt x="23768" y="8114"/>
                </a:cubicBezTo>
                <a:cubicBezTo>
                  <a:pt x="23790" y="8114"/>
                  <a:pt x="23797" y="8114"/>
                  <a:pt x="23812" y="8114"/>
                </a:cubicBezTo>
                <a:cubicBezTo>
                  <a:pt x="23833" y="8147"/>
                  <a:pt x="23851" y="8185"/>
                  <a:pt x="23857" y="8224"/>
                </a:cubicBezTo>
                <a:cubicBezTo>
                  <a:pt x="23862" y="8254"/>
                  <a:pt x="23824" y="8295"/>
                  <a:pt x="23835" y="8312"/>
                </a:cubicBezTo>
                <a:cubicBezTo>
                  <a:pt x="23835" y="8290"/>
                  <a:pt x="23835" y="8283"/>
                  <a:pt x="23857" y="8290"/>
                </a:cubicBezTo>
                <a:cubicBezTo>
                  <a:pt x="23857" y="8239"/>
                  <a:pt x="23861" y="8221"/>
                  <a:pt x="23879" y="8180"/>
                </a:cubicBezTo>
                <a:cubicBezTo>
                  <a:pt x="23895" y="8143"/>
                  <a:pt x="23894" y="8130"/>
                  <a:pt x="23923" y="8114"/>
                </a:cubicBezTo>
                <a:cubicBezTo>
                  <a:pt x="23930" y="8114"/>
                  <a:pt x="23938" y="8114"/>
                  <a:pt x="23945" y="8114"/>
                </a:cubicBezTo>
                <a:cubicBezTo>
                  <a:pt x="23963" y="8149"/>
                  <a:pt x="23982" y="8184"/>
                  <a:pt x="23989" y="8224"/>
                </a:cubicBezTo>
                <a:cubicBezTo>
                  <a:pt x="24000" y="8291"/>
                  <a:pt x="23991" y="8361"/>
                  <a:pt x="24011" y="8401"/>
                </a:cubicBezTo>
                <a:cubicBezTo>
                  <a:pt x="24028" y="8434"/>
                  <a:pt x="24028" y="8454"/>
                  <a:pt x="24077" y="8445"/>
                </a:cubicBezTo>
                <a:cubicBezTo>
                  <a:pt x="24127" y="8436"/>
                  <a:pt x="24119" y="8405"/>
                  <a:pt x="24143" y="8378"/>
                </a:cubicBezTo>
                <a:cubicBezTo>
                  <a:pt x="24171" y="8346"/>
                  <a:pt x="24191" y="8322"/>
                  <a:pt x="24209" y="8290"/>
                </a:cubicBezTo>
                <a:cubicBezTo>
                  <a:pt x="24230" y="8252"/>
                  <a:pt x="24236" y="8214"/>
                  <a:pt x="24253" y="8180"/>
                </a:cubicBezTo>
                <a:cubicBezTo>
                  <a:pt x="24268" y="8150"/>
                  <a:pt x="24273" y="8128"/>
                  <a:pt x="24276" y="8092"/>
                </a:cubicBezTo>
                <a:cubicBezTo>
                  <a:pt x="24276" y="8085"/>
                  <a:pt x="24276" y="8077"/>
                  <a:pt x="24276" y="8070"/>
                </a:cubicBezTo>
                <a:cubicBezTo>
                  <a:pt x="24262" y="8106"/>
                  <a:pt x="24265" y="8141"/>
                  <a:pt x="24253" y="8180"/>
                </a:cubicBezTo>
                <a:cubicBezTo>
                  <a:pt x="24235" y="8239"/>
                  <a:pt x="24247" y="8212"/>
                  <a:pt x="24253" y="8268"/>
                </a:cubicBezTo>
                <a:cubicBezTo>
                  <a:pt x="24258" y="8313"/>
                  <a:pt x="24261" y="8346"/>
                  <a:pt x="24298" y="8356"/>
                </a:cubicBezTo>
                <a:cubicBezTo>
                  <a:pt x="24320" y="8356"/>
                  <a:pt x="24327" y="8356"/>
                  <a:pt x="24342" y="8356"/>
                </a:cubicBezTo>
                <a:cubicBezTo>
                  <a:pt x="24327" y="8341"/>
                  <a:pt x="24313" y="8327"/>
                  <a:pt x="24298" y="8312"/>
                </a:cubicBezTo>
                <a:cubicBezTo>
                  <a:pt x="24272" y="8286"/>
                  <a:pt x="24245" y="8260"/>
                  <a:pt x="24231" y="8246"/>
                </a:cubicBezTo>
                <a:cubicBezTo>
                  <a:pt x="24209" y="8246"/>
                  <a:pt x="24202" y="8246"/>
                  <a:pt x="24209" y="8224"/>
                </a:cubicBezTo>
                <a:cubicBezTo>
                  <a:pt x="24225" y="8212"/>
                  <a:pt x="24244" y="8197"/>
                  <a:pt x="24276" y="8180"/>
                </a:cubicBezTo>
                <a:cubicBezTo>
                  <a:pt x="24294" y="8171"/>
                  <a:pt x="24345" y="8140"/>
                  <a:pt x="24364" y="8136"/>
                </a:cubicBezTo>
                <a:cubicBezTo>
                  <a:pt x="24412" y="8125"/>
                  <a:pt x="24409" y="8118"/>
                  <a:pt x="24452" y="8092"/>
                </a:cubicBezTo>
                <a:cubicBezTo>
                  <a:pt x="24504" y="8060"/>
                  <a:pt x="24483" y="8074"/>
                  <a:pt x="24474" y="8092"/>
                </a:cubicBezTo>
                <a:cubicBezTo>
                  <a:pt x="24459" y="8122"/>
                  <a:pt x="24461" y="8147"/>
                  <a:pt x="24452" y="8180"/>
                </a:cubicBezTo>
                <a:cubicBezTo>
                  <a:pt x="24444" y="8212"/>
                  <a:pt x="24418" y="8247"/>
                  <a:pt x="24430" y="8290"/>
                </a:cubicBezTo>
                <a:cubicBezTo>
                  <a:pt x="24439" y="8321"/>
                  <a:pt x="24461" y="8368"/>
                  <a:pt x="24474" y="8378"/>
                </a:cubicBezTo>
                <a:cubicBezTo>
                  <a:pt x="24489" y="8390"/>
                  <a:pt x="24536" y="8410"/>
                  <a:pt x="24562" y="8401"/>
                </a:cubicBezTo>
                <a:cubicBezTo>
                  <a:pt x="24596" y="8389"/>
                  <a:pt x="24611" y="8365"/>
                  <a:pt x="24628" y="8334"/>
                </a:cubicBezTo>
                <a:cubicBezTo>
                  <a:pt x="24645" y="8302"/>
                  <a:pt x="24641" y="8259"/>
                  <a:pt x="24650" y="8224"/>
                </a:cubicBezTo>
                <a:cubicBezTo>
                  <a:pt x="24665" y="8167"/>
                  <a:pt x="24659" y="8165"/>
                  <a:pt x="24650" y="8114"/>
                </a:cubicBezTo>
                <a:cubicBezTo>
                  <a:pt x="24642" y="8065"/>
                  <a:pt x="24660" y="8046"/>
                  <a:pt x="24672" y="8026"/>
                </a:cubicBezTo>
                <a:cubicBezTo>
                  <a:pt x="24668" y="8059"/>
                  <a:pt x="24654" y="8090"/>
                  <a:pt x="24650" y="8114"/>
                </a:cubicBezTo>
                <a:cubicBezTo>
                  <a:pt x="24638" y="8185"/>
                  <a:pt x="24664" y="8247"/>
                  <a:pt x="24672" y="8312"/>
                </a:cubicBezTo>
                <a:cubicBezTo>
                  <a:pt x="24683" y="8397"/>
                  <a:pt x="24660" y="8483"/>
                  <a:pt x="24650" y="8555"/>
                </a:cubicBezTo>
                <a:cubicBezTo>
                  <a:pt x="24647" y="8573"/>
                  <a:pt x="24623" y="8635"/>
                  <a:pt x="24628" y="8643"/>
                </a:cubicBezTo>
                <a:cubicBezTo>
                  <a:pt x="24635" y="8636"/>
                  <a:pt x="24643" y="8628"/>
                  <a:pt x="24650" y="8621"/>
                </a:cubicBezTo>
                <a:cubicBezTo>
                  <a:pt x="24650" y="8575"/>
                  <a:pt x="24666" y="8546"/>
                  <a:pt x="24672" y="8511"/>
                </a:cubicBezTo>
                <a:cubicBezTo>
                  <a:pt x="24684" y="8439"/>
                  <a:pt x="24671" y="8382"/>
                  <a:pt x="24694" y="8312"/>
                </a:cubicBezTo>
                <a:cubicBezTo>
                  <a:pt x="24706" y="8277"/>
                  <a:pt x="24702" y="8212"/>
                  <a:pt x="24716" y="8180"/>
                </a:cubicBezTo>
                <a:cubicBezTo>
                  <a:pt x="24726" y="8158"/>
                  <a:pt x="24748" y="8110"/>
                  <a:pt x="24761" y="8092"/>
                </a:cubicBezTo>
                <a:cubicBezTo>
                  <a:pt x="24779" y="8065"/>
                  <a:pt x="24774" y="8078"/>
                  <a:pt x="24805" y="8070"/>
                </a:cubicBezTo>
                <a:cubicBezTo>
                  <a:pt x="24805" y="8140"/>
                  <a:pt x="24794" y="8211"/>
                  <a:pt x="24827" y="8268"/>
                </a:cubicBezTo>
                <a:cubicBezTo>
                  <a:pt x="24845" y="8299"/>
                  <a:pt x="24849" y="8287"/>
                  <a:pt x="24893" y="8290"/>
                </a:cubicBezTo>
                <a:cubicBezTo>
                  <a:pt x="24930" y="8292"/>
                  <a:pt x="24947" y="8284"/>
                  <a:pt x="24959" y="8246"/>
                </a:cubicBezTo>
                <a:cubicBezTo>
                  <a:pt x="24968" y="8217"/>
                  <a:pt x="24976" y="8186"/>
                  <a:pt x="24981" y="8158"/>
                </a:cubicBezTo>
                <a:cubicBezTo>
                  <a:pt x="24988" y="8115"/>
                  <a:pt x="24981" y="8114"/>
                  <a:pt x="24981" y="8070"/>
                </a:cubicBezTo>
                <a:cubicBezTo>
                  <a:pt x="24968" y="8091"/>
                  <a:pt x="24962" y="8090"/>
                  <a:pt x="24959" y="8136"/>
                </a:cubicBezTo>
                <a:cubicBezTo>
                  <a:pt x="24956" y="8184"/>
                  <a:pt x="24958" y="8208"/>
                  <a:pt x="24981" y="8246"/>
                </a:cubicBezTo>
                <a:cubicBezTo>
                  <a:pt x="24997" y="8271"/>
                  <a:pt x="24993" y="8281"/>
                  <a:pt x="25025" y="8290"/>
                </a:cubicBezTo>
                <a:cubicBezTo>
                  <a:pt x="25049" y="8297"/>
                  <a:pt x="25101" y="8280"/>
                  <a:pt x="25113" y="8268"/>
                </a:cubicBezTo>
                <a:cubicBezTo>
                  <a:pt x="25137" y="8244"/>
                  <a:pt x="25153" y="8195"/>
                  <a:pt x="25157" y="8158"/>
                </a:cubicBezTo>
                <a:cubicBezTo>
                  <a:pt x="25162" y="8111"/>
                  <a:pt x="25146" y="8111"/>
                  <a:pt x="25135" y="8092"/>
                </a:cubicBezTo>
                <a:cubicBezTo>
                  <a:pt x="25135" y="8121"/>
                  <a:pt x="25144" y="8108"/>
                  <a:pt x="25135" y="8136"/>
                </a:cubicBezTo>
                <a:cubicBezTo>
                  <a:pt x="25119" y="8188"/>
                  <a:pt x="25100" y="8231"/>
                  <a:pt x="25113" y="8290"/>
                </a:cubicBezTo>
                <a:cubicBezTo>
                  <a:pt x="25123" y="8337"/>
                  <a:pt x="25133" y="8373"/>
                  <a:pt x="25135" y="8423"/>
                </a:cubicBezTo>
                <a:cubicBezTo>
                  <a:pt x="25137" y="8474"/>
                  <a:pt x="25147" y="8536"/>
                  <a:pt x="25113" y="8555"/>
                </a:cubicBezTo>
                <a:cubicBezTo>
                  <a:pt x="25071" y="8579"/>
                  <a:pt x="25032" y="8597"/>
                  <a:pt x="24981" y="8599"/>
                </a:cubicBezTo>
                <a:cubicBezTo>
                  <a:pt x="24924" y="8601"/>
                  <a:pt x="24893" y="8602"/>
                  <a:pt x="24849" y="8577"/>
                </a:cubicBezTo>
                <a:cubicBezTo>
                  <a:pt x="24842" y="8570"/>
                  <a:pt x="24834" y="8562"/>
                  <a:pt x="24827" y="8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Ink 41"/>
          <p:cNvSpPr/>
          <p:nvPr/>
        </p:nvSpPr>
        <p:spPr>
          <a:xfrm>
            <a:off x="5746680" y="2921040"/>
            <a:ext cx="1571760" cy="372960"/>
          </a:xfrm>
          <a:custGeom>
            <a:avLst/>
            <a:gdLst/>
            <a:ahLst/>
            <a:rect l="l" t="t" r="r" b="b"/>
            <a:pathLst>
              <a:path w="4367" h="1037">
                <a:moveTo>
                  <a:pt x="16007" y="8378"/>
                </a:moveTo>
                <a:cubicBezTo>
                  <a:pt x="15974" y="8367"/>
                  <a:pt x="15985" y="8352"/>
                  <a:pt x="15985" y="8312"/>
                </a:cubicBezTo>
                <a:cubicBezTo>
                  <a:pt x="15985" y="8267"/>
                  <a:pt x="15995" y="8260"/>
                  <a:pt x="16007" y="8224"/>
                </a:cubicBezTo>
                <a:cubicBezTo>
                  <a:pt x="16021" y="8183"/>
                  <a:pt x="15996" y="8173"/>
                  <a:pt x="16029" y="8136"/>
                </a:cubicBezTo>
                <a:cubicBezTo>
                  <a:pt x="16036" y="8129"/>
                  <a:pt x="16044" y="8121"/>
                  <a:pt x="16051" y="8114"/>
                </a:cubicBezTo>
                <a:cubicBezTo>
                  <a:pt x="16080" y="8124"/>
                  <a:pt x="16078" y="8150"/>
                  <a:pt x="16095" y="8158"/>
                </a:cubicBezTo>
                <a:cubicBezTo>
                  <a:pt x="16119" y="8170"/>
                  <a:pt x="16136" y="8171"/>
                  <a:pt x="16140" y="8202"/>
                </a:cubicBezTo>
                <a:cubicBezTo>
                  <a:pt x="16144" y="8236"/>
                  <a:pt x="16170" y="8227"/>
                  <a:pt x="16184" y="8268"/>
                </a:cubicBezTo>
                <a:cubicBezTo>
                  <a:pt x="16193" y="8295"/>
                  <a:pt x="16203" y="8330"/>
                  <a:pt x="16206" y="8356"/>
                </a:cubicBezTo>
                <a:cubicBezTo>
                  <a:pt x="16212" y="8410"/>
                  <a:pt x="16213" y="8443"/>
                  <a:pt x="16228" y="8489"/>
                </a:cubicBezTo>
                <a:cubicBezTo>
                  <a:pt x="16241" y="8527"/>
                  <a:pt x="16210" y="8544"/>
                  <a:pt x="16206" y="8577"/>
                </a:cubicBezTo>
                <a:cubicBezTo>
                  <a:pt x="16198" y="8651"/>
                  <a:pt x="16205" y="8711"/>
                  <a:pt x="16184" y="8775"/>
                </a:cubicBezTo>
                <a:cubicBezTo>
                  <a:pt x="16175" y="8802"/>
                  <a:pt x="16165" y="8837"/>
                  <a:pt x="16162" y="8864"/>
                </a:cubicBezTo>
                <a:cubicBezTo>
                  <a:pt x="16159" y="8887"/>
                  <a:pt x="16141" y="8924"/>
                  <a:pt x="16118" y="8952"/>
                </a:cubicBezTo>
                <a:cubicBezTo>
                  <a:pt x="16093" y="8983"/>
                  <a:pt x="16065" y="8974"/>
                  <a:pt x="16029" y="8974"/>
                </a:cubicBezTo>
                <a:cubicBezTo>
                  <a:pt x="15992" y="8974"/>
                  <a:pt x="15988" y="8921"/>
                  <a:pt x="15985" y="8886"/>
                </a:cubicBezTo>
                <a:cubicBezTo>
                  <a:pt x="15982" y="8847"/>
                  <a:pt x="15967" y="8832"/>
                  <a:pt x="15963" y="8797"/>
                </a:cubicBezTo>
                <a:cubicBezTo>
                  <a:pt x="15959" y="8762"/>
                  <a:pt x="15981" y="8775"/>
                  <a:pt x="16007" y="8775"/>
                </a:cubicBezTo>
              </a:path>
              <a:path w="4367" h="1037">
                <a:moveTo>
                  <a:pt x="16250" y="8621"/>
                </a:moveTo>
                <a:cubicBezTo>
                  <a:pt x="16264" y="8592"/>
                  <a:pt x="16249" y="8600"/>
                  <a:pt x="16272" y="8577"/>
                </a:cubicBezTo>
                <a:cubicBezTo>
                  <a:pt x="16287" y="8562"/>
                  <a:pt x="16298" y="8539"/>
                  <a:pt x="16316" y="8511"/>
                </a:cubicBezTo>
                <a:cubicBezTo>
                  <a:pt x="16332" y="8486"/>
                  <a:pt x="16325" y="8448"/>
                  <a:pt x="16338" y="8423"/>
                </a:cubicBezTo>
                <a:cubicBezTo>
                  <a:pt x="16352" y="8395"/>
                  <a:pt x="16376" y="8342"/>
                  <a:pt x="16382" y="8312"/>
                </a:cubicBezTo>
                <a:cubicBezTo>
                  <a:pt x="16389" y="8275"/>
                  <a:pt x="16377" y="8274"/>
                  <a:pt x="16360" y="8246"/>
                </a:cubicBezTo>
                <a:cubicBezTo>
                  <a:pt x="16360" y="8283"/>
                  <a:pt x="16360" y="8275"/>
                  <a:pt x="16360" y="8312"/>
                </a:cubicBezTo>
                <a:cubicBezTo>
                  <a:pt x="16360" y="8385"/>
                  <a:pt x="16329" y="8515"/>
                  <a:pt x="16338" y="8577"/>
                </a:cubicBezTo>
                <a:cubicBezTo>
                  <a:pt x="16341" y="8597"/>
                  <a:pt x="16351" y="8683"/>
                  <a:pt x="16360" y="8709"/>
                </a:cubicBezTo>
                <a:cubicBezTo>
                  <a:pt x="16368" y="8733"/>
                  <a:pt x="16368" y="8746"/>
                  <a:pt x="16382" y="8775"/>
                </a:cubicBezTo>
                <a:cubicBezTo>
                  <a:pt x="16389" y="8782"/>
                  <a:pt x="16397" y="8790"/>
                  <a:pt x="16404" y="8797"/>
                </a:cubicBezTo>
                <a:cubicBezTo>
                  <a:pt x="16421" y="8769"/>
                  <a:pt x="16440" y="8762"/>
                  <a:pt x="16448" y="8731"/>
                </a:cubicBezTo>
                <a:cubicBezTo>
                  <a:pt x="16457" y="8695"/>
                  <a:pt x="16457" y="8656"/>
                  <a:pt x="16470" y="8621"/>
                </a:cubicBezTo>
                <a:cubicBezTo>
                  <a:pt x="16488" y="8573"/>
                  <a:pt x="16492" y="8531"/>
                  <a:pt x="16514" y="8489"/>
                </a:cubicBezTo>
                <a:cubicBezTo>
                  <a:pt x="16540" y="8441"/>
                  <a:pt x="16547" y="8401"/>
                  <a:pt x="16581" y="8356"/>
                </a:cubicBezTo>
                <a:cubicBezTo>
                  <a:pt x="16588" y="8347"/>
                  <a:pt x="16614" y="8299"/>
                  <a:pt x="16625" y="8290"/>
                </a:cubicBezTo>
                <a:cubicBezTo>
                  <a:pt x="16632" y="8290"/>
                  <a:pt x="16640" y="8290"/>
                  <a:pt x="16647" y="8290"/>
                </a:cubicBezTo>
                <a:cubicBezTo>
                  <a:pt x="16633" y="8304"/>
                  <a:pt x="16619" y="8335"/>
                  <a:pt x="16603" y="8356"/>
                </a:cubicBezTo>
                <a:cubicBezTo>
                  <a:pt x="16596" y="8366"/>
                  <a:pt x="16572" y="8405"/>
                  <a:pt x="16559" y="8423"/>
                </a:cubicBezTo>
                <a:cubicBezTo>
                  <a:pt x="16530" y="8461"/>
                  <a:pt x="16517" y="8482"/>
                  <a:pt x="16514" y="8533"/>
                </a:cubicBezTo>
                <a:cubicBezTo>
                  <a:pt x="16511" y="8586"/>
                  <a:pt x="16528" y="8625"/>
                  <a:pt x="16536" y="8665"/>
                </a:cubicBezTo>
                <a:cubicBezTo>
                  <a:pt x="16546" y="8719"/>
                  <a:pt x="16547" y="8700"/>
                  <a:pt x="16581" y="8731"/>
                </a:cubicBezTo>
                <a:cubicBezTo>
                  <a:pt x="16604" y="8752"/>
                  <a:pt x="16635" y="8763"/>
                  <a:pt x="16669" y="8753"/>
                </a:cubicBezTo>
                <a:cubicBezTo>
                  <a:pt x="16692" y="8746"/>
                  <a:pt x="16708" y="8745"/>
                  <a:pt x="16735" y="8731"/>
                </a:cubicBezTo>
                <a:cubicBezTo>
                  <a:pt x="16764" y="8717"/>
                  <a:pt x="16803" y="8695"/>
                  <a:pt x="16823" y="8665"/>
                </a:cubicBezTo>
                <a:cubicBezTo>
                  <a:pt x="16844" y="8632"/>
                  <a:pt x="16868" y="8590"/>
                  <a:pt x="16889" y="8555"/>
                </a:cubicBezTo>
                <a:cubicBezTo>
                  <a:pt x="16905" y="8528"/>
                  <a:pt x="16900" y="8497"/>
                  <a:pt x="16911" y="8467"/>
                </a:cubicBezTo>
                <a:cubicBezTo>
                  <a:pt x="16923" y="8434"/>
                  <a:pt x="16931" y="8416"/>
                  <a:pt x="16933" y="8378"/>
                </a:cubicBezTo>
                <a:cubicBezTo>
                  <a:pt x="16935" y="8341"/>
                  <a:pt x="16933" y="8349"/>
                  <a:pt x="16933" y="8312"/>
                </a:cubicBezTo>
                <a:cubicBezTo>
                  <a:pt x="16913" y="8353"/>
                  <a:pt x="16924" y="8377"/>
                  <a:pt x="16911" y="8423"/>
                </a:cubicBezTo>
                <a:cubicBezTo>
                  <a:pt x="16888" y="8503"/>
                  <a:pt x="16899" y="8502"/>
                  <a:pt x="16911" y="8577"/>
                </a:cubicBezTo>
                <a:cubicBezTo>
                  <a:pt x="16917" y="8614"/>
                  <a:pt x="16917" y="8654"/>
                  <a:pt x="16933" y="8687"/>
                </a:cubicBezTo>
                <a:cubicBezTo>
                  <a:pt x="16954" y="8730"/>
                  <a:pt x="16984" y="8726"/>
                  <a:pt x="17022" y="8731"/>
                </a:cubicBezTo>
                <a:cubicBezTo>
                  <a:pt x="17017" y="8697"/>
                  <a:pt x="17016" y="8670"/>
                  <a:pt x="16999" y="8643"/>
                </a:cubicBezTo>
                <a:cubicBezTo>
                  <a:pt x="16983" y="8617"/>
                  <a:pt x="16944" y="8588"/>
                  <a:pt x="16933" y="8577"/>
                </a:cubicBezTo>
                <a:cubicBezTo>
                  <a:pt x="16926" y="8570"/>
                  <a:pt x="16918" y="8562"/>
                  <a:pt x="16911" y="8555"/>
                </a:cubicBezTo>
                <a:cubicBezTo>
                  <a:pt x="16928" y="8526"/>
                  <a:pt x="16941" y="8490"/>
                  <a:pt x="16977" y="8467"/>
                </a:cubicBezTo>
                <a:cubicBezTo>
                  <a:pt x="17010" y="8446"/>
                  <a:pt x="17055" y="8440"/>
                  <a:pt x="17088" y="8423"/>
                </a:cubicBezTo>
                <a:cubicBezTo>
                  <a:pt x="17088" y="8423"/>
                  <a:pt x="17129" y="8382"/>
                  <a:pt x="17132" y="8378"/>
                </a:cubicBezTo>
                <a:cubicBezTo>
                  <a:pt x="17147" y="8362"/>
                  <a:pt x="17116" y="8372"/>
                  <a:pt x="17132" y="8356"/>
                </a:cubicBezTo>
                <a:cubicBezTo>
                  <a:pt x="17127" y="8392"/>
                  <a:pt x="17124" y="8414"/>
                  <a:pt x="17110" y="8445"/>
                </a:cubicBezTo>
                <a:cubicBezTo>
                  <a:pt x="17097" y="8475"/>
                  <a:pt x="17090" y="8497"/>
                  <a:pt x="17088" y="8533"/>
                </a:cubicBezTo>
                <a:cubicBezTo>
                  <a:pt x="17086" y="8574"/>
                  <a:pt x="17091" y="8612"/>
                  <a:pt x="17110" y="8643"/>
                </a:cubicBezTo>
                <a:cubicBezTo>
                  <a:pt x="17125" y="8667"/>
                  <a:pt x="17125" y="8680"/>
                  <a:pt x="17154" y="8709"/>
                </a:cubicBezTo>
                <a:cubicBezTo>
                  <a:pt x="17165" y="8720"/>
                  <a:pt x="17191" y="8741"/>
                  <a:pt x="17220" y="8731"/>
                </a:cubicBezTo>
                <a:cubicBezTo>
                  <a:pt x="17260" y="8718"/>
                  <a:pt x="17266" y="8689"/>
                  <a:pt x="17286" y="8665"/>
                </a:cubicBezTo>
                <a:cubicBezTo>
                  <a:pt x="17300" y="8649"/>
                  <a:pt x="17314" y="8629"/>
                  <a:pt x="17330" y="8599"/>
                </a:cubicBezTo>
                <a:cubicBezTo>
                  <a:pt x="17345" y="8571"/>
                  <a:pt x="17350" y="8546"/>
                  <a:pt x="17352" y="8511"/>
                </a:cubicBezTo>
                <a:cubicBezTo>
                  <a:pt x="17354" y="8472"/>
                  <a:pt x="17368" y="8458"/>
                  <a:pt x="17374" y="8423"/>
                </a:cubicBezTo>
                <a:cubicBezTo>
                  <a:pt x="17382" y="8377"/>
                  <a:pt x="17388" y="8328"/>
                  <a:pt x="17396" y="8290"/>
                </a:cubicBezTo>
                <a:cubicBezTo>
                  <a:pt x="17404" y="8250"/>
                  <a:pt x="17396" y="8199"/>
                  <a:pt x="17396" y="8158"/>
                </a:cubicBezTo>
                <a:cubicBezTo>
                  <a:pt x="17396" y="8269"/>
                  <a:pt x="17362" y="8442"/>
                  <a:pt x="17374" y="8533"/>
                </a:cubicBezTo>
                <a:cubicBezTo>
                  <a:pt x="17379" y="8568"/>
                  <a:pt x="17394" y="8582"/>
                  <a:pt x="17396" y="8621"/>
                </a:cubicBezTo>
                <a:cubicBezTo>
                  <a:pt x="17398" y="8654"/>
                  <a:pt x="17402" y="8683"/>
                  <a:pt x="17418" y="8709"/>
                </a:cubicBezTo>
                <a:cubicBezTo>
                  <a:pt x="17425" y="8721"/>
                  <a:pt x="17457" y="8737"/>
                  <a:pt x="17485" y="8731"/>
                </a:cubicBezTo>
                <a:cubicBezTo>
                  <a:pt x="17518" y="8723"/>
                  <a:pt x="17547" y="8711"/>
                  <a:pt x="17573" y="8687"/>
                </a:cubicBezTo>
                <a:cubicBezTo>
                  <a:pt x="17580" y="8680"/>
                  <a:pt x="17588" y="8672"/>
                  <a:pt x="17595" y="8665"/>
                </a:cubicBezTo>
              </a:path>
              <a:path w="4367" h="1037">
                <a:moveTo>
                  <a:pt x="17639" y="8467"/>
                </a:moveTo>
                <a:cubicBezTo>
                  <a:pt x="17625" y="8430"/>
                  <a:pt x="17619" y="8423"/>
                  <a:pt x="17617" y="8378"/>
                </a:cubicBezTo>
                <a:cubicBezTo>
                  <a:pt x="17616" y="8356"/>
                  <a:pt x="17625" y="8299"/>
                  <a:pt x="17639" y="8290"/>
                </a:cubicBezTo>
                <a:cubicBezTo>
                  <a:pt x="17675" y="8268"/>
                  <a:pt x="17697" y="8305"/>
                  <a:pt x="17705" y="8312"/>
                </a:cubicBezTo>
                <a:cubicBezTo>
                  <a:pt x="17727" y="8312"/>
                  <a:pt x="17734" y="8312"/>
                  <a:pt x="17727" y="8334"/>
                </a:cubicBezTo>
                <a:cubicBezTo>
                  <a:pt x="17751" y="8358"/>
                  <a:pt x="17770" y="8341"/>
                  <a:pt x="17727" y="8334"/>
                </a:cubicBezTo>
                <a:cubicBezTo>
                  <a:pt x="17684" y="8327"/>
                  <a:pt x="17672" y="8341"/>
                  <a:pt x="17639" y="8356"/>
                </a:cubicBezTo>
                <a:cubicBezTo>
                  <a:pt x="17580" y="8382"/>
                  <a:pt x="17595" y="8387"/>
                  <a:pt x="17573" y="8445"/>
                </a:cubicBezTo>
                <a:cubicBezTo>
                  <a:pt x="17563" y="8471"/>
                  <a:pt x="17528" y="8532"/>
                  <a:pt x="17529" y="8555"/>
                </a:cubicBezTo>
                <a:cubicBezTo>
                  <a:pt x="17530" y="8566"/>
                  <a:pt x="17543" y="8672"/>
                  <a:pt x="17551" y="8687"/>
                </a:cubicBezTo>
                <a:cubicBezTo>
                  <a:pt x="17566" y="8715"/>
                  <a:pt x="17609" y="8753"/>
                  <a:pt x="17639" y="8753"/>
                </a:cubicBezTo>
                <a:cubicBezTo>
                  <a:pt x="17647" y="8753"/>
                  <a:pt x="17721" y="8736"/>
                  <a:pt x="17727" y="8731"/>
                </a:cubicBezTo>
                <a:cubicBezTo>
                  <a:pt x="17754" y="8708"/>
                  <a:pt x="17759" y="8653"/>
                  <a:pt x="17771" y="8621"/>
                </a:cubicBezTo>
                <a:cubicBezTo>
                  <a:pt x="17792" y="8566"/>
                  <a:pt x="17793" y="8548"/>
                  <a:pt x="17793" y="8489"/>
                </a:cubicBezTo>
                <a:cubicBezTo>
                  <a:pt x="17793" y="8437"/>
                  <a:pt x="17793" y="8386"/>
                  <a:pt x="17793" y="8334"/>
                </a:cubicBezTo>
                <a:cubicBezTo>
                  <a:pt x="17793" y="8286"/>
                  <a:pt x="17793" y="8286"/>
                  <a:pt x="17793" y="8334"/>
                </a:cubicBezTo>
                <a:cubicBezTo>
                  <a:pt x="17793" y="8434"/>
                  <a:pt x="17803" y="8534"/>
                  <a:pt x="17815" y="8621"/>
                </a:cubicBezTo>
                <a:cubicBezTo>
                  <a:pt x="17825" y="8693"/>
                  <a:pt x="17801" y="8761"/>
                  <a:pt x="17793" y="8819"/>
                </a:cubicBezTo>
                <a:cubicBezTo>
                  <a:pt x="17782" y="8898"/>
                  <a:pt x="17809" y="8973"/>
                  <a:pt x="17771" y="9040"/>
                </a:cubicBezTo>
                <a:cubicBezTo>
                  <a:pt x="17762" y="9056"/>
                  <a:pt x="17731" y="9075"/>
                  <a:pt x="17727" y="9084"/>
                </a:cubicBezTo>
                <a:cubicBezTo>
                  <a:pt x="17727" y="9091"/>
                  <a:pt x="17727" y="9099"/>
                  <a:pt x="17727" y="9106"/>
                </a:cubicBezTo>
                <a:cubicBezTo>
                  <a:pt x="17715" y="9091"/>
                  <a:pt x="17700" y="9071"/>
                  <a:pt x="17683" y="9040"/>
                </a:cubicBezTo>
                <a:cubicBezTo>
                  <a:pt x="17666" y="9008"/>
                  <a:pt x="17654" y="8994"/>
                  <a:pt x="17661" y="8952"/>
                </a:cubicBezTo>
                <a:cubicBezTo>
                  <a:pt x="17670" y="8898"/>
                  <a:pt x="17687" y="8848"/>
                  <a:pt x="17705" y="8797"/>
                </a:cubicBezTo>
                <a:cubicBezTo>
                  <a:pt x="17723" y="8744"/>
                  <a:pt x="17742" y="8748"/>
                  <a:pt x="17771" y="8709"/>
                </a:cubicBezTo>
                <a:cubicBezTo>
                  <a:pt x="17803" y="8666"/>
                  <a:pt x="17806" y="8617"/>
                  <a:pt x="17837" y="8577"/>
                </a:cubicBezTo>
                <a:cubicBezTo>
                  <a:pt x="17862" y="8544"/>
                  <a:pt x="17885" y="8520"/>
                  <a:pt x="17903" y="8489"/>
                </a:cubicBezTo>
                <a:cubicBezTo>
                  <a:pt x="17935" y="8432"/>
                  <a:pt x="17950" y="8437"/>
                  <a:pt x="17992" y="8401"/>
                </a:cubicBezTo>
                <a:cubicBezTo>
                  <a:pt x="18009" y="8387"/>
                  <a:pt x="18012" y="8367"/>
                  <a:pt x="18058" y="8378"/>
                </a:cubicBezTo>
                <a:cubicBezTo>
                  <a:pt x="18090" y="8386"/>
                  <a:pt x="18073" y="8386"/>
                  <a:pt x="18102" y="8401"/>
                </a:cubicBezTo>
                <a:cubicBezTo>
                  <a:pt x="18067" y="8374"/>
                  <a:pt x="18063" y="8348"/>
                  <a:pt x="18014" y="8356"/>
                </a:cubicBezTo>
                <a:cubicBezTo>
                  <a:pt x="17994" y="8359"/>
                  <a:pt x="17936" y="8401"/>
                  <a:pt x="17926" y="8423"/>
                </a:cubicBezTo>
                <a:cubicBezTo>
                  <a:pt x="17907" y="8463"/>
                  <a:pt x="17906" y="8508"/>
                  <a:pt x="17903" y="8555"/>
                </a:cubicBezTo>
                <a:cubicBezTo>
                  <a:pt x="17900" y="8602"/>
                  <a:pt x="17907" y="8627"/>
                  <a:pt x="17926" y="8665"/>
                </a:cubicBezTo>
                <a:cubicBezTo>
                  <a:pt x="17941" y="8694"/>
                  <a:pt x="17960" y="8711"/>
                  <a:pt x="17992" y="8709"/>
                </a:cubicBezTo>
                <a:cubicBezTo>
                  <a:pt x="18017" y="8708"/>
                  <a:pt x="18051" y="8672"/>
                  <a:pt x="18058" y="8665"/>
                </a:cubicBezTo>
                <a:cubicBezTo>
                  <a:pt x="18102" y="8624"/>
                  <a:pt x="18134" y="8570"/>
                  <a:pt x="18146" y="8511"/>
                </a:cubicBezTo>
                <a:cubicBezTo>
                  <a:pt x="18151" y="8489"/>
                  <a:pt x="18169" y="8407"/>
                  <a:pt x="18168" y="8401"/>
                </a:cubicBezTo>
                <a:cubicBezTo>
                  <a:pt x="18168" y="8375"/>
                  <a:pt x="18166" y="8366"/>
                  <a:pt x="18146" y="8356"/>
                </a:cubicBezTo>
                <a:cubicBezTo>
                  <a:pt x="18146" y="8386"/>
                  <a:pt x="18146" y="8371"/>
                  <a:pt x="18146" y="8401"/>
                </a:cubicBezTo>
                <a:cubicBezTo>
                  <a:pt x="18146" y="8455"/>
                  <a:pt x="18161" y="8492"/>
                  <a:pt x="18168" y="8533"/>
                </a:cubicBezTo>
                <a:cubicBezTo>
                  <a:pt x="18174" y="8569"/>
                  <a:pt x="18186" y="8616"/>
                  <a:pt x="18190" y="8643"/>
                </a:cubicBezTo>
                <a:cubicBezTo>
                  <a:pt x="18197" y="8689"/>
                  <a:pt x="18202" y="8675"/>
                  <a:pt x="18212" y="8709"/>
                </a:cubicBezTo>
                <a:cubicBezTo>
                  <a:pt x="18212" y="8716"/>
                  <a:pt x="18212" y="8724"/>
                  <a:pt x="18212" y="8731"/>
                </a:cubicBezTo>
                <a:cubicBezTo>
                  <a:pt x="18223" y="8720"/>
                  <a:pt x="18266" y="8695"/>
                  <a:pt x="18278" y="8665"/>
                </a:cubicBezTo>
                <a:cubicBezTo>
                  <a:pt x="18290" y="8637"/>
                  <a:pt x="18284" y="8603"/>
                  <a:pt x="18300" y="8577"/>
                </a:cubicBezTo>
                <a:cubicBezTo>
                  <a:pt x="18314" y="8554"/>
                  <a:pt x="18308" y="8557"/>
                  <a:pt x="18322" y="8533"/>
                </a:cubicBezTo>
                <a:cubicBezTo>
                  <a:pt x="18322" y="8592"/>
                  <a:pt x="18320" y="8635"/>
                  <a:pt x="18344" y="8665"/>
                </a:cubicBezTo>
                <a:cubicBezTo>
                  <a:pt x="18364" y="8691"/>
                  <a:pt x="18355" y="8694"/>
                  <a:pt x="18389" y="8709"/>
                </a:cubicBezTo>
                <a:cubicBezTo>
                  <a:pt x="18396" y="8709"/>
                  <a:pt x="18404" y="8709"/>
                  <a:pt x="18411" y="8709"/>
                </a:cubicBezTo>
                <a:cubicBezTo>
                  <a:pt x="18431" y="8689"/>
                  <a:pt x="18438" y="8692"/>
                  <a:pt x="18455" y="8665"/>
                </a:cubicBezTo>
                <a:cubicBezTo>
                  <a:pt x="18471" y="8640"/>
                  <a:pt x="18475" y="8610"/>
                  <a:pt x="18477" y="8577"/>
                </a:cubicBezTo>
                <a:cubicBezTo>
                  <a:pt x="18483" y="8460"/>
                  <a:pt x="18477" y="8341"/>
                  <a:pt x="18477" y="8224"/>
                </a:cubicBezTo>
                <a:cubicBezTo>
                  <a:pt x="18463" y="8261"/>
                  <a:pt x="18457" y="8268"/>
                  <a:pt x="18455" y="8312"/>
                </a:cubicBezTo>
                <a:cubicBezTo>
                  <a:pt x="18452" y="8370"/>
                  <a:pt x="18472" y="8421"/>
                  <a:pt x="18477" y="8467"/>
                </a:cubicBezTo>
                <a:cubicBezTo>
                  <a:pt x="18484" y="8526"/>
                  <a:pt x="18492" y="8594"/>
                  <a:pt x="18499" y="8643"/>
                </a:cubicBezTo>
                <a:cubicBezTo>
                  <a:pt x="18504" y="8679"/>
                  <a:pt x="18509" y="8699"/>
                  <a:pt x="18521" y="8731"/>
                </a:cubicBezTo>
                <a:cubicBezTo>
                  <a:pt x="18553" y="8726"/>
                  <a:pt x="18573" y="8728"/>
                  <a:pt x="18587" y="8709"/>
                </a:cubicBezTo>
                <a:cubicBezTo>
                  <a:pt x="18600" y="8692"/>
                  <a:pt x="18620" y="8644"/>
                  <a:pt x="18631" y="8621"/>
                </a:cubicBezTo>
                <a:cubicBezTo>
                  <a:pt x="18645" y="8592"/>
                  <a:pt x="18643" y="8564"/>
                  <a:pt x="18653" y="8533"/>
                </a:cubicBezTo>
                <a:cubicBezTo>
                  <a:pt x="18664" y="8499"/>
                  <a:pt x="18682" y="8456"/>
                  <a:pt x="18697" y="8423"/>
                </a:cubicBezTo>
                <a:cubicBezTo>
                  <a:pt x="18710" y="8392"/>
                  <a:pt x="18717" y="8370"/>
                  <a:pt x="18719" y="8334"/>
                </a:cubicBezTo>
                <a:cubicBezTo>
                  <a:pt x="18720" y="8312"/>
                  <a:pt x="18719" y="8290"/>
                  <a:pt x="18719" y="8268"/>
                </a:cubicBezTo>
                <a:cubicBezTo>
                  <a:pt x="18705" y="8305"/>
                  <a:pt x="18699" y="8312"/>
                  <a:pt x="18697" y="8356"/>
                </a:cubicBezTo>
                <a:cubicBezTo>
                  <a:pt x="18695" y="8397"/>
                  <a:pt x="18681" y="8427"/>
                  <a:pt x="18675" y="8467"/>
                </a:cubicBezTo>
                <a:cubicBezTo>
                  <a:pt x="18666" y="8527"/>
                  <a:pt x="18690" y="8575"/>
                  <a:pt x="18697" y="8621"/>
                </a:cubicBezTo>
                <a:cubicBezTo>
                  <a:pt x="18705" y="8672"/>
                  <a:pt x="18683" y="8693"/>
                  <a:pt x="18719" y="8731"/>
                </a:cubicBezTo>
                <a:cubicBezTo>
                  <a:pt x="18739" y="8751"/>
                  <a:pt x="18743" y="8758"/>
                  <a:pt x="18763" y="8753"/>
                </a:cubicBezTo>
                <a:cubicBezTo>
                  <a:pt x="18774" y="8723"/>
                  <a:pt x="18775" y="8696"/>
                  <a:pt x="18785" y="8665"/>
                </a:cubicBezTo>
                <a:cubicBezTo>
                  <a:pt x="18797" y="8629"/>
                  <a:pt x="18796" y="8594"/>
                  <a:pt x="18807" y="8555"/>
                </a:cubicBezTo>
                <a:cubicBezTo>
                  <a:pt x="18816" y="8525"/>
                  <a:pt x="18850" y="8492"/>
                  <a:pt x="18874" y="8467"/>
                </a:cubicBezTo>
                <a:cubicBezTo>
                  <a:pt x="18902" y="8438"/>
                  <a:pt x="18938" y="8420"/>
                  <a:pt x="18962" y="8401"/>
                </a:cubicBezTo>
                <a:cubicBezTo>
                  <a:pt x="18975" y="8391"/>
                  <a:pt x="18994" y="8368"/>
                  <a:pt x="19006" y="8356"/>
                </a:cubicBezTo>
                <a:cubicBezTo>
                  <a:pt x="18969" y="8361"/>
                  <a:pt x="18961" y="8359"/>
                  <a:pt x="18940" y="8378"/>
                </a:cubicBezTo>
                <a:cubicBezTo>
                  <a:pt x="18907" y="8407"/>
                  <a:pt x="18892" y="8435"/>
                  <a:pt x="18874" y="8467"/>
                </a:cubicBezTo>
                <a:cubicBezTo>
                  <a:pt x="18841" y="8527"/>
                  <a:pt x="18834" y="8532"/>
                  <a:pt x="18830" y="8599"/>
                </a:cubicBezTo>
                <a:cubicBezTo>
                  <a:pt x="18827" y="8648"/>
                  <a:pt x="18843" y="8671"/>
                  <a:pt x="18852" y="8709"/>
                </a:cubicBezTo>
                <a:cubicBezTo>
                  <a:pt x="18852" y="8716"/>
                  <a:pt x="18852" y="8724"/>
                  <a:pt x="18852" y="8731"/>
                </a:cubicBezTo>
                <a:cubicBezTo>
                  <a:pt x="18897" y="8725"/>
                  <a:pt x="18902" y="8733"/>
                  <a:pt x="18940" y="8709"/>
                </a:cubicBezTo>
                <a:cubicBezTo>
                  <a:pt x="18955" y="8700"/>
                  <a:pt x="18977" y="8672"/>
                  <a:pt x="18984" y="8643"/>
                </a:cubicBezTo>
                <a:cubicBezTo>
                  <a:pt x="18994" y="8599"/>
                  <a:pt x="18999" y="8532"/>
                  <a:pt x="19006" y="8489"/>
                </a:cubicBezTo>
                <a:cubicBezTo>
                  <a:pt x="19012" y="8454"/>
                  <a:pt x="19006" y="8413"/>
                  <a:pt x="19006" y="8378"/>
                </a:cubicBezTo>
                <a:cubicBezTo>
                  <a:pt x="19017" y="8407"/>
                  <a:pt x="19012" y="8391"/>
                  <a:pt x="19006" y="8445"/>
                </a:cubicBezTo>
                <a:cubicBezTo>
                  <a:pt x="18990" y="8584"/>
                  <a:pt x="19001" y="8729"/>
                  <a:pt x="18984" y="8864"/>
                </a:cubicBezTo>
                <a:cubicBezTo>
                  <a:pt x="18975" y="8930"/>
                  <a:pt x="18971" y="9006"/>
                  <a:pt x="18962" y="9062"/>
                </a:cubicBezTo>
                <a:cubicBezTo>
                  <a:pt x="18955" y="9105"/>
                  <a:pt x="18959" y="9120"/>
                  <a:pt x="18918" y="9150"/>
                </a:cubicBezTo>
                <a:cubicBezTo>
                  <a:pt x="18911" y="9150"/>
                  <a:pt x="18903" y="9150"/>
                  <a:pt x="18896" y="9150"/>
                </a:cubicBezTo>
                <a:cubicBezTo>
                  <a:pt x="18889" y="9143"/>
                  <a:pt x="18856" y="9112"/>
                  <a:pt x="18852" y="9106"/>
                </a:cubicBezTo>
                <a:cubicBezTo>
                  <a:pt x="18833" y="9077"/>
                  <a:pt x="18800" y="9037"/>
                  <a:pt x="18807" y="8996"/>
                </a:cubicBezTo>
                <a:cubicBezTo>
                  <a:pt x="18815" y="8953"/>
                  <a:pt x="18829" y="8903"/>
                  <a:pt x="18852" y="8864"/>
                </a:cubicBezTo>
                <a:cubicBezTo>
                  <a:pt x="18872" y="8830"/>
                  <a:pt x="18912" y="8778"/>
                  <a:pt x="18940" y="8753"/>
                </a:cubicBezTo>
                <a:cubicBezTo>
                  <a:pt x="18977" y="8720"/>
                  <a:pt x="19010" y="8701"/>
                  <a:pt x="19050" y="8665"/>
                </a:cubicBezTo>
                <a:cubicBezTo>
                  <a:pt x="19101" y="8620"/>
                  <a:pt x="19145" y="8556"/>
                  <a:pt x="19182" y="8511"/>
                </a:cubicBezTo>
                <a:cubicBezTo>
                  <a:pt x="19215" y="8472"/>
                  <a:pt x="19221" y="8472"/>
                  <a:pt x="19226" y="8423"/>
                </a:cubicBezTo>
                <a:cubicBezTo>
                  <a:pt x="19231" y="8376"/>
                  <a:pt x="19214" y="8388"/>
                  <a:pt x="19204" y="8356"/>
                </a:cubicBezTo>
                <a:cubicBezTo>
                  <a:pt x="19204" y="8349"/>
                  <a:pt x="19204" y="8341"/>
                  <a:pt x="19204" y="8334"/>
                </a:cubicBezTo>
                <a:cubicBezTo>
                  <a:pt x="19157" y="8341"/>
                  <a:pt x="19160" y="8326"/>
                  <a:pt x="19138" y="8356"/>
                </a:cubicBezTo>
                <a:cubicBezTo>
                  <a:pt x="19121" y="8378"/>
                  <a:pt x="19118" y="8414"/>
                  <a:pt x="19116" y="8445"/>
                </a:cubicBezTo>
                <a:cubicBezTo>
                  <a:pt x="19112" y="8526"/>
                  <a:pt x="19098" y="8644"/>
                  <a:pt x="19138" y="8709"/>
                </a:cubicBezTo>
                <a:cubicBezTo>
                  <a:pt x="19147" y="8723"/>
                  <a:pt x="19179" y="8746"/>
                  <a:pt x="19182" y="8753"/>
                </a:cubicBezTo>
                <a:cubicBezTo>
                  <a:pt x="19182" y="8760"/>
                  <a:pt x="19182" y="8768"/>
                  <a:pt x="19182" y="8775"/>
                </a:cubicBezTo>
                <a:cubicBezTo>
                  <a:pt x="19198" y="8743"/>
                  <a:pt x="19212" y="8766"/>
                  <a:pt x="19182" y="8731"/>
                </a:cubicBezTo>
                <a:cubicBezTo>
                  <a:pt x="19164" y="8710"/>
                  <a:pt x="19124" y="8671"/>
                  <a:pt x="19116" y="8665"/>
                </a:cubicBezTo>
                <a:cubicBezTo>
                  <a:pt x="19096" y="8652"/>
                  <a:pt x="19055" y="8629"/>
                  <a:pt x="19050" y="8621"/>
                </a:cubicBezTo>
                <a:cubicBezTo>
                  <a:pt x="19050" y="8614"/>
                  <a:pt x="19050" y="8606"/>
                  <a:pt x="19050" y="8599"/>
                </a:cubicBezTo>
                <a:cubicBezTo>
                  <a:pt x="19121" y="8599"/>
                  <a:pt x="19189" y="8586"/>
                  <a:pt x="19248" y="8577"/>
                </a:cubicBezTo>
                <a:cubicBezTo>
                  <a:pt x="19291" y="8570"/>
                  <a:pt x="19299" y="8572"/>
                  <a:pt x="19337" y="8555"/>
                </a:cubicBezTo>
                <a:cubicBezTo>
                  <a:pt x="19391" y="8531"/>
                  <a:pt x="19359" y="8526"/>
                  <a:pt x="19381" y="8489"/>
                </a:cubicBezTo>
                <a:cubicBezTo>
                  <a:pt x="19398" y="8460"/>
                  <a:pt x="19396" y="8477"/>
                  <a:pt x="19381" y="8423"/>
                </a:cubicBezTo>
                <a:cubicBezTo>
                  <a:pt x="19370" y="8441"/>
                  <a:pt x="19371" y="8454"/>
                  <a:pt x="19359" y="8489"/>
                </a:cubicBezTo>
                <a:cubicBezTo>
                  <a:pt x="19347" y="8522"/>
                  <a:pt x="19339" y="8539"/>
                  <a:pt x="19337" y="8577"/>
                </a:cubicBezTo>
                <a:cubicBezTo>
                  <a:pt x="19334" y="8623"/>
                  <a:pt x="19356" y="8673"/>
                  <a:pt x="19359" y="8687"/>
                </a:cubicBezTo>
                <a:cubicBezTo>
                  <a:pt x="19359" y="8709"/>
                  <a:pt x="19359" y="8716"/>
                  <a:pt x="19359" y="8731"/>
                </a:cubicBezTo>
                <a:cubicBezTo>
                  <a:pt x="19408" y="8731"/>
                  <a:pt x="19430" y="8733"/>
                  <a:pt x="19469" y="8709"/>
                </a:cubicBezTo>
                <a:cubicBezTo>
                  <a:pt x="19484" y="8700"/>
                  <a:pt x="19520" y="8693"/>
                  <a:pt x="19513" y="8665"/>
                </a:cubicBezTo>
                <a:cubicBezTo>
                  <a:pt x="19506" y="8665"/>
                  <a:pt x="19498" y="8665"/>
                  <a:pt x="19491" y="8665"/>
                </a:cubicBezTo>
              </a:path>
              <a:path w="4367" h="1037">
                <a:moveTo>
                  <a:pt x="19557" y="8401"/>
                </a:moveTo>
                <a:cubicBezTo>
                  <a:pt x="19557" y="8364"/>
                  <a:pt x="19568" y="8389"/>
                  <a:pt x="19579" y="8356"/>
                </a:cubicBezTo>
              </a:path>
              <a:path w="4367" h="1037">
                <a:moveTo>
                  <a:pt x="19557" y="8401"/>
                </a:moveTo>
                <a:cubicBezTo>
                  <a:pt x="19564" y="8386"/>
                  <a:pt x="19572" y="8371"/>
                  <a:pt x="19579" y="8356"/>
                </a:cubicBezTo>
              </a:path>
              <a:path w="4367" h="1037">
                <a:moveTo>
                  <a:pt x="19579" y="8356"/>
                </a:moveTo>
                <a:cubicBezTo>
                  <a:pt x="19579" y="8411"/>
                  <a:pt x="19572" y="8445"/>
                  <a:pt x="19557" y="8489"/>
                </a:cubicBezTo>
                <a:cubicBezTo>
                  <a:pt x="19534" y="8557"/>
                  <a:pt x="19557" y="8644"/>
                  <a:pt x="19535" y="8709"/>
                </a:cubicBezTo>
                <a:cubicBezTo>
                  <a:pt x="19527" y="8732"/>
                  <a:pt x="19535" y="8772"/>
                  <a:pt x="19535" y="8797"/>
                </a:cubicBezTo>
                <a:cubicBezTo>
                  <a:pt x="19535" y="8729"/>
                  <a:pt x="19538" y="8678"/>
                  <a:pt x="19557" y="8621"/>
                </a:cubicBezTo>
                <a:cubicBezTo>
                  <a:pt x="19568" y="8588"/>
                  <a:pt x="19576" y="8561"/>
                  <a:pt x="19601" y="8533"/>
                </a:cubicBezTo>
                <a:cubicBezTo>
                  <a:pt x="19627" y="8503"/>
                  <a:pt x="19648" y="8482"/>
                  <a:pt x="19667" y="8467"/>
                </a:cubicBezTo>
                <a:cubicBezTo>
                  <a:pt x="19706" y="8438"/>
                  <a:pt x="19705" y="8423"/>
                  <a:pt x="19756" y="8423"/>
                </a:cubicBezTo>
                <a:cubicBezTo>
                  <a:pt x="19778" y="8423"/>
                  <a:pt x="19785" y="8423"/>
                  <a:pt x="19800" y="8423"/>
                </a:cubicBezTo>
              </a:path>
              <a:path w="4367" h="1037">
                <a:moveTo>
                  <a:pt x="19623" y="8555"/>
                </a:moveTo>
                <a:cubicBezTo>
                  <a:pt x="19616" y="8555"/>
                  <a:pt x="19608" y="8555"/>
                  <a:pt x="19601" y="8555"/>
                </a:cubicBezTo>
              </a:path>
              <a:path w="4367" h="1037">
                <a:moveTo>
                  <a:pt x="19623" y="8555"/>
                </a:moveTo>
                <a:cubicBezTo>
                  <a:pt x="19608" y="8562"/>
                  <a:pt x="19594" y="8570"/>
                  <a:pt x="19579" y="8577"/>
                </a:cubicBezTo>
              </a:path>
              <a:path w="4367" h="1037">
                <a:moveTo>
                  <a:pt x="19579" y="8577"/>
                </a:moveTo>
                <a:cubicBezTo>
                  <a:pt x="19579" y="8609"/>
                  <a:pt x="19585" y="8641"/>
                  <a:pt x="19601" y="8665"/>
                </a:cubicBezTo>
                <a:cubicBezTo>
                  <a:pt x="19621" y="8695"/>
                  <a:pt x="19656" y="8727"/>
                  <a:pt x="19689" y="8731"/>
                </a:cubicBezTo>
                <a:cubicBezTo>
                  <a:pt x="19738" y="8736"/>
                  <a:pt x="19785" y="8737"/>
                  <a:pt x="19822" y="8709"/>
                </a:cubicBezTo>
                <a:cubicBezTo>
                  <a:pt x="19812" y="8739"/>
                  <a:pt x="19791" y="8736"/>
                  <a:pt x="19778" y="8775"/>
                </a:cubicBezTo>
                <a:cubicBezTo>
                  <a:pt x="19758" y="8836"/>
                  <a:pt x="19776" y="8915"/>
                  <a:pt x="19756" y="8974"/>
                </a:cubicBezTo>
                <a:cubicBezTo>
                  <a:pt x="19743" y="9012"/>
                  <a:pt x="19761" y="9024"/>
                  <a:pt x="19711" y="9040"/>
                </a:cubicBezTo>
                <a:cubicBezTo>
                  <a:pt x="19694" y="9046"/>
                  <a:pt x="19663" y="9040"/>
                  <a:pt x="19645" y="9040"/>
                </a:cubicBezTo>
                <a:cubicBezTo>
                  <a:pt x="19645" y="8981"/>
                  <a:pt x="19654" y="8941"/>
                  <a:pt x="19667" y="8886"/>
                </a:cubicBezTo>
                <a:cubicBezTo>
                  <a:pt x="19675" y="8853"/>
                  <a:pt x="19687" y="8823"/>
                  <a:pt x="19711" y="8797"/>
                </a:cubicBezTo>
                <a:cubicBezTo>
                  <a:pt x="19746" y="8759"/>
                  <a:pt x="19765" y="8740"/>
                  <a:pt x="19800" y="8709"/>
                </a:cubicBezTo>
                <a:cubicBezTo>
                  <a:pt x="19826" y="8686"/>
                  <a:pt x="19838" y="8686"/>
                  <a:pt x="19866" y="8665"/>
                </a:cubicBezTo>
              </a:path>
              <a:path w="4367" h="1037">
                <a:moveTo>
                  <a:pt x="20086" y="8599"/>
                </a:moveTo>
                <a:cubicBezTo>
                  <a:pt x="20121" y="8590"/>
                  <a:pt x="20135" y="8577"/>
                  <a:pt x="20174" y="8577"/>
                </a:cubicBezTo>
                <a:cubicBezTo>
                  <a:pt x="20196" y="8577"/>
                  <a:pt x="20219" y="8577"/>
                  <a:pt x="20241" y="8577"/>
                </a:cubicBezTo>
              </a:path>
              <a:path w="4367" h="1037">
                <a:moveTo>
                  <a:pt x="20020" y="8401"/>
                </a:moveTo>
                <a:cubicBezTo>
                  <a:pt x="20027" y="8401"/>
                  <a:pt x="20035" y="8401"/>
                  <a:pt x="20042" y="8401"/>
                </a:cubicBezTo>
                <a:cubicBezTo>
                  <a:pt x="20053" y="8366"/>
                  <a:pt x="20067" y="8378"/>
                  <a:pt x="20108" y="8378"/>
                </a:cubicBezTo>
                <a:cubicBezTo>
                  <a:pt x="20130" y="8378"/>
                  <a:pt x="20152" y="8378"/>
                  <a:pt x="20174" y="8378"/>
                </a:cubicBezTo>
                <a:cubicBezTo>
                  <a:pt x="20185" y="8412"/>
                  <a:pt x="20200" y="8401"/>
                  <a:pt x="20241" y="8401"/>
                </a:cubicBezTo>
                <a:cubicBezTo>
                  <a:pt x="20270" y="8401"/>
                  <a:pt x="20300" y="8401"/>
                  <a:pt x="20329" y="8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Ink 42"/>
          <p:cNvSpPr/>
          <p:nvPr/>
        </p:nvSpPr>
        <p:spPr>
          <a:xfrm>
            <a:off x="7683480" y="3087720"/>
            <a:ext cx="833400" cy="245880"/>
          </a:xfrm>
          <a:custGeom>
            <a:avLst/>
            <a:gdLst/>
            <a:ahLst/>
            <a:rect l="l" t="t" r="r" b="b"/>
            <a:pathLst>
              <a:path w="2316" h="684">
                <a:moveTo>
                  <a:pt x="21365" y="8687"/>
                </a:moveTo>
                <a:cubicBezTo>
                  <a:pt x="21365" y="8739"/>
                  <a:pt x="21352" y="8778"/>
                  <a:pt x="21343" y="8819"/>
                </a:cubicBezTo>
                <a:cubicBezTo>
                  <a:pt x="21333" y="8867"/>
                  <a:pt x="21379" y="8912"/>
                  <a:pt x="21387" y="8930"/>
                </a:cubicBezTo>
                <a:cubicBezTo>
                  <a:pt x="21401" y="8962"/>
                  <a:pt x="21412" y="8952"/>
                  <a:pt x="21453" y="8952"/>
                </a:cubicBezTo>
                <a:cubicBezTo>
                  <a:pt x="21516" y="8952"/>
                  <a:pt x="21504" y="8935"/>
                  <a:pt x="21541" y="8886"/>
                </a:cubicBezTo>
                <a:cubicBezTo>
                  <a:pt x="21564" y="8856"/>
                  <a:pt x="21596" y="8832"/>
                  <a:pt x="21608" y="8797"/>
                </a:cubicBezTo>
                <a:cubicBezTo>
                  <a:pt x="21616" y="8774"/>
                  <a:pt x="21608" y="8734"/>
                  <a:pt x="21608" y="8709"/>
                </a:cubicBezTo>
                <a:cubicBezTo>
                  <a:pt x="21594" y="8750"/>
                  <a:pt x="21586" y="8730"/>
                  <a:pt x="21586" y="8797"/>
                </a:cubicBezTo>
                <a:cubicBezTo>
                  <a:pt x="21586" y="8854"/>
                  <a:pt x="21608" y="8911"/>
                  <a:pt x="21608" y="8974"/>
                </a:cubicBezTo>
                <a:cubicBezTo>
                  <a:pt x="21608" y="9028"/>
                  <a:pt x="21621" y="9042"/>
                  <a:pt x="21630" y="9084"/>
                </a:cubicBezTo>
                <a:cubicBezTo>
                  <a:pt x="21642" y="9140"/>
                  <a:pt x="21611" y="9149"/>
                  <a:pt x="21608" y="9194"/>
                </a:cubicBezTo>
                <a:cubicBezTo>
                  <a:pt x="21605" y="9240"/>
                  <a:pt x="21592" y="9254"/>
                  <a:pt x="21541" y="9260"/>
                </a:cubicBezTo>
                <a:cubicBezTo>
                  <a:pt x="21491" y="9265"/>
                  <a:pt x="21470" y="9251"/>
                  <a:pt x="21431" y="9238"/>
                </a:cubicBezTo>
                <a:cubicBezTo>
                  <a:pt x="21408" y="9230"/>
                  <a:pt x="21390" y="9195"/>
                  <a:pt x="21387" y="9172"/>
                </a:cubicBezTo>
                <a:cubicBezTo>
                  <a:pt x="21387" y="9150"/>
                  <a:pt x="21387" y="9143"/>
                  <a:pt x="21387" y="9128"/>
                </a:cubicBezTo>
              </a:path>
              <a:path w="2316" h="684">
                <a:moveTo>
                  <a:pt x="21806" y="8731"/>
                </a:moveTo>
                <a:cubicBezTo>
                  <a:pt x="21867" y="8731"/>
                  <a:pt x="21828" y="8720"/>
                  <a:pt x="21872" y="8731"/>
                </a:cubicBezTo>
                <a:cubicBezTo>
                  <a:pt x="21904" y="8739"/>
                  <a:pt x="21894" y="8739"/>
                  <a:pt x="21894" y="8775"/>
                </a:cubicBezTo>
                <a:cubicBezTo>
                  <a:pt x="21890" y="8762"/>
                  <a:pt x="21872" y="8720"/>
                  <a:pt x="21850" y="8731"/>
                </a:cubicBezTo>
                <a:cubicBezTo>
                  <a:pt x="21816" y="8748"/>
                  <a:pt x="21791" y="8768"/>
                  <a:pt x="21762" y="8797"/>
                </a:cubicBezTo>
                <a:cubicBezTo>
                  <a:pt x="21732" y="8827"/>
                  <a:pt x="21704" y="8887"/>
                  <a:pt x="21696" y="8930"/>
                </a:cubicBezTo>
                <a:cubicBezTo>
                  <a:pt x="21690" y="8963"/>
                  <a:pt x="21696" y="9006"/>
                  <a:pt x="21696" y="9040"/>
                </a:cubicBezTo>
                <a:cubicBezTo>
                  <a:pt x="21749" y="9040"/>
                  <a:pt x="21810" y="9053"/>
                  <a:pt x="21850" y="9018"/>
                </a:cubicBezTo>
                <a:cubicBezTo>
                  <a:pt x="21878" y="8993"/>
                  <a:pt x="21905" y="8923"/>
                  <a:pt x="21916" y="8886"/>
                </a:cubicBezTo>
                <a:cubicBezTo>
                  <a:pt x="21930" y="8841"/>
                  <a:pt x="21948" y="8799"/>
                  <a:pt x="21938" y="8753"/>
                </a:cubicBezTo>
                <a:cubicBezTo>
                  <a:pt x="21931" y="8746"/>
                  <a:pt x="21923" y="8738"/>
                  <a:pt x="21916" y="8731"/>
                </a:cubicBezTo>
                <a:cubicBezTo>
                  <a:pt x="21916" y="8805"/>
                  <a:pt x="21921" y="8861"/>
                  <a:pt x="21938" y="8930"/>
                </a:cubicBezTo>
                <a:cubicBezTo>
                  <a:pt x="21945" y="8959"/>
                  <a:pt x="21972" y="9004"/>
                  <a:pt x="22005" y="9018"/>
                </a:cubicBezTo>
                <a:cubicBezTo>
                  <a:pt x="22038" y="9033"/>
                  <a:pt x="22064" y="8984"/>
                  <a:pt x="22071" y="8974"/>
                </a:cubicBezTo>
                <a:cubicBezTo>
                  <a:pt x="22099" y="8937"/>
                  <a:pt x="22104" y="8883"/>
                  <a:pt x="22115" y="8841"/>
                </a:cubicBezTo>
                <a:cubicBezTo>
                  <a:pt x="22122" y="8817"/>
                  <a:pt x="22115" y="8600"/>
                  <a:pt x="22115" y="8709"/>
                </a:cubicBezTo>
                <a:cubicBezTo>
                  <a:pt x="22115" y="8767"/>
                  <a:pt x="22135" y="8808"/>
                  <a:pt x="22137" y="8864"/>
                </a:cubicBezTo>
                <a:cubicBezTo>
                  <a:pt x="22140" y="8926"/>
                  <a:pt x="22153" y="8961"/>
                  <a:pt x="22159" y="9018"/>
                </a:cubicBezTo>
                <a:cubicBezTo>
                  <a:pt x="22159" y="9040"/>
                  <a:pt x="22159" y="9047"/>
                  <a:pt x="22159" y="9062"/>
                </a:cubicBezTo>
                <a:cubicBezTo>
                  <a:pt x="22159" y="8995"/>
                  <a:pt x="22168" y="8951"/>
                  <a:pt x="22181" y="8886"/>
                </a:cubicBezTo>
                <a:cubicBezTo>
                  <a:pt x="22190" y="8839"/>
                  <a:pt x="22213" y="8799"/>
                  <a:pt x="22225" y="8753"/>
                </a:cubicBezTo>
                <a:cubicBezTo>
                  <a:pt x="22230" y="8733"/>
                  <a:pt x="22264" y="8718"/>
                  <a:pt x="22291" y="8709"/>
                </a:cubicBezTo>
                <a:cubicBezTo>
                  <a:pt x="22298" y="8709"/>
                  <a:pt x="22306" y="8709"/>
                  <a:pt x="22313" y="8709"/>
                </a:cubicBezTo>
              </a:path>
              <a:path w="2316" h="684">
                <a:moveTo>
                  <a:pt x="22291" y="8797"/>
                </a:moveTo>
                <a:cubicBezTo>
                  <a:pt x="22304" y="8818"/>
                  <a:pt x="22311" y="8817"/>
                  <a:pt x="22313" y="8864"/>
                </a:cubicBezTo>
                <a:cubicBezTo>
                  <a:pt x="22315" y="8901"/>
                  <a:pt x="22313" y="8937"/>
                  <a:pt x="22313" y="8974"/>
                </a:cubicBezTo>
                <a:cubicBezTo>
                  <a:pt x="22360" y="8967"/>
                  <a:pt x="22365" y="8966"/>
                  <a:pt x="22401" y="8930"/>
                </a:cubicBezTo>
                <a:cubicBezTo>
                  <a:pt x="22416" y="8915"/>
                  <a:pt x="22447" y="8890"/>
                  <a:pt x="22468" y="8864"/>
                </a:cubicBezTo>
                <a:cubicBezTo>
                  <a:pt x="22464" y="8905"/>
                  <a:pt x="22449" y="8944"/>
                  <a:pt x="22445" y="8974"/>
                </a:cubicBezTo>
                <a:cubicBezTo>
                  <a:pt x="22439" y="9014"/>
                  <a:pt x="22429" y="9053"/>
                  <a:pt x="22423" y="9084"/>
                </a:cubicBezTo>
                <a:cubicBezTo>
                  <a:pt x="22413" y="9135"/>
                  <a:pt x="22423" y="9144"/>
                  <a:pt x="22401" y="9172"/>
                </a:cubicBezTo>
                <a:cubicBezTo>
                  <a:pt x="22382" y="9196"/>
                  <a:pt x="22344" y="9203"/>
                  <a:pt x="22313" y="9194"/>
                </a:cubicBezTo>
                <a:cubicBezTo>
                  <a:pt x="22286" y="9186"/>
                  <a:pt x="22277" y="9178"/>
                  <a:pt x="22269" y="9150"/>
                </a:cubicBezTo>
                <a:cubicBezTo>
                  <a:pt x="22258" y="9111"/>
                  <a:pt x="22269" y="9068"/>
                  <a:pt x="22291" y="9040"/>
                </a:cubicBezTo>
                <a:cubicBezTo>
                  <a:pt x="22314" y="9011"/>
                  <a:pt x="22339" y="8976"/>
                  <a:pt x="22357" y="8952"/>
                </a:cubicBezTo>
                <a:cubicBezTo>
                  <a:pt x="22393" y="8904"/>
                  <a:pt x="22424" y="8881"/>
                  <a:pt x="22468" y="8841"/>
                </a:cubicBezTo>
                <a:cubicBezTo>
                  <a:pt x="22481" y="8829"/>
                  <a:pt x="22509" y="8800"/>
                  <a:pt x="22534" y="8775"/>
                </a:cubicBezTo>
                <a:cubicBezTo>
                  <a:pt x="22551" y="8758"/>
                  <a:pt x="22597" y="8739"/>
                  <a:pt x="22600" y="8731"/>
                </a:cubicBezTo>
                <a:cubicBezTo>
                  <a:pt x="22600" y="8709"/>
                  <a:pt x="22600" y="8702"/>
                  <a:pt x="22600" y="8687"/>
                </a:cubicBezTo>
                <a:cubicBezTo>
                  <a:pt x="22545" y="8695"/>
                  <a:pt x="22564" y="8698"/>
                  <a:pt x="22534" y="8731"/>
                </a:cubicBezTo>
                <a:cubicBezTo>
                  <a:pt x="22521" y="8745"/>
                  <a:pt x="22498" y="8755"/>
                  <a:pt x="22512" y="8797"/>
                </a:cubicBezTo>
                <a:cubicBezTo>
                  <a:pt x="22526" y="8838"/>
                  <a:pt x="22549" y="8891"/>
                  <a:pt x="22578" y="8930"/>
                </a:cubicBezTo>
                <a:cubicBezTo>
                  <a:pt x="22592" y="8949"/>
                  <a:pt x="22612" y="8947"/>
                  <a:pt x="22644" y="8952"/>
                </a:cubicBezTo>
                <a:cubicBezTo>
                  <a:pt x="22630" y="8929"/>
                  <a:pt x="22614" y="8904"/>
                  <a:pt x="22600" y="8886"/>
                </a:cubicBezTo>
                <a:cubicBezTo>
                  <a:pt x="22577" y="8856"/>
                  <a:pt x="22561" y="8847"/>
                  <a:pt x="22534" y="8819"/>
                </a:cubicBezTo>
                <a:cubicBezTo>
                  <a:pt x="22562" y="8802"/>
                  <a:pt x="22562" y="8810"/>
                  <a:pt x="22600" y="8797"/>
                </a:cubicBezTo>
                <a:cubicBezTo>
                  <a:pt x="22625" y="8788"/>
                  <a:pt x="22665" y="8787"/>
                  <a:pt x="22688" y="8775"/>
                </a:cubicBezTo>
                <a:cubicBezTo>
                  <a:pt x="22713" y="8763"/>
                  <a:pt x="22756" y="8745"/>
                  <a:pt x="22776" y="8731"/>
                </a:cubicBezTo>
                <a:cubicBezTo>
                  <a:pt x="22797" y="8716"/>
                  <a:pt x="22798" y="8722"/>
                  <a:pt x="22820" y="8709"/>
                </a:cubicBezTo>
                <a:cubicBezTo>
                  <a:pt x="22800" y="8729"/>
                  <a:pt x="22793" y="8726"/>
                  <a:pt x="22776" y="8753"/>
                </a:cubicBezTo>
                <a:cubicBezTo>
                  <a:pt x="22752" y="8791"/>
                  <a:pt x="22764" y="8820"/>
                  <a:pt x="22776" y="8864"/>
                </a:cubicBezTo>
                <a:cubicBezTo>
                  <a:pt x="22792" y="8922"/>
                  <a:pt x="22807" y="8923"/>
                  <a:pt x="22842" y="8952"/>
                </a:cubicBezTo>
                <a:cubicBezTo>
                  <a:pt x="22884" y="8987"/>
                  <a:pt x="22889" y="8974"/>
                  <a:pt x="22931" y="8952"/>
                </a:cubicBezTo>
                <a:cubicBezTo>
                  <a:pt x="22973" y="8930"/>
                  <a:pt x="22984" y="8904"/>
                  <a:pt x="23019" y="8864"/>
                </a:cubicBezTo>
                <a:cubicBezTo>
                  <a:pt x="23047" y="8832"/>
                  <a:pt x="23061" y="8773"/>
                  <a:pt x="23063" y="8731"/>
                </a:cubicBezTo>
                <a:cubicBezTo>
                  <a:pt x="23065" y="8702"/>
                  <a:pt x="23063" y="8672"/>
                  <a:pt x="23063" y="8643"/>
                </a:cubicBezTo>
                <a:cubicBezTo>
                  <a:pt x="23063" y="8764"/>
                  <a:pt x="23066" y="8888"/>
                  <a:pt x="23085" y="8996"/>
                </a:cubicBezTo>
                <a:cubicBezTo>
                  <a:pt x="23089" y="9018"/>
                  <a:pt x="23075" y="8998"/>
                  <a:pt x="23085" y="9018"/>
                </a:cubicBezTo>
                <a:cubicBezTo>
                  <a:pt x="23085" y="8920"/>
                  <a:pt x="23064" y="8790"/>
                  <a:pt x="23107" y="8709"/>
                </a:cubicBezTo>
                <a:cubicBezTo>
                  <a:pt x="23119" y="8687"/>
                  <a:pt x="23138" y="8631"/>
                  <a:pt x="23173" y="8621"/>
                </a:cubicBezTo>
                <a:cubicBezTo>
                  <a:pt x="23195" y="8621"/>
                  <a:pt x="23202" y="8621"/>
                  <a:pt x="23217" y="8621"/>
                </a:cubicBezTo>
                <a:cubicBezTo>
                  <a:pt x="23228" y="8642"/>
                  <a:pt x="23255" y="8687"/>
                  <a:pt x="23261" y="8709"/>
                </a:cubicBezTo>
                <a:cubicBezTo>
                  <a:pt x="23270" y="8742"/>
                  <a:pt x="23278" y="8793"/>
                  <a:pt x="23283" y="8819"/>
                </a:cubicBezTo>
                <a:cubicBezTo>
                  <a:pt x="23289" y="8848"/>
                  <a:pt x="23283" y="8834"/>
                  <a:pt x="23283" y="8864"/>
                </a:cubicBezTo>
                <a:cubicBezTo>
                  <a:pt x="23283" y="8808"/>
                  <a:pt x="23281" y="8776"/>
                  <a:pt x="23305" y="8731"/>
                </a:cubicBezTo>
                <a:cubicBezTo>
                  <a:pt x="23321" y="8701"/>
                  <a:pt x="23323" y="8671"/>
                  <a:pt x="23349" y="8643"/>
                </a:cubicBezTo>
                <a:cubicBezTo>
                  <a:pt x="23380" y="8610"/>
                  <a:pt x="23406" y="8602"/>
                  <a:pt x="23438" y="8577"/>
                </a:cubicBezTo>
                <a:cubicBezTo>
                  <a:pt x="23473" y="8612"/>
                  <a:pt x="23479" y="8618"/>
                  <a:pt x="23482" y="8665"/>
                </a:cubicBezTo>
                <a:cubicBezTo>
                  <a:pt x="23485" y="8720"/>
                  <a:pt x="23467" y="8730"/>
                  <a:pt x="23460" y="8775"/>
                </a:cubicBezTo>
                <a:cubicBezTo>
                  <a:pt x="23452" y="8824"/>
                  <a:pt x="23427" y="8878"/>
                  <a:pt x="23438" y="8930"/>
                </a:cubicBezTo>
                <a:cubicBezTo>
                  <a:pt x="23448" y="8976"/>
                  <a:pt x="23461" y="8972"/>
                  <a:pt x="23504" y="8974"/>
                </a:cubicBezTo>
                <a:cubicBezTo>
                  <a:pt x="23553" y="8976"/>
                  <a:pt x="23578" y="8959"/>
                  <a:pt x="23614" y="8952"/>
                </a:cubicBezTo>
                <a:cubicBezTo>
                  <a:pt x="23636" y="8952"/>
                  <a:pt x="23643" y="8952"/>
                  <a:pt x="23658" y="8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Ink 43"/>
          <p:cNvSpPr/>
          <p:nvPr/>
        </p:nvSpPr>
        <p:spPr>
          <a:xfrm>
            <a:off x="5707080" y="3373560"/>
            <a:ext cx="1214280" cy="341280"/>
          </a:xfrm>
          <a:custGeom>
            <a:avLst/>
            <a:gdLst/>
            <a:ahLst/>
            <a:rect l="l" t="t" r="r" b="b"/>
            <a:pathLst>
              <a:path w="3374" h="949">
                <a:moveTo>
                  <a:pt x="16073" y="9834"/>
                </a:moveTo>
                <a:cubicBezTo>
                  <a:pt x="16082" y="9869"/>
                  <a:pt x="16095" y="9883"/>
                  <a:pt x="16095" y="9922"/>
                </a:cubicBezTo>
                <a:cubicBezTo>
                  <a:pt x="16095" y="9962"/>
                  <a:pt x="16077" y="9974"/>
                  <a:pt x="16073" y="10010"/>
                </a:cubicBezTo>
                <a:cubicBezTo>
                  <a:pt x="16069" y="10050"/>
                  <a:pt x="16087" y="10064"/>
                  <a:pt x="16051" y="10076"/>
                </a:cubicBezTo>
                <a:cubicBezTo>
                  <a:pt x="16124" y="10076"/>
                  <a:pt x="16000" y="10076"/>
                  <a:pt x="16073" y="10076"/>
                </a:cubicBezTo>
              </a:path>
              <a:path w="3374" h="949">
                <a:moveTo>
                  <a:pt x="16118" y="9944"/>
                </a:moveTo>
                <a:cubicBezTo>
                  <a:pt x="16118" y="10014"/>
                  <a:pt x="16113" y="10080"/>
                  <a:pt x="16095" y="10120"/>
                </a:cubicBezTo>
                <a:cubicBezTo>
                  <a:pt x="16093" y="10125"/>
                  <a:pt x="16077" y="10183"/>
                  <a:pt x="16073" y="10186"/>
                </a:cubicBezTo>
                <a:cubicBezTo>
                  <a:pt x="16052" y="10203"/>
                  <a:pt x="16046" y="10209"/>
                  <a:pt x="16007" y="10209"/>
                </a:cubicBezTo>
                <a:cubicBezTo>
                  <a:pt x="16000" y="10209"/>
                  <a:pt x="15992" y="10209"/>
                  <a:pt x="15985" y="10209"/>
                </a:cubicBezTo>
                <a:cubicBezTo>
                  <a:pt x="15985" y="10154"/>
                  <a:pt x="15994" y="10128"/>
                  <a:pt x="16007" y="10076"/>
                </a:cubicBezTo>
                <a:cubicBezTo>
                  <a:pt x="16016" y="10040"/>
                  <a:pt x="16032" y="10015"/>
                  <a:pt x="16073" y="10010"/>
                </a:cubicBezTo>
                <a:cubicBezTo>
                  <a:pt x="16102" y="10007"/>
                  <a:pt x="16121" y="10009"/>
                  <a:pt x="16140" y="10032"/>
                </a:cubicBezTo>
                <a:cubicBezTo>
                  <a:pt x="16158" y="10055"/>
                  <a:pt x="16176" y="10048"/>
                  <a:pt x="16184" y="10076"/>
                </a:cubicBezTo>
                <a:cubicBezTo>
                  <a:pt x="16195" y="10116"/>
                  <a:pt x="16187" y="10137"/>
                  <a:pt x="16228" y="10142"/>
                </a:cubicBezTo>
                <a:cubicBezTo>
                  <a:pt x="16258" y="10146"/>
                  <a:pt x="16284" y="10134"/>
                  <a:pt x="16294" y="10120"/>
                </a:cubicBezTo>
                <a:cubicBezTo>
                  <a:pt x="16311" y="10096"/>
                  <a:pt x="16355" y="10063"/>
                  <a:pt x="16360" y="10054"/>
                </a:cubicBezTo>
                <a:cubicBezTo>
                  <a:pt x="16365" y="10044"/>
                  <a:pt x="16377" y="9970"/>
                  <a:pt x="16382" y="9966"/>
                </a:cubicBezTo>
                <a:cubicBezTo>
                  <a:pt x="16402" y="9950"/>
                  <a:pt x="16389" y="9912"/>
                  <a:pt x="16404" y="9900"/>
                </a:cubicBezTo>
                <a:cubicBezTo>
                  <a:pt x="16429" y="9880"/>
                  <a:pt x="16426" y="9881"/>
                  <a:pt x="16426" y="9834"/>
                </a:cubicBezTo>
                <a:cubicBezTo>
                  <a:pt x="16426" y="9786"/>
                  <a:pt x="16435" y="9758"/>
                  <a:pt x="16404" y="9723"/>
                </a:cubicBezTo>
                <a:cubicBezTo>
                  <a:pt x="16379" y="9695"/>
                  <a:pt x="16343" y="9697"/>
                  <a:pt x="16316" y="9679"/>
                </a:cubicBezTo>
                <a:cubicBezTo>
                  <a:pt x="16287" y="9660"/>
                  <a:pt x="16264" y="9639"/>
                  <a:pt x="16228" y="9635"/>
                </a:cubicBezTo>
                <a:cubicBezTo>
                  <a:pt x="16191" y="9631"/>
                  <a:pt x="16174" y="9617"/>
                  <a:pt x="16140" y="9613"/>
                </a:cubicBezTo>
                <a:cubicBezTo>
                  <a:pt x="16086" y="9607"/>
                  <a:pt x="16053" y="9606"/>
                  <a:pt x="16007" y="9591"/>
                </a:cubicBezTo>
                <a:cubicBezTo>
                  <a:pt x="15962" y="9576"/>
                  <a:pt x="15972" y="9609"/>
                  <a:pt x="15941" y="9613"/>
                </a:cubicBezTo>
                <a:cubicBezTo>
                  <a:pt x="15899" y="9618"/>
                  <a:pt x="15893" y="9626"/>
                  <a:pt x="15875" y="9635"/>
                </a:cubicBezTo>
                <a:cubicBezTo>
                  <a:pt x="15844" y="9650"/>
                  <a:pt x="15853" y="9658"/>
                  <a:pt x="15853" y="9701"/>
                </a:cubicBezTo>
                <a:cubicBezTo>
                  <a:pt x="15853" y="9748"/>
                  <a:pt x="15882" y="9745"/>
                  <a:pt x="15919" y="9745"/>
                </a:cubicBezTo>
                <a:cubicBezTo>
                  <a:pt x="15954" y="9745"/>
                  <a:pt x="15967" y="9768"/>
                  <a:pt x="16007" y="9768"/>
                </a:cubicBezTo>
                <a:cubicBezTo>
                  <a:pt x="16014" y="9768"/>
                  <a:pt x="16022" y="9768"/>
                  <a:pt x="16029" y="9768"/>
                </a:cubicBezTo>
              </a:path>
              <a:path w="3374" h="949">
                <a:moveTo>
                  <a:pt x="16470" y="9944"/>
                </a:moveTo>
                <a:cubicBezTo>
                  <a:pt x="16503" y="9939"/>
                  <a:pt x="16532" y="9938"/>
                  <a:pt x="16559" y="9922"/>
                </a:cubicBezTo>
                <a:cubicBezTo>
                  <a:pt x="16594" y="9900"/>
                  <a:pt x="16635" y="9899"/>
                  <a:pt x="16669" y="9878"/>
                </a:cubicBezTo>
                <a:cubicBezTo>
                  <a:pt x="16712" y="9851"/>
                  <a:pt x="16716" y="9846"/>
                  <a:pt x="16735" y="9790"/>
                </a:cubicBezTo>
                <a:cubicBezTo>
                  <a:pt x="16735" y="9783"/>
                  <a:pt x="16735" y="9775"/>
                  <a:pt x="16735" y="9768"/>
                </a:cubicBezTo>
                <a:cubicBezTo>
                  <a:pt x="16723" y="9758"/>
                  <a:pt x="16694" y="9730"/>
                  <a:pt x="16669" y="9723"/>
                </a:cubicBezTo>
                <a:cubicBezTo>
                  <a:pt x="16626" y="9710"/>
                  <a:pt x="16618" y="9732"/>
                  <a:pt x="16603" y="9745"/>
                </a:cubicBezTo>
                <a:cubicBezTo>
                  <a:pt x="16574" y="9769"/>
                  <a:pt x="16566" y="9820"/>
                  <a:pt x="16559" y="9856"/>
                </a:cubicBezTo>
                <a:cubicBezTo>
                  <a:pt x="16552" y="9894"/>
                  <a:pt x="16580" y="9917"/>
                  <a:pt x="16581" y="9922"/>
                </a:cubicBezTo>
                <a:cubicBezTo>
                  <a:pt x="16589" y="9961"/>
                  <a:pt x="16584" y="9964"/>
                  <a:pt x="16603" y="9988"/>
                </a:cubicBezTo>
                <a:cubicBezTo>
                  <a:pt x="16605" y="9990"/>
                  <a:pt x="16646" y="10031"/>
                  <a:pt x="16647" y="10032"/>
                </a:cubicBezTo>
                <a:cubicBezTo>
                  <a:pt x="16672" y="10048"/>
                  <a:pt x="16702" y="10052"/>
                  <a:pt x="16735" y="10054"/>
                </a:cubicBezTo>
                <a:cubicBezTo>
                  <a:pt x="16776" y="10056"/>
                  <a:pt x="16814" y="10034"/>
                  <a:pt x="16823" y="10032"/>
                </a:cubicBezTo>
                <a:cubicBezTo>
                  <a:pt x="16862" y="10024"/>
                  <a:pt x="16865" y="10029"/>
                  <a:pt x="16889" y="10010"/>
                </a:cubicBezTo>
                <a:cubicBezTo>
                  <a:pt x="16921" y="9985"/>
                  <a:pt x="16945" y="9976"/>
                  <a:pt x="16977" y="9944"/>
                </a:cubicBezTo>
                <a:cubicBezTo>
                  <a:pt x="16987" y="9934"/>
                  <a:pt x="17016" y="9906"/>
                  <a:pt x="17022" y="9878"/>
                </a:cubicBezTo>
                <a:cubicBezTo>
                  <a:pt x="17030" y="9840"/>
                  <a:pt x="16994" y="9713"/>
                  <a:pt x="16999" y="9701"/>
                </a:cubicBezTo>
                <a:cubicBezTo>
                  <a:pt x="17007" y="9701"/>
                  <a:pt x="17014" y="9701"/>
                  <a:pt x="17022" y="9701"/>
                </a:cubicBezTo>
                <a:cubicBezTo>
                  <a:pt x="17004" y="9735"/>
                  <a:pt x="17016" y="9709"/>
                  <a:pt x="17022" y="9768"/>
                </a:cubicBezTo>
                <a:cubicBezTo>
                  <a:pt x="17029" y="9839"/>
                  <a:pt x="17011" y="9888"/>
                  <a:pt x="16999" y="9944"/>
                </a:cubicBezTo>
                <a:cubicBezTo>
                  <a:pt x="16990" y="9987"/>
                  <a:pt x="16999" y="9988"/>
                  <a:pt x="16999" y="10032"/>
                </a:cubicBezTo>
                <a:cubicBezTo>
                  <a:pt x="16999" y="9971"/>
                  <a:pt x="16997" y="9931"/>
                  <a:pt x="17022" y="9900"/>
                </a:cubicBezTo>
                <a:cubicBezTo>
                  <a:pt x="17041" y="9877"/>
                  <a:pt x="17032" y="9866"/>
                  <a:pt x="17066" y="9856"/>
                </a:cubicBezTo>
                <a:cubicBezTo>
                  <a:pt x="17108" y="9844"/>
                  <a:pt x="17124" y="9872"/>
                  <a:pt x="17154" y="9878"/>
                </a:cubicBezTo>
                <a:cubicBezTo>
                  <a:pt x="17192" y="9886"/>
                  <a:pt x="17215" y="9878"/>
                  <a:pt x="17242" y="9856"/>
                </a:cubicBezTo>
                <a:cubicBezTo>
                  <a:pt x="17251" y="9849"/>
                  <a:pt x="17305" y="9797"/>
                  <a:pt x="17308" y="9790"/>
                </a:cubicBezTo>
                <a:cubicBezTo>
                  <a:pt x="17320" y="9760"/>
                  <a:pt x="17325" y="9746"/>
                  <a:pt x="17330" y="9723"/>
                </a:cubicBezTo>
                <a:cubicBezTo>
                  <a:pt x="17337" y="9687"/>
                  <a:pt x="17330" y="9694"/>
                  <a:pt x="17330" y="9657"/>
                </a:cubicBezTo>
                <a:cubicBezTo>
                  <a:pt x="17322" y="9670"/>
                  <a:pt x="17321" y="9698"/>
                  <a:pt x="17308" y="9723"/>
                </a:cubicBezTo>
                <a:cubicBezTo>
                  <a:pt x="17291" y="9757"/>
                  <a:pt x="17286" y="9775"/>
                  <a:pt x="17286" y="9834"/>
                </a:cubicBezTo>
                <a:cubicBezTo>
                  <a:pt x="17286" y="9876"/>
                  <a:pt x="17261" y="10058"/>
                  <a:pt x="17308" y="10076"/>
                </a:cubicBezTo>
                <a:cubicBezTo>
                  <a:pt x="17349" y="10092"/>
                  <a:pt x="17389" y="10055"/>
                  <a:pt x="17396" y="10054"/>
                </a:cubicBezTo>
                <a:cubicBezTo>
                  <a:pt x="17429" y="10047"/>
                  <a:pt x="17458" y="10049"/>
                  <a:pt x="17485" y="10032"/>
                </a:cubicBezTo>
                <a:cubicBezTo>
                  <a:pt x="17515" y="10014"/>
                  <a:pt x="17549" y="9988"/>
                  <a:pt x="17573" y="9966"/>
                </a:cubicBezTo>
                <a:cubicBezTo>
                  <a:pt x="17600" y="9942"/>
                  <a:pt x="17625" y="9914"/>
                  <a:pt x="17639" y="9900"/>
                </a:cubicBezTo>
                <a:cubicBezTo>
                  <a:pt x="17675" y="9864"/>
                  <a:pt x="17668" y="9834"/>
                  <a:pt x="17683" y="9790"/>
                </a:cubicBezTo>
                <a:cubicBezTo>
                  <a:pt x="17694" y="9757"/>
                  <a:pt x="17703" y="9739"/>
                  <a:pt x="17705" y="9701"/>
                </a:cubicBezTo>
                <a:cubicBezTo>
                  <a:pt x="17707" y="9660"/>
                  <a:pt x="17698" y="9659"/>
                  <a:pt x="17683" y="9635"/>
                </a:cubicBezTo>
                <a:cubicBezTo>
                  <a:pt x="17652" y="9653"/>
                  <a:pt x="17635" y="9661"/>
                  <a:pt x="17617" y="9679"/>
                </a:cubicBezTo>
                <a:cubicBezTo>
                  <a:pt x="17588" y="9708"/>
                  <a:pt x="17587" y="9721"/>
                  <a:pt x="17573" y="9745"/>
                </a:cubicBezTo>
                <a:cubicBezTo>
                  <a:pt x="17553" y="9778"/>
                  <a:pt x="17553" y="9814"/>
                  <a:pt x="17551" y="9856"/>
                </a:cubicBezTo>
                <a:cubicBezTo>
                  <a:pt x="17549" y="9889"/>
                  <a:pt x="17558" y="9920"/>
                  <a:pt x="17573" y="9944"/>
                </a:cubicBezTo>
                <a:cubicBezTo>
                  <a:pt x="17590" y="9972"/>
                  <a:pt x="17607" y="9992"/>
                  <a:pt x="17639" y="9988"/>
                </a:cubicBezTo>
                <a:cubicBezTo>
                  <a:pt x="17671" y="9984"/>
                  <a:pt x="17674" y="9953"/>
                  <a:pt x="17705" y="9944"/>
                </a:cubicBezTo>
                <a:cubicBezTo>
                  <a:pt x="17712" y="9944"/>
                  <a:pt x="17720" y="9944"/>
                  <a:pt x="17727" y="9944"/>
                </a:cubicBezTo>
              </a:path>
              <a:path w="3374" h="949">
                <a:moveTo>
                  <a:pt x="17903" y="9635"/>
                </a:moveTo>
                <a:cubicBezTo>
                  <a:pt x="17903" y="9695"/>
                  <a:pt x="17896" y="9738"/>
                  <a:pt x="17881" y="9768"/>
                </a:cubicBezTo>
                <a:cubicBezTo>
                  <a:pt x="17867" y="9795"/>
                  <a:pt x="17869" y="9870"/>
                  <a:pt x="17859" y="9900"/>
                </a:cubicBezTo>
                <a:cubicBezTo>
                  <a:pt x="17859" y="9925"/>
                  <a:pt x="17857" y="9935"/>
                  <a:pt x="17837" y="9944"/>
                </a:cubicBezTo>
                <a:cubicBezTo>
                  <a:pt x="17837" y="9894"/>
                  <a:pt x="17854" y="9914"/>
                  <a:pt x="17859" y="9878"/>
                </a:cubicBezTo>
                <a:cubicBezTo>
                  <a:pt x="17860" y="9871"/>
                  <a:pt x="17889" y="9802"/>
                  <a:pt x="17903" y="9790"/>
                </a:cubicBezTo>
                <a:cubicBezTo>
                  <a:pt x="17922" y="9774"/>
                  <a:pt x="17963" y="9768"/>
                  <a:pt x="17992" y="9768"/>
                </a:cubicBezTo>
                <a:cubicBezTo>
                  <a:pt x="18039" y="9768"/>
                  <a:pt x="18038" y="9755"/>
                  <a:pt x="18058" y="9745"/>
                </a:cubicBezTo>
                <a:cubicBezTo>
                  <a:pt x="18088" y="9730"/>
                  <a:pt x="18083" y="9704"/>
                  <a:pt x="18102" y="9679"/>
                </a:cubicBezTo>
                <a:cubicBezTo>
                  <a:pt x="18131" y="9640"/>
                  <a:pt x="18146" y="9641"/>
                  <a:pt x="18146" y="9591"/>
                </a:cubicBezTo>
                <a:cubicBezTo>
                  <a:pt x="18146" y="9554"/>
                  <a:pt x="18127" y="9606"/>
                  <a:pt x="18124" y="9613"/>
                </a:cubicBezTo>
                <a:cubicBezTo>
                  <a:pt x="18117" y="9628"/>
                  <a:pt x="18106" y="9709"/>
                  <a:pt x="18102" y="9723"/>
                </a:cubicBezTo>
                <a:cubicBezTo>
                  <a:pt x="18084" y="9795"/>
                  <a:pt x="18105" y="9906"/>
                  <a:pt x="18124" y="9944"/>
                </a:cubicBezTo>
                <a:cubicBezTo>
                  <a:pt x="18130" y="9955"/>
                  <a:pt x="18145" y="10000"/>
                  <a:pt x="18168" y="9988"/>
                </a:cubicBezTo>
                <a:cubicBezTo>
                  <a:pt x="18205" y="9970"/>
                  <a:pt x="18238" y="9954"/>
                  <a:pt x="18278" y="9944"/>
                </a:cubicBezTo>
              </a:path>
              <a:path w="3374" h="949">
                <a:moveTo>
                  <a:pt x="18477" y="9613"/>
                </a:moveTo>
                <a:cubicBezTo>
                  <a:pt x="18477" y="9658"/>
                  <a:pt x="18467" y="9665"/>
                  <a:pt x="18455" y="9701"/>
                </a:cubicBezTo>
                <a:cubicBezTo>
                  <a:pt x="18440" y="9745"/>
                  <a:pt x="18421" y="9781"/>
                  <a:pt x="18411" y="9834"/>
                </a:cubicBezTo>
                <a:cubicBezTo>
                  <a:pt x="18399" y="9895"/>
                  <a:pt x="18417" y="9940"/>
                  <a:pt x="18433" y="9988"/>
                </a:cubicBezTo>
                <a:cubicBezTo>
                  <a:pt x="18445" y="10023"/>
                  <a:pt x="18440" y="10023"/>
                  <a:pt x="18477" y="10032"/>
                </a:cubicBezTo>
                <a:cubicBezTo>
                  <a:pt x="18485" y="10057"/>
                  <a:pt x="18507" y="10072"/>
                  <a:pt x="18543" y="10076"/>
                </a:cubicBezTo>
                <a:cubicBezTo>
                  <a:pt x="18572" y="10076"/>
                  <a:pt x="18580" y="10083"/>
                  <a:pt x="18565" y="10120"/>
                </a:cubicBezTo>
              </a:path>
              <a:path w="3374" h="949">
                <a:moveTo>
                  <a:pt x="18543" y="9371"/>
                </a:moveTo>
                <a:cubicBezTo>
                  <a:pt x="18536" y="9378"/>
                  <a:pt x="18528" y="9386"/>
                  <a:pt x="18521" y="9393"/>
                </a:cubicBezTo>
              </a:path>
              <a:path w="3374" h="949">
                <a:moveTo>
                  <a:pt x="18763" y="9679"/>
                </a:moveTo>
                <a:cubicBezTo>
                  <a:pt x="18763" y="9728"/>
                  <a:pt x="18752" y="9746"/>
                  <a:pt x="18741" y="9768"/>
                </a:cubicBezTo>
                <a:cubicBezTo>
                  <a:pt x="18724" y="9803"/>
                  <a:pt x="18730" y="9879"/>
                  <a:pt x="18719" y="9900"/>
                </a:cubicBezTo>
                <a:cubicBezTo>
                  <a:pt x="18719" y="9922"/>
                  <a:pt x="18719" y="9929"/>
                  <a:pt x="18719" y="9944"/>
                </a:cubicBezTo>
                <a:cubicBezTo>
                  <a:pt x="18694" y="9932"/>
                  <a:pt x="18719" y="9924"/>
                  <a:pt x="18719" y="9878"/>
                </a:cubicBezTo>
                <a:cubicBezTo>
                  <a:pt x="18719" y="9868"/>
                  <a:pt x="18738" y="9771"/>
                  <a:pt x="18741" y="9768"/>
                </a:cubicBezTo>
                <a:cubicBezTo>
                  <a:pt x="18745" y="9764"/>
                  <a:pt x="18784" y="9723"/>
                  <a:pt x="18785" y="9723"/>
                </a:cubicBezTo>
                <a:cubicBezTo>
                  <a:pt x="18838" y="9697"/>
                  <a:pt x="18950" y="9720"/>
                  <a:pt x="19006" y="9701"/>
                </a:cubicBezTo>
                <a:cubicBezTo>
                  <a:pt x="19050" y="9686"/>
                  <a:pt x="19056" y="9695"/>
                  <a:pt x="19094" y="9657"/>
                </a:cubicBezTo>
                <a:cubicBezTo>
                  <a:pt x="19117" y="9634"/>
                  <a:pt x="19135" y="9613"/>
                  <a:pt x="19138" y="9591"/>
                </a:cubicBezTo>
                <a:cubicBezTo>
                  <a:pt x="19138" y="9584"/>
                  <a:pt x="19138" y="9576"/>
                  <a:pt x="19138" y="9569"/>
                </a:cubicBezTo>
                <a:cubicBezTo>
                  <a:pt x="19128" y="9572"/>
                  <a:pt x="19080" y="9603"/>
                  <a:pt x="19072" y="9613"/>
                </a:cubicBezTo>
                <a:cubicBezTo>
                  <a:pt x="19048" y="9643"/>
                  <a:pt x="19041" y="9692"/>
                  <a:pt x="19028" y="9723"/>
                </a:cubicBezTo>
                <a:cubicBezTo>
                  <a:pt x="19006" y="9775"/>
                  <a:pt x="19006" y="9799"/>
                  <a:pt x="19006" y="9856"/>
                </a:cubicBezTo>
                <a:cubicBezTo>
                  <a:pt x="19006" y="9895"/>
                  <a:pt x="19012" y="9900"/>
                  <a:pt x="19028" y="9922"/>
                </a:cubicBezTo>
                <a:cubicBezTo>
                  <a:pt x="19050" y="9944"/>
                  <a:pt x="19057" y="9951"/>
                  <a:pt x="19072" y="9966"/>
                </a:cubicBezTo>
                <a:cubicBezTo>
                  <a:pt x="19093" y="9959"/>
                  <a:pt x="19113" y="9958"/>
                  <a:pt x="19138" y="9944"/>
                </a:cubicBezTo>
                <a:cubicBezTo>
                  <a:pt x="19176" y="9923"/>
                  <a:pt x="19173" y="9910"/>
                  <a:pt x="19204" y="9900"/>
                </a:cubicBezTo>
                <a:cubicBezTo>
                  <a:pt x="19237" y="9911"/>
                  <a:pt x="19226" y="9926"/>
                  <a:pt x="19226" y="9966"/>
                </a:cubicBezTo>
                <a:cubicBezTo>
                  <a:pt x="19226" y="10004"/>
                  <a:pt x="19216" y="10042"/>
                  <a:pt x="19204" y="10076"/>
                </a:cubicBezTo>
                <a:cubicBezTo>
                  <a:pt x="19192" y="10109"/>
                  <a:pt x="19166" y="10186"/>
                  <a:pt x="19138" y="10209"/>
                </a:cubicBezTo>
                <a:cubicBezTo>
                  <a:pt x="19125" y="10220"/>
                  <a:pt x="19070" y="10266"/>
                  <a:pt x="19050" y="10275"/>
                </a:cubicBezTo>
                <a:cubicBezTo>
                  <a:pt x="19019" y="10289"/>
                  <a:pt x="18972" y="10315"/>
                  <a:pt x="18940" y="10319"/>
                </a:cubicBezTo>
                <a:cubicBezTo>
                  <a:pt x="18891" y="10324"/>
                  <a:pt x="18872" y="10307"/>
                  <a:pt x="18852" y="10297"/>
                </a:cubicBezTo>
                <a:cubicBezTo>
                  <a:pt x="18839" y="10291"/>
                  <a:pt x="18781" y="10286"/>
                  <a:pt x="18785" y="10275"/>
                </a:cubicBezTo>
                <a:cubicBezTo>
                  <a:pt x="18796" y="10242"/>
                  <a:pt x="18813" y="10222"/>
                  <a:pt x="18830" y="10209"/>
                </a:cubicBezTo>
                <a:cubicBezTo>
                  <a:pt x="18869" y="10179"/>
                  <a:pt x="18914" y="10136"/>
                  <a:pt x="18962" y="10120"/>
                </a:cubicBezTo>
                <a:cubicBezTo>
                  <a:pt x="18969" y="10120"/>
                  <a:pt x="18977" y="10120"/>
                  <a:pt x="18984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Ink 44"/>
          <p:cNvSpPr/>
          <p:nvPr/>
        </p:nvSpPr>
        <p:spPr>
          <a:xfrm>
            <a:off x="7104240" y="3278160"/>
            <a:ext cx="1992240" cy="412920"/>
          </a:xfrm>
          <a:custGeom>
            <a:avLst/>
            <a:gdLst/>
            <a:ahLst/>
            <a:rect l="l" t="t" r="r" b="b"/>
            <a:pathLst>
              <a:path w="5535" h="1148">
                <a:moveTo>
                  <a:pt x="20086" y="9768"/>
                </a:moveTo>
                <a:cubicBezTo>
                  <a:pt x="20086" y="9722"/>
                  <a:pt x="20073" y="9720"/>
                  <a:pt x="20064" y="9701"/>
                </a:cubicBezTo>
                <a:cubicBezTo>
                  <a:pt x="20056" y="9685"/>
                  <a:pt x="20031" y="9660"/>
                  <a:pt x="19998" y="9679"/>
                </a:cubicBezTo>
                <a:cubicBezTo>
                  <a:pt x="19964" y="9698"/>
                  <a:pt x="19919" y="9703"/>
                  <a:pt x="19888" y="9723"/>
                </a:cubicBezTo>
                <a:cubicBezTo>
                  <a:pt x="19851" y="9747"/>
                  <a:pt x="19844" y="9751"/>
                  <a:pt x="19822" y="9790"/>
                </a:cubicBezTo>
                <a:cubicBezTo>
                  <a:pt x="19799" y="9830"/>
                  <a:pt x="19784" y="9868"/>
                  <a:pt x="19756" y="9900"/>
                </a:cubicBezTo>
                <a:cubicBezTo>
                  <a:pt x="19715" y="9947"/>
                  <a:pt x="19744" y="9942"/>
                  <a:pt x="19756" y="9966"/>
                </a:cubicBezTo>
                <a:cubicBezTo>
                  <a:pt x="19776" y="10006"/>
                  <a:pt x="19739" y="10010"/>
                  <a:pt x="19800" y="10010"/>
                </a:cubicBezTo>
                <a:cubicBezTo>
                  <a:pt x="19846" y="10010"/>
                  <a:pt x="19840" y="10015"/>
                  <a:pt x="19888" y="10010"/>
                </a:cubicBezTo>
                <a:cubicBezTo>
                  <a:pt x="19923" y="10006"/>
                  <a:pt x="19968" y="10003"/>
                  <a:pt x="19998" y="9988"/>
                </a:cubicBezTo>
                <a:cubicBezTo>
                  <a:pt x="20030" y="9972"/>
                  <a:pt x="20053" y="9936"/>
                  <a:pt x="20086" y="9922"/>
                </a:cubicBezTo>
                <a:cubicBezTo>
                  <a:pt x="20101" y="9915"/>
                  <a:pt x="20139" y="9903"/>
                  <a:pt x="20152" y="9878"/>
                </a:cubicBezTo>
                <a:cubicBezTo>
                  <a:pt x="20166" y="9849"/>
                  <a:pt x="20184" y="9840"/>
                  <a:pt x="20197" y="9790"/>
                </a:cubicBezTo>
                <a:cubicBezTo>
                  <a:pt x="20207" y="9750"/>
                  <a:pt x="20199" y="9706"/>
                  <a:pt x="20174" y="9679"/>
                </a:cubicBezTo>
                <a:cubicBezTo>
                  <a:pt x="20148" y="9650"/>
                  <a:pt x="20123" y="9617"/>
                  <a:pt x="20086" y="9613"/>
                </a:cubicBezTo>
                <a:cubicBezTo>
                  <a:pt x="20049" y="9609"/>
                  <a:pt x="20032" y="9595"/>
                  <a:pt x="19998" y="9591"/>
                </a:cubicBezTo>
                <a:cubicBezTo>
                  <a:pt x="19962" y="9587"/>
                  <a:pt x="19940" y="9572"/>
                  <a:pt x="19932" y="9547"/>
                </a:cubicBezTo>
                <a:cubicBezTo>
                  <a:pt x="19940" y="9522"/>
                  <a:pt x="19985" y="9482"/>
                  <a:pt x="20020" y="9459"/>
                </a:cubicBezTo>
                <a:cubicBezTo>
                  <a:pt x="20059" y="9433"/>
                  <a:pt x="20108" y="9419"/>
                  <a:pt x="20152" y="9415"/>
                </a:cubicBezTo>
                <a:cubicBezTo>
                  <a:pt x="20159" y="9415"/>
                  <a:pt x="20167" y="9415"/>
                  <a:pt x="20174" y="9415"/>
                </a:cubicBezTo>
              </a:path>
              <a:path w="5535" h="1148">
                <a:moveTo>
                  <a:pt x="20395" y="9635"/>
                </a:moveTo>
                <a:cubicBezTo>
                  <a:pt x="20395" y="9680"/>
                  <a:pt x="20385" y="9687"/>
                  <a:pt x="20373" y="9723"/>
                </a:cubicBezTo>
                <a:cubicBezTo>
                  <a:pt x="20373" y="9745"/>
                  <a:pt x="20373" y="9753"/>
                  <a:pt x="20373" y="9768"/>
                </a:cubicBezTo>
                <a:cubicBezTo>
                  <a:pt x="20338" y="9780"/>
                  <a:pt x="20364" y="9778"/>
                  <a:pt x="20329" y="9790"/>
                </a:cubicBezTo>
                <a:cubicBezTo>
                  <a:pt x="20329" y="9839"/>
                  <a:pt x="20342" y="9844"/>
                  <a:pt x="20307" y="9856"/>
                </a:cubicBezTo>
                <a:cubicBezTo>
                  <a:pt x="20307" y="9896"/>
                  <a:pt x="20289" y="9908"/>
                  <a:pt x="20285" y="9944"/>
                </a:cubicBezTo>
                <a:cubicBezTo>
                  <a:pt x="20285" y="9951"/>
                  <a:pt x="20285" y="9959"/>
                  <a:pt x="20285" y="9966"/>
                </a:cubicBezTo>
                <a:cubicBezTo>
                  <a:pt x="20304" y="9972"/>
                  <a:pt x="20319" y="10006"/>
                  <a:pt x="20351" y="9988"/>
                </a:cubicBezTo>
                <a:cubicBezTo>
                  <a:pt x="20384" y="9970"/>
                  <a:pt x="20423" y="9948"/>
                  <a:pt x="20461" y="9944"/>
                </a:cubicBezTo>
                <a:cubicBezTo>
                  <a:pt x="20468" y="9944"/>
                  <a:pt x="20476" y="9944"/>
                  <a:pt x="20483" y="9944"/>
                </a:cubicBezTo>
              </a:path>
              <a:path w="5535" h="1148">
                <a:moveTo>
                  <a:pt x="20461" y="9393"/>
                </a:moveTo>
                <a:cubicBezTo>
                  <a:pt x="20439" y="9393"/>
                  <a:pt x="20432" y="9393"/>
                  <a:pt x="20439" y="9415"/>
                </a:cubicBezTo>
              </a:path>
              <a:path w="5535" h="1148">
                <a:moveTo>
                  <a:pt x="20660" y="9657"/>
                </a:moveTo>
                <a:cubicBezTo>
                  <a:pt x="20633" y="9691"/>
                  <a:pt x="20637" y="9701"/>
                  <a:pt x="20637" y="9745"/>
                </a:cubicBezTo>
                <a:cubicBezTo>
                  <a:pt x="20637" y="9772"/>
                  <a:pt x="20626" y="9854"/>
                  <a:pt x="20615" y="9878"/>
                </a:cubicBezTo>
                <a:cubicBezTo>
                  <a:pt x="20600" y="9912"/>
                  <a:pt x="20587" y="9957"/>
                  <a:pt x="20571" y="9988"/>
                </a:cubicBezTo>
                <a:cubicBezTo>
                  <a:pt x="20549" y="10032"/>
                  <a:pt x="20518" y="10069"/>
                  <a:pt x="20505" y="10120"/>
                </a:cubicBezTo>
                <a:cubicBezTo>
                  <a:pt x="20497" y="10153"/>
                  <a:pt x="20485" y="10182"/>
                  <a:pt x="20461" y="10209"/>
                </a:cubicBezTo>
                <a:cubicBezTo>
                  <a:pt x="20439" y="10231"/>
                  <a:pt x="20432" y="10238"/>
                  <a:pt x="20417" y="10253"/>
                </a:cubicBezTo>
                <a:cubicBezTo>
                  <a:pt x="20417" y="10215"/>
                  <a:pt x="20423" y="10208"/>
                  <a:pt x="20439" y="10186"/>
                </a:cubicBezTo>
                <a:cubicBezTo>
                  <a:pt x="20460" y="10158"/>
                  <a:pt x="20467" y="10095"/>
                  <a:pt x="20483" y="10076"/>
                </a:cubicBezTo>
                <a:cubicBezTo>
                  <a:pt x="20495" y="10062"/>
                  <a:pt x="20511" y="10035"/>
                  <a:pt x="20527" y="10010"/>
                </a:cubicBezTo>
                <a:cubicBezTo>
                  <a:pt x="20546" y="9982"/>
                  <a:pt x="20554" y="9947"/>
                  <a:pt x="20571" y="9922"/>
                </a:cubicBezTo>
                <a:cubicBezTo>
                  <a:pt x="20590" y="9893"/>
                  <a:pt x="20630" y="9867"/>
                  <a:pt x="20637" y="9834"/>
                </a:cubicBezTo>
                <a:cubicBezTo>
                  <a:pt x="20646" y="9792"/>
                  <a:pt x="20659" y="9758"/>
                  <a:pt x="20682" y="9723"/>
                </a:cubicBezTo>
                <a:cubicBezTo>
                  <a:pt x="20691" y="9709"/>
                  <a:pt x="20719" y="9640"/>
                  <a:pt x="20726" y="9635"/>
                </a:cubicBezTo>
                <a:cubicBezTo>
                  <a:pt x="20734" y="9630"/>
                  <a:pt x="20786" y="9620"/>
                  <a:pt x="20792" y="9613"/>
                </a:cubicBezTo>
                <a:cubicBezTo>
                  <a:pt x="20812" y="9588"/>
                  <a:pt x="20811" y="9591"/>
                  <a:pt x="20858" y="9591"/>
                </a:cubicBezTo>
                <a:cubicBezTo>
                  <a:pt x="20890" y="9591"/>
                  <a:pt x="20921" y="9623"/>
                  <a:pt x="20902" y="9657"/>
                </a:cubicBezTo>
                <a:cubicBezTo>
                  <a:pt x="20885" y="9688"/>
                  <a:pt x="20862" y="9708"/>
                  <a:pt x="20858" y="9745"/>
                </a:cubicBezTo>
                <a:cubicBezTo>
                  <a:pt x="20853" y="9787"/>
                  <a:pt x="20836" y="9767"/>
                  <a:pt x="20836" y="9834"/>
                </a:cubicBezTo>
                <a:cubicBezTo>
                  <a:pt x="20836" y="9858"/>
                  <a:pt x="20858" y="9875"/>
                  <a:pt x="20880" y="9878"/>
                </a:cubicBezTo>
                <a:cubicBezTo>
                  <a:pt x="20925" y="9884"/>
                  <a:pt x="20933" y="9868"/>
                  <a:pt x="20968" y="9856"/>
                </a:cubicBezTo>
                <a:cubicBezTo>
                  <a:pt x="20992" y="9848"/>
                  <a:pt x="21040" y="9854"/>
                  <a:pt x="21056" y="9834"/>
                </a:cubicBezTo>
                <a:cubicBezTo>
                  <a:pt x="21096" y="9785"/>
                  <a:pt x="21066" y="9790"/>
                  <a:pt x="21123" y="9790"/>
                </a:cubicBezTo>
              </a:path>
              <a:path w="5535" h="1148">
                <a:moveTo>
                  <a:pt x="21211" y="9591"/>
                </a:moveTo>
                <a:cubicBezTo>
                  <a:pt x="21218" y="9591"/>
                  <a:pt x="21226" y="9591"/>
                  <a:pt x="21233" y="9591"/>
                </a:cubicBezTo>
              </a:path>
              <a:path w="5535" h="1148">
                <a:moveTo>
                  <a:pt x="21145" y="9701"/>
                </a:moveTo>
                <a:cubicBezTo>
                  <a:pt x="21138" y="9701"/>
                  <a:pt x="21130" y="9701"/>
                  <a:pt x="21123" y="9701"/>
                </a:cubicBezTo>
                <a:cubicBezTo>
                  <a:pt x="21134" y="9735"/>
                  <a:pt x="21145" y="9720"/>
                  <a:pt x="21145" y="9768"/>
                </a:cubicBezTo>
                <a:cubicBezTo>
                  <a:pt x="21145" y="9775"/>
                  <a:pt x="21145" y="9783"/>
                  <a:pt x="21145" y="9790"/>
                </a:cubicBezTo>
                <a:cubicBezTo>
                  <a:pt x="21176" y="9780"/>
                  <a:pt x="21170" y="9755"/>
                  <a:pt x="21189" y="9745"/>
                </a:cubicBezTo>
                <a:cubicBezTo>
                  <a:pt x="21215" y="9731"/>
                  <a:pt x="21224" y="9728"/>
                  <a:pt x="21255" y="9701"/>
                </a:cubicBezTo>
                <a:cubicBezTo>
                  <a:pt x="21289" y="9671"/>
                  <a:pt x="21294" y="9644"/>
                  <a:pt x="21321" y="9613"/>
                </a:cubicBezTo>
                <a:cubicBezTo>
                  <a:pt x="21343" y="9588"/>
                  <a:pt x="21362" y="9571"/>
                  <a:pt x="21365" y="9547"/>
                </a:cubicBezTo>
                <a:cubicBezTo>
                  <a:pt x="21369" y="9511"/>
                  <a:pt x="21365" y="9473"/>
                  <a:pt x="21365" y="9437"/>
                </a:cubicBezTo>
                <a:cubicBezTo>
                  <a:pt x="21365" y="9495"/>
                  <a:pt x="21349" y="9464"/>
                  <a:pt x="21343" y="9525"/>
                </a:cubicBezTo>
                <a:cubicBezTo>
                  <a:pt x="21343" y="9530"/>
                  <a:pt x="21322" y="9612"/>
                  <a:pt x="21321" y="9613"/>
                </a:cubicBezTo>
                <a:cubicBezTo>
                  <a:pt x="21274" y="9650"/>
                  <a:pt x="21344" y="9628"/>
                  <a:pt x="21321" y="9679"/>
                </a:cubicBezTo>
                <a:cubicBezTo>
                  <a:pt x="21302" y="9723"/>
                  <a:pt x="21321" y="9684"/>
                  <a:pt x="21321" y="9745"/>
                </a:cubicBezTo>
                <a:cubicBezTo>
                  <a:pt x="21321" y="9770"/>
                  <a:pt x="21330" y="9821"/>
                  <a:pt x="21343" y="9834"/>
                </a:cubicBezTo>
                <a:cubicBezTo>
                  <a:pt x="21359" y="9850"/>
                  <a:pt x="21404" y="9856"/>
                  <a:pt x="21431" y="9856"/>
                </a:cubicBezTo>
                <a:cubicBezTo>
                  <a:pt x="21460" y="9856"/>
                  <a:pt x="21477" y="9856"/>
                  <a:pt x="21497" y="9834"/>
                </a:cubicBezTo>
                <a:cubicBezTo>
                  <a:pt x="21515" y="9798"/>
                  <a:pt x="21513" y="9783"/>
                  <a:pt x="21541" y="9790"/>
                </a:cubicBezTo>
              </a:path>
              <a:path w="5535" h="1148">
                <a:moveTo>
                  <a:pt x="21608" y="9569"/>
                </a:moveTo>
                <a:cubicBezTo>
                  <a:pt x="21608" y="9591"/>
                  <a:pt x="21608" y="9598"/>
                  <a:pt x="21608" y="9613"/>
                </a:cubicBezTo>
                <a:cubicBezTo>
                  <a:pt x="21575" y="9624"/>
                  <a:pt x="21586" y="9639"/>
                  <a:pt x="21586" y="9679"/>
                </a:cubicBezTo>
                <a:cubicBezTo>
                  <a:pt x="21586" y="9686"/>
                  <a:pt x="21586" y="9694"/>
                  <a:pt x="21586" y="9701"/>
                </a:cubicBezTo>
                <a:cubicBezTo>
                  <a:pt x="21623" y="9701"/>
                  <a:pt x="21659" y="9701"/>
                  <a:pt x="21696" y="9701"/>
                </a:cubicBezTo>
                <a:cubicBezTo>
                  <a:pt x="21696" y="9679"/>
                  <a:pt x="21696" y="9672"/>
                  <a:pt x="21718" y="9679"/>
                </a:cubicBezTo>
              </a:path>
              <a:path w="5535" h="1148">
                <a:moveTo>
                  <a:pt x="21630" y="9305"/>
                </a:moveTo>
                <a:cubicBezTo>
                  <a:pt x="21621" y="9333"/>
                  <a:pt x="21583" y="9342"/>
                  <a:pt x="21608" y="9327"/>
                </a:cubicBezTo>
                <a:cubicBezTo>
                  <a:pt x="21628" y="9307"/>
                  <a:pt x="21635" y="9297"/>
                  <a:pt x="21630" y="9327"/>
                </a:cubicBezTo>
              </a:path>
              <a:path w="5535" h="1148">
                <a:moveTo>
                  <a:pt x="21872" y="9613"/>
                </a:moveTo>
                <a:cubicBezTo>
                  <a:pt x="21851" y="9641"/>
                  <a:pt x="21845" y="9675"/>
                  <a:pt x="21828" y="9701"/>
                </a:cubicBezTo>
                <a:cubicBezTo>
                  <a:pt x="21820" y="9713"/>
                  <a:pt x="21764" y="9788"/>
                  <a:pt x="21762" y="9790"/>
                </a:cubicBezTo>
                <a:cubicBezTo>
                  <a:pt x="21751" y="9797"/>
                  <a:pt x="21681" y="9845"/>
                  <a:pt x="21674" y="9856"/>
                </a:cubicBezTo>
                <a:cubicBezTo>
                  <a:pt x="21661" y="9876"/>
                  <a:pt x="21641" y="9929"/>
                  <a:pt x="21652" y="9900"/>
                </a:cubicBezTo>
                <a:cubicBezTo>
                  <a:pt x="21662" y="9874"/>
                  <a:pt x="21653" y="9844"/>
                  <a:pt x="21674" y="9834"/>
                </a:cubicBezTo>
                <a:cubicBezTo>
                  <a:pt x="21704" y="9819"/>
                  <a:pt x="21695" y="9779"/>
                  <a:pt x="21718" y="9768"/>
                </a:cubicBezTo>
                <a:cubicBezTo>
                  <a:pt x="21733" y="9761"/>
                  <a:pt x="21771" y="9748"/>
                  <a:pt x="21784" y="9723"/>
                </a:cubicBezTo>
                <a:cubicBezTo>
                  <a:pt x="21796" y="9698"/>
                  <a:pt x="21821" y="9686"/>
                  <a:pt x="21850" y="9657"/>
                </a:cubicBezTo>
                <a:cubicBezTo>
                  <a:pt x="21873" y="9634"/>
                  <a:pt x="21894" y="9616"/>
                  <a:pt x="21916" y="9613"/>
                </a:cubicBezTo>
                <a:cubicBezTo>
                  <a:pt x="21954" y="9608"/>
                  <a:pt x="21968" y="9576"/>
                  <a:pt x="21982" y="9569"/>
                </a:cubicBezTo>
                <a:cubicBezTo>
                  <a:pt x="22005" y="9569"/>
                  <a:pt x="22012" y="9569"/>
                  <a:pt x="22027" y="9569"/>
                </a:cubicBezTo>
                <a:cubicBezTo>
                  <a:pt x="22027" y="9616"/>
                  <a:pt x="22016" y="9602"/>
                  <a:pt x="22005" y="9635"/>
                </a:cubicBezTo>
              </a:path>
              <a:path w="5535" h="1148">
                <a:moveTo>
                  <a:pt x="21806" y="9679"/>
                </a:moveTo>
                <a:cubicBezTo>
                  <a:pt x="21840" y="9654"/>
                  <a:pt x="21851" y="9657"/>
                  <a:pt x="21894" y="9657"/>
                </a:cubicBezTo>
                <a:cubicBezTo>
                  <a:pt x="21911" y="9707"/>
                  <a:pt x="21914" y="9664"/>
                  <a:pt x="21894" y="9723"/>
                </a:cubicBezTo>
                <a:cubicBezTo>
                  <a:pt x="21894" y="9730"/>
                  <a:pt x="21894" y="9738"/>
                  <a:pt x="21894" y="9745"/>
                </a:cubicBezTo>
                <a:cubicBezTo>
                  <a:pt x="21863" y="9756"/>
                  <a:pt x="21872" y="9752"/>
                  <a:pt x="21872" y="9790"/>
                </a:cubicBezTo>
                <a:cubicBezTo>
                  <a:pt x="21914" y="9790"/>
                  <a:pt x="21942" y="9772"/>
                  <a:pt x="21982" y="9768"/>
                </a:cubicBezTo>
                <a:cubicBezTo>
                  <a:pt x="22005" y="9768"/>
                  <a:pt x="22012" y="9768"/>
                  <a:pt x="22027" y="9768"/>
                </a:cubicBezTo>
              </a:path>
              <a:path w="5535" h="1148">
                <a:moveTo>
                  <a:pt x="22423" y="9569"/>
                </a:moveTo>
                <a:cubicBezTo>
                  <a:pt x="22414" y="9604"/>
                  <a:pt x="22401" y="9618"/>
                  <a:pt x="22401" y="9657"/>
                </a:cubicBezTo>
                <a:cubicBezTo>
                  <a:pt x="22401" y="9689"/>
                  <a:pt x="22421" y="9720"/>
                  <a:pt x="22445" y="9723"/>
                </a:cubicBezTo>
                <a:cubicBezTo>
                  <a:pt x="22496" y="9729"/>
                  <a:pt x="22476" y="9706"/>
                  <a:pt x="22512" y="9701"/>
                </a:cubicBezTo>
                <a:cubicBezTo>
                  <a:pt x="22540" y="9698"/>
                  <a:pt x="22569" y="9696"/>
                  <a:pt x="22578" y="9679"/>
                </a:cubicBezTo>
                <a:cubicBezTo>
                  <a:pt x="22589" y="9657"/>
                  <a:pt x="22615" y="9648"/>
                  <a:pt x="22622" y="9635"/>
                </a:cubicBezTo>
                <a:cubicBezTo>
                  <a:pt x="22633" y="9613"/>
                  <a:pt x="22659" y="9604"/>
                  <a:pt x="22666" y="9591"/>
                </a:cubicBezTo>
                <a:cubicBezTo>
                  <a:pt x="22666" y="9584"/>
                  <a:pt x="22666" y="9576"/>
                  <a:pt x="22666" y="9569"/>
                </a:cubicBezTo>
                <a:cubicBezTo>
                  <a:pt x="22666" y="9619"/>
                  <a:pt x="22649" y="9599"/>
                  <a:pt x="22644" y="9635"/>
                </a:cubicBezTo>
                <a:cubicBezTo>
                  <a:pt x="22642" y="9653"/>
                  <a:pt x="22631" y="9707"/>
                  <a:pt x="22622" y="9723"/>
                </a:cubicBezTo>
                <a:cubicBezTo>
                  <a:pt x="22603" y="9757"/>
                  <a:pt x="22588" y="9793"/>
                  <a:pt x="22578" y="9834"/>
                </a:cubicBezTo>
                <a:cubicBezTo>
                  <a:pt x="22567" y="9878"/>
                  <a:pt x="22552" y="9882"/>
                  <a:pt x="22534" y="9922"/>
                </a:cubicBezTo>
                <a:cubicBezTo>
                  <a:pt x="22522" y="9948"/>
                  <a:pt x="22499" y="9983"/>
                  <a:pt x="22490" y="10010"/>
                </a:cubicBezTo>
                <a:cubicBezTo>
                  <a:pt x="22485" y="10025"/>
                  <a:pt x="22469" y="10064"/>
                  <a:pt x="22445" y="10076"/>
                </a:cubicBezTo>
                <a:cubicBezTo>
                  <a:pt x="22393" y="10102"/>
                  <a:pt x="22415" y="10033"/>
                  <a:pt x="22401" y="10120"/>
                </a:cubicBezTo>
                <a:cubicBezTo>
                  <a:pt x="22382" y="10091"/>
                  <a:pt x="22351" y="10062"/>
                  <a:pt x="22335" y="10054"/>
                </a:cubicBezTo>
                <a:cubicBezTo>
                  <a:pt x="22324" y="10048"/>
                  <a:pt x="22279" y="10033"/>
                  <a:pt x="22291" y="10010"/>
                </a:cubicBezTo>
                <a:cubicBezTo>
                  <a:pt x="22319" y="9954"/>
                  <a:pt x="22327" y="9983"/>
                  <a:pt x="22379" y="9944"/>
                </a:cubicBezTo>
                <a:cubicBezTo>
                  <a:pt x="22438" y="9899"/>
                  <a:pt x="22493" y="9900"/>
                  <a:pt x="22556" y="9856"/>
                </a:cubicBezTo>
                <a:cubicBezTo>
                  <a:pt x="22585" y="9827"/>
                  <a:pt x="22600" y="9812"/>
                  <a:pt x="22622" y="9790"/>
                </a:cubicBezTo>
              </a:path>
              <a:path w="5535" h="1148">
                <a:moveTo>
                  <a:pt x="22997" y="9547"/>
                </a:moveTo>
                <a:cubicBezTo>
                  <a:pt x="22986" y="9514"/>
                  <a:pt x="22971" y="9525"/>
                  <a:pt x="22931" y="9525"/>
                </a:cubicBezTo>
                <a:cubicBezTo>
                  <a:pt x="22880" y="9525"/>
                  <a:pt x="22861" y="9533"/>
                  <a:pt x="22820" y="9547"/>
                </a:cubicBezTo>
                <a:cubicBezTo>
                  <a:pt x="22770" y="9564"/>
                  <a:pt x="22799" y="9569"/>
                  <a:pt x="22754" y="9591"/>
                </a:cubicBezTo>
                <a:cubicBezTo>
                  <a:pt x="22723" y="9606"/>
                  <a:pt x="22732" y="9614"/>
                  <a:pt x="22732" y="9657"/>
                </a:cubicBezTo>
                <a:cubicBezTo>
                  <a:pt x="22732" y="9693"/>
                  <a:pt x="22766" y="9682"/>
                  <a:pt x="22776" y="9701"/>
                </a:cubicBezTo>
                <a:cubicBezTo>
                  <a:pt x="22791" y="9732"/>
                  <a:pt x="22799" y="9723"/>
                  <a:pt x="22842" y="9723"/>
                </a:cubicBezTo>
                <a:cubicBezTo>
                  <a:pt x="22865" y="9723"/>
                  <a:pt x="22920" y="9717"/>
                  <a:pt x="22931" y="9701"/>
                </a:cubicBezTo>
                <a:cubicBezTo>
                  <a:pt x="22936" y="9694"/>
                  <a:pt x="22967" y="9641"/>
                  <a:pt x="22975" y="9635"/>
                </a:cubicBezTo>
                <a:cubicBezTo>
                  <a:pt x="22982" y="9635"/>
                  <a:pt x="22990" y="9635"/>
                  <a:pt x="22997" y="9635"/>
                </a:cubicBezTo>
                <a:cubicBezTo>
                  <a:pt x="22991" y="9616"/>
                  <a:pt x="22957" y="9601"/>
                  <a:pt x="22975" y="9569"/>
                </a:cubicBezTo>
                <a:cubicBezTo>
                  <a:pt x="22997" y="9530"/>
                  <a:pt x="22969" y="9473"/>
                  <a:pt x="22975" y="9459"/>
                </a:cubicBezTo>
                <a:cubicBezTo>
                  <a:pt x="22982" y="9459"/>
                  <a:pt x="22990" y="9459"/>
                  <a:pt x="22997" y="9459"/>
                </a:cubicBezTo>
                <a:cubicBezTo>
                  <a:pt x="22997" y="9530"/>
                  <a:pt x="22999" y="9576"/>
                  <a:pt x="23019" y="9635"/>
                </a:cubicBezTo>
                <a:cubicBezTo>
                  <a:pt x="23024" y="9649"/>
                  <a:pt x="23039" y="9689"/>
                  <a:pt x="23063" y="9701"/>
                </a:cubicBezTo>
                <a:cubicBezTo>
                  <a:pt x="23102" y="9720"/>
                  <a:pt x="23145" y="9688"/>
                  <a:pt x="23173" y="9679"/>
                </a:cubicBezTo>
                <a:cubicBezTo>
                  <a:pt x="23206" y="9668"/>
                  <a:pt x="23223" y="9657"/>
                  <a:pt x="23261" y="9657"/>
                </a:cubicBezTo>
              </a:path>
              <a:path w="5535" h="1148">
                <a:moveTo>
                  <a:pt x="23305" y="9437"/>
                </a:moveTo>
                <a:cubicBezTo>
                  <a:pt x="23341" y="9449"/>
                  <a:pt x="23327" y="9480"/>
                  <a:pt x="23327" y="9525"/>
                </a:cubicBezTo>
                <a:cubicBezTo>
                  <a:pt x="23327" y="9566"/>
                  <a:pt x="23333" y="9582"/>
                  <a:pt x="23305" y="9613"/>
                </a:cubicBezTo>
                <a:cubicBezTo>
                  <a:pt x="23277" y="9644"/>
                  <a:pt x="23254" y="9670"/>
                  <a:pt x="23217" y="9679"/>
                </a:cubicBezTo>
                <a:cubicBezTo>
                  <a:pt x="23217" y="9634"/>
                  <a:pt x="23230" y="9632"/>
                  <a:pt x="23239" y="9613"/>
                </a:cubicBezTo>
                <a:cubicBezTo>
                  <a:pt x="23248" y="9594"/>
                  <a:pt x="23279" y="9545"/>
                  <a:pt x="23283" y="9525"/>
                </a:cubicBezTo>
                <a:cubicBezTo>
                  <a:pt x="23295" y="9467"/>
                  <a:pt x="23305" y="9458"/>
                  <a:pt x="23349" y="9415"/>
                </a:cubicBezTo>
                <a:cubicBezTo>
                  <a:pt x="23367" y="9397"/>
                  <a:pt x="23429" y="9384"/>
                  <a:pt x="23438" y="9371"/>
                </a:cubicBezTo>
                <a:cubicBezTo>
                  <a:pt x="23454" y="9347"/>
                  <a:pt x="23461" y="9397"/>
                  <a:pt x="23438" y="9415"/>
                </a:cubicBezTo>
                <a:cubicBezTo>
                  <a:pt x="23414" y="9434"/>
                  <a:pt x="23405" y="9425"/>
                  <a:pt x="23394" y="9459"/>
                </a:cubicBezTo>
              </a:path>
              <a:path w="5535" h="1148">
                <a:moveTo>
                  <a:pt x="23261" y="9547"/>
                </a:moveTo>
                <a:cubicBezTo>
                  <a:pt x="23268" y="9547"/>
                  <a:pt x="23276" y="9547"/>
                  <a:pt x="23283" y="9547"/>
                </a:cubicBezTo>
                <a:cubicBezTo>
                  <a:pt x="23294" y="9514"/>
                  <a:pt x="23309" y="9525"/>
                  <a:pt x="23349" y="9525"/>
                </a:cubicBezTo>
              </a:path>
              <a:path w="5535" h="1148">
                <a:moveTo>
                  <a:pt x="23372" y="9591"/>
                </a:moveTo>
                <a:cubicBezTo>
                  <a:pt x="23394" y="9591"/>
                  <a:pt x="23401" y="9591"/>
                  <a:pt x="23416" y="9591"/>
                </a:cubicBezTo>
                <a:cubicBezTo>
                  <a:pt x="23416" y="9636"/>
                  <a:pt x="23406" y="9643"/>
                  <a:pt x="23394" y="9679"/>
                </a:cubicBezTo>
                <a:cubicBezTo>
                  <a:pt x="23384" y="9708"/>
                  <a:pt x="23381" y="9741"/>
                  <a:pt x="23372" y="9768"/>
                </a:cubicBezTo>
                <a:cubicBezTo>
                  <a:pt x="23360" y="9804"/>
                  <a:pt x="23352" y="9834"/>
                  <a:pt x="23349" y="9856"/>
                </a:cubicBezTo>
                <a:cubicBezTo>
                  <a:pt x="23346" y="9880"/>
                  <a:pt x="23329" y="9897"/>
                  <a:pt x="23305" y="9900"/>
                </a:cubicBezTo>
                <a:cubicBezTo>
                  <a:pt x="23263" y="9905"/>
                  <a:pt x="23216" y="9900"/>
                  <a:pt x="23173" y="9900"/>
                </a:cubicBezTo>
                <a:cubicBezTo>
                  <a:pt x="23193" y="9874"/>
                  <a:pt x="23207" y="9848"/>
                  <a:pt x="23217" y="9834"/>
                </a:cubicBezTo>
                <a:cubicBezTo>
                  <a:pt x="23256" y="9780"/>
                  <a:pt x="23229" y="9749"/>
                  <a:pt x="23305" y="9723"/>
                </a:cubicBezTo>
                <a:cubicBezTo>
                  <a:pt x="23337" y="9712"/>
                  <a:pt x="23360" y="9698"/>
                  <a:pt x="23394" y="9679"/>
                </a:cubicBezTo>
              </a:path>
              <a:path w="5535" h="1148">
                <a:moveTo>
                  <a:pt x="23636" y="9371"/>
                </a:moveTo>
                <a:cubicBezTo>
                  <a:pt x="23615" y="9378"/>
                  <a:pt x="23595" y="9416"/>
                  <a:pt x="23592" y="9437"/>
                </a:cubicBezTo>
                <a:cubicBezTo>
                  <a:pt x="23589" y="9461"/>
                  <a:pt x="23544" y="9521"/>
                  <a:pt x="23570" y="9547"/>
                </a:cubicBezTo>
                <a:cubicBezTo>
                  <a:pt x="23591" y="9568"/>
                  <a:pt x="23588" y="9578"/>
                  <a:pt x="23614" y="9591"/>
                </a:cubicBezTo>
                <a:cubicBezTo>
                  <a:pt x="23627" y="9597"/>
                  <a:pt x="23665" y="9591"/>
                  <a:pt x="23680" y="9591"/>
                </a:cubicBezTo>
                <a:cubicBezTo>
                  <a:pt x="23680" y="9542"/>
                  <a:pt x="23699" y="9561"/>
                  <a:pt x="23702" y="9525"/>
                </a:cubicBezTo>
                <a:cubicBezTo>
                  <a:pt x="23708" y="9450"/>
                  <a:pt x="23708" y="9507"/>
                  <a:pt x="23724" y="9459"/>
                </a:cubicBezTo>
                <a:cubicBezTo>
                  <a:pt x="23713" y="9426"/>
                  <a:pt x="23674" y="9438"/>
                  <a:pt x="23658" y="9415"/>
                </a:cubicBezTo>
                <a:cubicBezTo>
                  <a:pt x="23641" y="9389"/>
                  <a:pt x="23657" y="9393"/>
                  <a:pt x="23614" y="9393"/>
                </a:cubicBezTo>
                <a:cubicBezTo>
                  <a:pt x="23653" y="9419"/>
                  <a:pt x="23623" y="9393"/>
                  <a:pt x="23680" y="9393"/>
                </a:cubicBezTo>
                <a:cubicBezTo>
                  <a:pt x="23712" y="9393"/>
                  <a:pt x="23744" y="9387"/>
                  <a:pt x="23768" y="9371"/>
                </a:cubicBezTo>
                <a:cubicBezTo>
                  <a:pt x="23789" y="9357"/>
                  <a:pt x="23829" y="9330"/>
                  <a:pt x="23835" y="9327"/>
                </a:cubicBezTo>
                <a:cubicBezTo>
                  <a:pt x="23876" y="9306"/>
                  <a:pt x="23907" y="9354"/>
                  <a:pt x="23923" y="9305"/>
                </a:cubicBezTo>
                <a:cubicBezTo>
                  <a:pt x="23899" y="9313"/>
                  <a:pt x="23882" y="9321"/>
                  <a:pt x="23879" y="9349"/>
                </a:cubicBezTo>
                <a:cubicBezTo>
                  <a:pt x="23875" y="9377"/>
                  <a:pt x="23864" y="9388"/>
                  <a:pt x="23857" y="9415"/>
                </a:cubicBezTo>
                <a:cubicBezTo>
                  <a:pt x="23885" y="9436"/>
                  <a:pt x="23898" y="9457"/>
                  <a:pt x="23923" y="9459"/>
                </a:cubicBezTo>
                <a:cubicBezTo>
                  <a:pt x="23988" y="9464"/>
                  <a:pt x="24056" y="9459"/>
                  <a:pt x="24121" y="9459"/>
                </a:cubicBezTo>
              </a:path>
              <a:path w="5535" h="1148">
                <a:moveTo>
                  <a:pt x="24276" y="9327"/>
                </a:moveTo>
                <a:cubicBezTo>
                  <a:pt x="24255" y="9334"/>
                  <a:pt x="24241" y="9363"/>
                  <a:pt x="24231" y="9393"/>
                </a:cubicBezTo>
                <a:cubicBezTo>
                  <a:pt x="24221" y="9424"/>
                  <a:pt x="24232" y="9504"/>
                  <a:pt x="24209" y="9481"/>
                </a:cubicBezTo>
                <a:cubicBezTo>
                  <a:pt x="24185" y="9457"/>
                  <a:pt x="24226" y="9407"/>
                  <a:pt x="24231" y="9393"/>
                </a:cubicBezTo>
                <a:cubicBezTo>
                  <a:pt x="24246" y="9349"/>
                  <a:pt x="24277" y="9340"/>
                  <a:pt x="24320" y="9327"/>
                </a:cubicBezTo>
                <a:cubicBezTo>
                  <a:pt x="24349" y="9318"/>
                  <a:pt x="24381" y="9308"/>
                  <a:pt x="24408" y="9305"/>
                </a:cubicBezTo>
                <a:cubicBezTo>
                  <a:pt x="24431" y="9302"/>
                  <a:pt x="24450" y="9329"/>
                  <a:pt x="24452" y="9349"/>
                </a:cubicBezTo>
                <a:cubicBezTo>
                  <a:pt x="24456" y="9384"/>
                  <a:pt x="24416" y="9404"/>
                  <a:pt x="24408" y="9437"/>
                </a:cubicBezTo>
                <a:cubicBezTo>
                  <a:pt x="24408" y="9390"/>
                  <a:pt x="24418" y="9383"/>
                  <a:pt x="24452" y="9349"/>
                </a:cubicBezTo>
                <a:cubicBezTo>
                  <a:pt x="24483" y="9318"/>
                  <a:pt x="24529" y="9328"/>
                  <a:pt x="24562" y="9305"/>
                </a:cubicBezTo>
                <a:cubicBezTo>
                  <a:pt x="24597" y="9280"/>
                  <a:pt x="24605" y="9282"/>
                  <a:pt x="24650" y="9282"/>
                </a:cubicBezTo>
                <a:cubicBezTo>
                  <a:pt x="24672" y="9282"/>
                  <a:pt x="24679" y="9282"/>
                  <a:pt x="24694" y="9282"/>
                </a:cubicBezTo>
                <a:cubicBezTo>
                  <a:pt x="24681" y="9336"/>
                  <a:pt x="24649" y="9307"/>
                  <a:pt x="24628" y="9349"/>
                </a:cubicBezTo>
                <a:cubicBezTo>
                  <a:pt x="24628" y="9356"/>
                  <a:pt x="24628" y="9364"/>
                  <a:pt x="24628" y="9371"/>
                </a:cubicBezTo>
                <a:cubicBezTo>
                  <a:pt x="24676" y="9371"/>
                  <a:pt x="24701" y="9376"/>
                  <a:pt x="24739" y="9349"/>
                </a:cubicBezTo>
              </a:path>
              <a:path w="5535" h="1148">
                <a:moveTo>
                  <a:pt x="24871" y="9238"/>
                </a:moveTo>
                <a:cubicBezTo>
                  <a:pt x="24857" y="9257"/>
                  <a:pt x="24830" y="9300"/>
                  <a:pt x="24827" y="9305"/>
                </a:cubicBezTo>
                <a:cubicBezTo>
                  <a:pt x="24814" y="9332"/>
                  <a:pt x="24836" y="9309"/>
                  <a:pt x="24849" y="9282"/>
                </a:cubicBezTo>
                <a:cubicBezTo>
                  <a:pt x="24859" y="9262"/>
                  <a:pt x="24880" y="9183"/>
                  <a:pt x="24893" y="9172"/>
                </a:cubicBezTo>
                <a:cubicBezTo>
                  <a:pt x="24920" y="9150"/>
                  <a:pt x="24963" y="9128"/>
                  <a:pt x="25003" y="9128"/>
                </a:cubicBezTo>
                <a:cubicBezTo>
                  <a:pt x="25010" y="9128"/>
                  <a:pt x="25018" y="9128"/>
                  <a:pt x="25025" y="9128"/>
                </a:cubicBezTo>
                <a:cubicBezTo>
                  <a:pt x="25025" y="9165"/>
                  <a:pt x="25005" y="9186"/>
                  <a:pt x="25003" y="9194"/>
                </a:cubicBezTo>
                <a:cubicBezTo>
                  <a:pt x="24979" y="9283"/>
                  <a:pt x="24975" y="9250"/>
                  <a:pt x="25003" y="9194"/>
                </a:cubicBezTo>
                <a:cubicBezTo>
                  <a:pt x="25019" y="9162"/>
                  <a:pt x="25037" y="9144"/>
                  <a:pt x="25069" y="9128"/>
                </a:cubicBezTo>
                <a:cubicBezTo>
                  <a:pt x="25088" y="9119"/>
                  <a:pt x="25138" y="9108"/>
                  <a:pt x="25157" y="9106"/>
                </a:cubicBezTo>
                <a:cubicBezTo>
                  <a:pt x="25180" y="9106"/>
                  <a:pt x="25187" y="9106"/>
                  <a:pt x="25202" y="9106"/>
                </a:cubicBezTo>
                <a:cubicBezTo>
                  <a:pt x="25202" y="9144"/>
                  <a:pt x="25196" y="9151"/>
                  <a:pt x="25180" y="9172"/>
                </a:cubicBezTo>
                <a:cubicBezTo>
                  <a:pt x="25154" y="9197"/>
                  <a:pt x="25146" y="9208"/>
                  <a:pt x="25157" y="9238"/>
                </a:cubicBezTo>
                <a:cubicBezTo>
                  <a:pt x="25193" y="9215"/>
                  <a:pt x="25165" y="9194"/>
                  <a:pt x="25224" y="9194"/>
                </a:cubicBezTo>
                <a:cubicBezTo>
                  <a:pt x="25260" y="9194"/>
                  <a:pt x="25235" y="9183"/>
                  <a:pt x="25268" y="91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Ink 45"/>
          <p:cNvSpPr/>
          <p:nvPr/>
        </p:nvSpPr>
        <p:spPr>
          <a:xfrm>
            <a:off x="5786280" y="3611520"/>
            <a:ext cx="2063880" cy="325440"/>
          </a:xfrm>
          <a:custGeom>
            <a:avLst/>
            <a:gdLst/>
            <a:ahLst/>
            <a:rect l="l" t="t" r="r" b="b"/>
            <a:pathLst>
              <a:path w="5734" h="905">
                <a:moveTo>
                  <a:pt x="16118" y="10561"/>
                </a:moveTo>
                <a:cubicBezTo>
                  <a:pt x="16118" y="10539"/>
                  <a:pt x="16118" y="10531"/>
                  <a:pt x="16095" y="10539"/>
                </a:cubicBezTo>
                <a:cubicBezTo>
                  <a:pt x="16096" y="10536"/>
                  <a:pt x="16115" y="10476"/>
                  <a:pt x="16118" y="10473"/>
                </a:cubicBezTo>
                <a:cubicBezTo>
                  <a:pt x="16149" y="10448"/>
                  <a:pt x="16182" y="10494"/>
                  <a:pt x="16184" y="10495"/>
                </a:cubicBezTo>
                <a:cubicBezTo>
                  <a:pt x="16215" y="10511"/>
                  <a:pt x="16209" y="10513"/>
                  <a:pt x="16228" y="10539"/>
                </a:cubicBezTo>
                <a:cubicBezTo>
                  <a:pt x="16253" y="10573"/>
                  <a:pt x="16250" y="10584"/>
                  <a:pt x="16250" y="10627"/>
                </a:cubicBezTo>
                <a:cubicBezTo>
                  <a:pt x="16250" y="10682"/>
                  <a:pt x="16241" y="10712"/>
                  <a:pt x="16228" y="10738"/>
                </a:cubicBezTo>
                <a:cubicBezTo>
                  <a:pt x="16216" y="10763"/>
                  <a:pt x="16228" y="10793"/>
                  <a:pt x="16206" y="10804"/>
                </a:cubicBezTo>
                <a:cubicBezTo>
                  <a:pt x="16178" y="10818"/>
                  <a:pt x="16174" y="10822"/>
                  <a:pt x="16140" y="10848"/>
                </a:cubicBezTo>
                <a:cubicBezTo>
                  <a:pt x="16107" y="10837"/>
                  <a:pt x="16113" y="10828"/>
                  <a:pt x="16095" y="10804"/>
                </a:cubicBezTo>
                <a:cubicBezTo>
                  <a:pt x="16088" y="10797"/>
                  <a:pt x="16080" y="10789"/>
                  <a:pt x="16073" y="10782"/>
                </a:cubicBezTo>
              </a:path>
              <a:path w="5734" h="905">
                <a:moveTo>
                  <a:pt x="16272" y="10672"/>
                </a:moveTo>
                <a:cubicBezTo>
                  <a:pt x="16293" y="10643"/>
                  <a:pt x="16299" y="10609"/>
                  <a:pt x="16316" y="10583"/>
                </a:cubicBezTo>
                <a:cubicBezTo>
                  <a:pt x="16335" y="10554"/>
                  <a:pt x="16361" y="10524"/>
                  <a:pt x="16382" y="10517"/>
                </a:cubicBezTo>
                <a:cubicBezTo>
                  <a:pt x="16382" y="10537"/>
                  <a:pt x="16382" y="10656"/>
                  <a:pt x="16382" y="10605"/>
                </a:cubicBezTo>
                <a:cubicBezTo>
                  <a:pt x="16382" y="10572"/>
                  <a:pt x="16413" y="10578"/>
                  <a:pt x="16426" y="10539"/>
                </a:cubicBezTo>
                <a:cubicBezTo>
                  <a:pt x="16427" y="10536"/>
                  <a:pt x="16445" y="10475"/>
                  <a:pt x="16448" y="10473"/>
                </a:cubicBezTo>
                <a:cubicBezTo>
                  <a:pt x="16461" y="10462"/>
                  <a:pt x="16501" y="10437"/>
                  <a:pt x="16514" y="10407"/>
                </a:cubicBezTo>
                <a:cubicBezTo>
                  <a:pt x="16533" y="10363"/>
                  <a:pt x="16525" y="10409"/>
                  <a:pt x="16536" y="10341"/>
                </a:cubicBezTo>
                <a:cubicBezTo>
                  <a:pt x="16548" y="10409"/>
                  <a:pt x="16563" y="10371"/>
                  <a:pt x="16581" y="10407"/>
                </a:cubicBezTo>
                <a:cubicBezTo>
                  <a:pt x="16594" y="10433"/>
                  <a:pt x="16572" y="10407"/>
                  <a:pt x="16536" y="10407"/>
                </a:cubicBezTo>
                <a:cubicBezTo>
                  <a:pt x="16514" y="10407"/>
                  <a:pt x="16507" y="10407"/>
                  <a:pt x="16492" y="10407"/>
                </a:cubicBezTo>
                <a:cubicBezTo>
                  <a:pt x="16492" y="10482"/>
                  <a:pt x="16492" y="10561"/>
                  <a:pt x="16514" y="10605"/>
                </a:cubicBezTo>
                <a:cubicBezTo>
                  <a:pt x="16534" y="10645"/>
                  <a:pt x="16532" y="10617"/>
                  <a:pt x="16559" y="10583"/>
                </a:cubicBezTo>
              </a:path>
              <a:path w="5734" h="905">
                <a:moveTo>
                  <a:pt x="16757" y="10297"/>
                </a:moveTo>
                <a:cubicBezTo>
                  <a:pt x="16757" y="10326"/>
                  <a:pt x="16758" y="10403"/>
                  <a:pt x="16757" y="10407"/>
                </a:cubicBezTo>
                <a:cubicBezTo>
                  <a:pt x="16750" y="10429"/>
                  <a:pt x="16744" y="10495"/>
                  <a:pt x="16735" y="10517"/>
                </a:cubicBezTo>
                <a:cubicBezTo>
                  <a:pt x="16720" y="10552"/>
                  <a:pt x="16702" y="10591"/>
                  <a:pt x="16691" y="10627"/>
                </a:cubicBezTo>
                <a:cubicBezTo>
                  <a:pt x="16691" y="10649"/>
                  <a:pt x="16691" y="10657"/>
                  <a:pt x="16691" y="10672"/>
                </a:cubicBezTo>
                <a:cubicBezTo>
                  <a:pt x="16713" y="10664"/>
                  <a:pt x="16731" y="10663"/>
                  <a:pt x="16757" y="10649"/>
                </a:cubicBezTo>
                <a:cubicBezTo>
                  <a:pt x="16774" y="10639"/>
                  <a:pt x="16820" y="10610"/>
                  <a:pt x="16823" y="10605"/>
                </a:cubicBezTo>
                <a:cubicBezTo>
                  <a:pt x="16834" y="10583"/>
                  <a:pt x="16843" y="10556"/>
                  <a:pt x="16845" y="10539"/>
                </a:cubicBezTo>
                <a:cubicBezTo>
                  <a:pt x="16847" y="10521"/>
                  <a:pt x="16858" y="10467"/>
                  <a:pt x="16867" y="10451"/>
                </a:cubicBezTo>
                <a:cubicBezTo>
                  <a:pt x="16886" y="10417"/>
                  <a:pt x="16909" y="10415"/>
                  <a:pt x="16911" y="10385"/>
                </a:cubicBezTo>
                <a:cubicBezTo>
                  <a:pt x="16914" y="10348"/>
                  <a:pt x="16910" y="10309"/>
                  <a:pt x="16933" y="10297"/>
                </a:cubicBezTo>
                <a:cubicBezTo>
                  <a:pt x="16960" y="10284"/>
                  <a:pt x="16955" y="10243"/>
                  <a:pt x="16955" y="10275"/>
                </a:cubicBezTo>
                <a:cubicBezTo>
                  <a:pt x="16955" y="10322"/>
                  <a:pt x="16937" y="10337"/>
                  <a:pt x="16933" y="10385"/>
                </a:cubicBezTo>
                <a:cubicBezTo>
                  <a:pt x="16930" y="10424"/>
                  <a:pt x="16900" y="10439"/>
                  <a:pt x="16889" y="10473"/>
                </a:cubicBezTo>
                <a:cubicBezTo>
                  <a:pt x="16878" y="10507"/>
                  <a:pt x="16867" y="10550"/>
                  <a:pt x="16845" y="10583"/>
                </a:cubicBezTo>
                <a:cubicBezTo>
                  <a:pt x="16823" y="10615"/>
                  <a:pt x="16791" y="10636"/>
                  <a:pt x="16779" y="10672"/>
                </a:cubicBezTo>
                <a:cubicBezTo>
                  <a:pt x="16772" y="10693"/>
                  <a:pt x="16771" y="10713"/>
                  <a:pt x="16757" y="10738"/>
                </a:cubicBezTo>
                <a:cubicBezTo>
                  <a:pt x="16741" y="10766"/>
                  <a:pt x="16760" y="10806"/>
                  <a:pt x="16735" y="10826"/>
                </a:cubicBezTo>
                <a:cubicBezTo>
                  <a:pt x="16719" y="10839"/>
                  <a:pt x="16702" y="10860"/>
                  <a:pt x="16691" y="10892"/>
                </a:cubicBezTo>
                <a:cubicBezTo>
                  <a:pt x="16679" y="10927"/>
                  <a:pt x="16681" y="10901"/>
                  <a:pt x="16669" y="10936"/>
                </a:cubicBezTo>
                <a:cubicBezTo>
                  <a:pt x="16670" y="10933"/>
                  <a:pt x="16688" y="10872"/>
                  <a:pt x="16691" y="10870"/>
                </a:cubicBezTo>
                <a:cubicBezTo>
                  <a:pt x="16716" y="10850"/>
                  <a:pt x="16705" y="10837"/>
                  <a:pt x="16735" y="10804"/>
                </a:cubicBezTo>
                <a:cubicBezTo>
                  <a:pt x="16776" y="10758"/>
                  <a:pt x="16823" y="10716"/>
                  <a:pt x="16867" y="10672"/>
                </a:cubicBezTo>
              </a:path>
              <a:path w="5734" h="905">
                <a:moveTo>
                  <a:pt x="17088" y="10275"/>
                </a:moveTo>
                <a:cubicBezTo>
                  <a:pt x="17104" y="10330"/>
                  <a:pt x="17092" y="10321"/>
                  <a:pt x="17088" y="10385"/>
                </a:cubicBezTo>
                <a:cubicBezTo>
                  <a:pt x="17086" y="10418"/>
                  <a:pt x="17082" y="10447"/>
                  <a:pt x="17066" y="10473"/>
                </a:cubicBezTo>
                <a:cubicBezTo>
                  <a:pt x="17041" y="10513"/>
                  <a:pt x="17025" y="10555"/>
                  <a:pt x="17022" y="10605"/>
                </a:cubicBezTo>
                <a:cubicBezTo>
                  <a:pt x="17019" y="10648"/>
                  <a:pt x="17001" y="10704"/>
                  <a:pt x="16999" y="10716"/>
                </a:cubicBezTo>
                <a:cubicBezTo>
                  <a:pt x="16989" y="10762"/>
                  <a:pt x="17001" y="10736"/>
                  <a:pt x="16977" y="10760"/>
                </a:cubicBezTo>
                <a:cubicBezTo>
                  <a:pt x="16986" y="10735"/>
                  <a:pt x="16987" y="10695"/>
                  <a:pt x="16999" y="10672"/>
                </a:cubicBezTo>
                <a:cubicBezTo>
                  <a:pt x="17012" y="10647"/>
                  <a:pt x="17030" y="10604"/>
                  <a:pt x="17044" y="10583"/>
                </a:cubicBezTo>
                <a:cubicBezTo>
                  <a:pt x="17065" y="10552"/>
                  <a:pt x="17072" y="10526"/>
                  <a:pt x="17088" y="10495"/>
                </a:cubicBezTo>
                <a:cubicBezTo>
                  <a:pt x="17097" y="10477"/>
                  <a:pt x="17128" y="10426"/>
                  <a:pt x="17132" y="10407"/>
                </a:cubicBezTo>
                <a:cubicBezTo>
                  <a:pt x="17141" y="10362"/>
                  <a:pt x="17133" y="10345"/>
                  <a:pt x="17154" y="10319"/>
                </a:cubicBezTo>
                <a:cubicBezTo>
                  <a:pt x="17177" y="10291"/>
                  <a:pt x="17182" y="10264"/>
                  <a:pt x="17220" y="10253"/>
                </a:cubicBezTo>
                <a:cubicBezTo>
                  <a:pt x="17240" y="10247"/>
                  <a:pt x="17266" y="10256"/>
                  <a:pt x="17286" y="10253"/>
                </a:cubicBezTo>
                <a:cubicBezTo>
                  <a:pt x="17286" y="10306"/>
                  <a:pt x="17272" y="10336"/>
                  <a:pt x="17264" y="10385"/>
                </a:cubicBezTo>
                <a:cubicBezTo>
                  <a:pt x="17259" y="10418"/>
                  <a:pt x="17238" y="10432"/>
                  <a:pt x="17242" y="10451"/>
                </a:cubicBezTo>
                <a:cubicBezTo>
                  <a:pt x="17247" y="10477"/>
                  <a:pt x="17268" y="10479"/>
                  <a:pt x="17286" y="10473"/>
                </a:cubicBezTo>
                <a:cubicBezTo>
                  <a:pt x="17314" y="10464"/>
                  <a:pt x="17287" y="10472"/>
                  <a:pt x="17308" y="10451"/>
                </a:cubicBezTo>
                <a:cubicBezTo>
                  <a:pt x="17322" y="10437"/>
                  <a:pt x="17353" y="10423"/>
                  <a:pt x="17374" y="10407"/>
                </a:cubicBezTo>
                <a:cubicBezTo>
                  <a:pt x="17411" y="10379"/>
                  <a:pt x="17420" y="10364"/>
                  <a:pt x="17440" y="10341"/>
                </a:cubicBezTo>
                <a:cubicBezTo>
                  <a:pt x="17450" y="10329"/>
                  <a:pt x="17515" y="10279"/>
                  <a:pt x="17529" y="10275"/>
                </a:cubicBezTo>
                <a:cubicBezTo>
                  <a:pt x="17575" y="10262"/>
                  <a:pt x="17600" y="10283"/>
                  <a:pt x="17617" y="10297"/>
                </a:cubicBezTo>
                <a:cubicBezTo>
                  <a:pt x="17651" y="10324"/>
                  <a:pt x="17639" y="10377"/>
                  <a:pt x="17617" y="10407"/>
                </a:cubicBezTo>
                <a:cubicBezTo>
                  <a:pt x="17607" y="10421"/>
                  <a:pt x="17539" y="10463"/>
                  <a:pt x="17529" y="10473"/>
                </a:cubicBezTo>
                <a:cubicBezTo>
                  <a:pt x="17495" y="10507"/>
                  <a:pt x="17502" y="10527"/>
                  <a:pt x="17529" y="10561"/>
                </a:cubicBezTo>
                <a:cubicBezTo>
                  <a:pt x="17555" y="10594"/>
                  <a:pt x="17580" y="10581"/>
                  <a:pt x="17617" y="10583"/>
                </a:cubicBezTo>
                <a:cubicBezTo>
                  <a:pt x="17678" y="10586"/>
                  <a:pt x="17722" y="10571"/>
                  <a:pt x="17771" y="10561"/>
                </a:cubicBezTo>
                <a:cubicBezTo>
                  <a:pt x="17814" y="10552"/>
                  <a:pt x="17822" y="10569"/>
                  <a:pt x="17859" y="10539"/>
                </a:cubicBezTo>
                <a:cubicBezTo>
                  <a:pt x="17882" y="10521"/>
                  <a:pt x="17875" y="10503"/>
                  <a:pt x="17903" y="10495"/>
                </a:cubicBezTo>
                <a:cubicBezTo>
                  <a:pt x="17942" y="10484"/>
                  <a:pt x="17945" y="10493"/>
                  <a:pt x="17970" y="10473"/>
                </a:cubicBezTo>
                <a:cubicBezTo>
                  <a:pt x="17973" y="10470"/>
                  <a:pt x="18011" y="10422"/>
                  <a:pt x="18014" y="10407"/>
                </a:cubicBezTo>
                <a:cubicBezTo>
                  <a:pt x="18024" y="10361"/>
                  <a:pt x="18016" y="10330"/>
                  <a:pt x="17992" y="10297"/>
                </a:cubicBezTo>
                <a:cubicBezTo>
                  <a:pt x="17978" y="10278"/>
                  <a:pt x="17958" y="10280"/>
                  <a:pt x="17926" y="10275"/>
                </a:cubicBezTo>
                <a:cubicBezTo>
                  <a:pt x="17909" y="10303"/>
                  <a:pt x="17890" y="10310"/>
                  <a:pt x="17881" y="10341"/>
                </a:cubicBezTo>
                <a:cubicBezTo>
                  <a:pt x="17870" y="10380"/>
                  <a:pt x="17861" y="10409"/>
                  <a:pt x="17859" y="10451"/>
                </a:cubicBezTo>
                <a:cubicBezTo>
                  <a:pt x="17857" y="10492"/>
                  <a:pt x="17856" y="10508"/>
                  <a:pt x="17881" y="10539"/>
                </a:cubicBezTo>
                <a:cubicBezTo>
                  <a:pt x="17915" y="10581"/>
                  <a:pt x="17932" y="10548"/>
                  <a:pt x="17970" y="10539"/>
                </a:cubicBezTo>
              </a:path>
              <a:path w="5734" h="905">
                <a:moveTo>
                  <a:pt x="18168" y="10231"/>
                </a:moveTo>
                <a:cubicBezTo>
                  <a:pt x="18168" y="10276"/>
                  <a:pt x="18158" y="10283"/>
                  <a:pt x="18146" y="10319"/>
                </a:cubicBezTo>
                <a:cubicBezTo>
                  <a:pt x="18137" y="10347"/>
                  <a:pt x="18150" y="10411"/>
                  <a:pt x="18124" y="10429"/>
                </a:cubicBezTo>
                <a:cubicBezTo>
                  <a:pt x="18107" y="10440"/>
                  <a:pt x="18090" y="10464"/>
                  <a:pt x="18080" y="10495"/>
                </a:cubicBezTo>
                <a:cubicBezTo>
                  <a:pt x="18080" y="10517"/>
                  <a:pt x="18080" y="10524"/>
                  <a:pt x="18058" y="10517"/>
                </a:cubicBezTo>
                <a:cubicBezTo>
                  <a:pt x="18067" y="10491"/>
                  <a:pt x="18076" y="10480"/>
                  <a:pt x="18102" y="10451"/>
                </a:cubicBezTo>
                <a:cubicBezTo>
                  <a:pt x="18124" y="10427"/>
                  <a:pt x="18182" y="10417"/>
                  <a:pt x="18190" y="10407"/>
                </a:cubicBezTo>
                <a:cubicBezTo>
                  <a:pt x="18190" y="10385"/>
                  <a:pt x="18190" y="10378"/>
                  <a:pt x="18212" y="10385"/>
                </a:cubicBezTo>
                <a:cubicBezTo>
                  <a:pt x="18219" y="10387"/>
                  <a:pt x="18261" y="10428"/>
                  <a:pt x="18278" y="10407"/>
                </a:cubicBezTo>
                <a:cubicBezTo>
                  <a:pt x="18291" y="10390"/>
                  <a:pt x="18304" y="10309"/>
                  <a:pt x="18322" y="10297"/>
                </a:cubicBezTo>
                <a:cubicBezTo>
                  <a:pt x="18343" y="10283"/>
                  <a:pt x="18348" y="10240"/>
                  <a:pt x="18366" y="10231"/>
                </a:cubicBezTo>
                <a:cubicBezTo>
                  <a:pt x="18419" y="10205"/>
                  <a:pt x="18373" y="10218"/>
                  <a:pt x="18366" y="10231"/>
                </a:cubicBezTo>
                <a:cubicBezTo>
                  <a:pt x="18353" y="10255"/>
                  <a:pt x="18357" y="10296"/>
                  <a:pt x="18344" y="10319"/>
                </a:cubicBezTo>
                <a:cubicBezTo>
                  <a:pt x="18322" y="10358"/>
                  <a:pt x="18322" y="10382"/>
                  <a:pt x="18322" y="10429"/>
                </a:cubicBezTo>
                <a:cubicBezTo>
                  <a:pt x="18367" y="10429"/>
                  <a:pt x="18371" y="10416"/>
                  <a:pt x="18389" y="10407"/>
                </a:cubicBezTo>
                <a:cubicBezTo>
                  <a:pt x="18396" y="10407"/>
                  <a:pt x="18404" y="10407"/>
                  <a:pt x="18411" y="10407"/>
                </a:cubicBezTo>
              </a:path>
              <a:path w="5734" h="905">
                <a:moveTo>
                  <a:pt x="18675" y="10561"/>
                </a:moveTo>
                <a:cubicBezTo>
                  <a:pt x="18675" y="10533"/>
                  <a:pt x="18682" y="10502"/>
                  <a:pt x="18697" y="10495"/>
                </a:cubicBezTo>
                <a:cubicBezTo>
                  <a:pt x="18725" y="10481"/>
                  <a:pt x="18750" y="10473"/>
                  <a:pt x="18785" y="10473"/>
                </a:cubicBezTo>
                <a:cubicBezTo>
                  <a:pt x="18840" y="10473"/>
                  <a:pt x="18870" y="10482"/>
                  <a:pt x="18896" y="10495"/>
                </a:cubicBezTo>
                <a:cubicBezTo>
                  <a:pt x="18915" y="10504"/>
                  <a:pt x="18930" y="10531"/>
                  <a:pt x="18940" y="10561"/>
                </a:cubicBezTo>
                <a:cubicBezTo>
                  <a:pt x="18953" y="10599"/>
                  <a:pt x="18922" y="10616"/>
                  <a:pt x="18918" y="10649"/>
                </a:cubicBezTo>
                <a:cubicBezTo>
                  <a:pt x="18914" y="10684"/>
                  <a:pt x="18895" y="10678"/>
                  <a:pt x="18874" y="10694"/>
                </a:cubicBezTo>
                <a:cubicBezTo>
                  <a:pt x="18846" y="10715"/>
                  <a:pt x="18820" y="10734"/>
                  <a:pt x="18785" y="10738"/>
                </a:cubicBezTo>
                <a:cubicBezTo>
                  <a:pt x="18764" y="10740"/>
                  <a:pt x="18740" y="10738"/>
                  <a:pt x="18719" y="10738"/>
                </a:cubicBezTo>
              </a:path>
              <a:path w="5734" h="905">
                <a:moveTo>
                  <a:pt x="18984" y="10583"/>
                </a:moveTo>
                <a:cubicBezTo>
                  <a:pt x="19013" y="10573"/>
                  <a:pt x="19010" y="10548"/>
                  <a:pt x="19028" y="10539"/>
                </a:cubicBezTo>
                <a:cubicBezTo>
                  <a:pt x="19048" y="10529"/>
                  <a:pt x="19071" y="10523"/>
                  <a:pt x="19094" y="10517"/>
                </a:cubicBezTo>
                <a:cubicBezTo>
                  <a:pt x="19094" y="10536"/>
                  <a:pt x="19080" y="10623"/>
                  <a:pt x="19116" y="10605"/>
                </a:cubicBezTo>
                <a:cubicBezTo>
                  <a:pt x="19133" y="10597"/>
                  <a:pt x="19180" y="10565"/>
                  <a:pt x="19182" y="10561"/>
                </a:cubicBezTo>
                <a:cubicBezTo>
                  <a:pt x="19194" y="10537"/>
                  <a:pt x="19214" y="10530"/>
                  <a:pt x="19226" y="10495"/>
                </a:cubicBezTo>
                <a:cubicBezTo>
                  <a:pt x="19227" y="10492"/>
                  <a:pt x="19245" y="10431"/>
                  <a:pt x="19248" y="10429"/>
                </a:cubicBezTo>
                <a:cubicBezTo>
                  <a:pt x="19257" y="10422"/>
                  <a:pt x="19288" y="10387"/>
                  <a:pt x="19293" y="10385"/>
                </a:cubicBezTo>
                <a:cubicBezTo>
                  <a:pt x="19323" y="10370"/>
                  <a:pt x="19362" y="10390"/>
                  <a:pt x="19381" y="10407"/>
                </a:cubicBezTo>
                <a:cubicBezTo>
                  <a:pt x="19412" y="10435"/>
                  <a:pt x="19419" y="10464"/>
                  <a:pt x="19447" y="10473"/>
                </a:cubicBezTo>
                <a:cubicBezTo>
                  <a:pt x="19423" y="10442"/>
                  <a:pt x="19425" y="10412"/>
                  <a:pt x="19381" y="10407"/>
                </a:cubicBezTo>
                <a:cubicBezTo>
                  <a:pt x="19344" y="10403"/>
                  <a:pt x="19245" y="10392"/>
                  <a:pt x="19226" y="10429"/>
                </a:cubicBezTo>
                <a:cubicBezTo>
                  <a:pt x="19214" y="10453"/>
                  <a:pt x="19220" y="10467"/>
                  <a:pt x="19204" y="10495"/>
                </a:cubicBezTo>
                <a:cubicBezTo>
                  <a:pt x="19184" y="10532"/>
                  <a:pt x="19182" y="10538"/>
                  <a:pt x="19182" y="10583"/>
                </a:cubicBezTo>
                <a:cubicBezTo>
                  <a:pt x="19182" y="10615"/>
                  <a:pt x="19188" y="10648"/>
                  <a:pt x="19204" y="10672"/>
                </a:cubicBezTo>
                <a:cubicBezTo>
                  <a:pt x="19221" y="10699"/>
                  <a:pt x="19266" y="10729"/>
                  <a:pt x="19293" y="10738"/>
                </a:cubicBezTo>
                <a:cubicBezTo>
                  <a:pt x="19322" y="10748"/>
                  <a:pt x="19354" y="10751"/>
                  <a:pt x="19381" y="10760"/>
                </a:cubicBezTo>
                <a:cubicBezTo>
                  <a:pt x="19406" y="10768"/>
                  <a:pt x="19442" y="10760"/>
                  <a:pt x="19469" y="10760"/>
                </a:cubicBezTo>
              </a:path>
              <a:path w="5734" h="905">
                <a:moveTo>
                  <a:pt x="19756" y="10429"/>
                </a:moveTo>
                <a:cubicBezTo>
                  <a:pt x="19756" y="10407"/>
                  <a:pt x="19756" y="10400"/>
                  <a:pt x="19778" y="10407"/>
                </a:cubicBezTo>
                <a:cubicBezTo>
                  <a:pt x="19770" y="10404"/>
                  <a:pt x="19729" y="10363"/>
                  <a:pt x="19711" y="10385"/>
                </a:cubicBezTo>
                <a:cubicBezTo>
                  <a:pt x="19693" y="10407"/>
                  <a:pt x="19675" y="10409"/>
                  <a:pt x="19645" y="10429"/>
                </a:cubicBezTo>
                <a:cubicBezTo>
                  <a:pt x="19631" y="10438"/>
                  <a:pt x="19586" y="10501"/>
                  <a:pt x="19579" y="10517"/>
                </a:cubicBezTo>
                <a:cubicBezTo>
                  <a:pt x="19555" y="10572"/>
                  <a:pt x="19589" y="10670"/>
                  <a:pt x="19601" y="10694"/>
                </a:cubicBezTo>
                <a:cubicBezTo>
                  <a:pt x="19613" y="10717"/>
                  <a:pt x="19615" y="10734"/>
                  <a:pt x="19645" y="10738"/>
                </a:cubicBezTo>
                <a:cubicBezTo>
                  <a:pt x="19695" y="10744"/>
                  <a:pt x="19717" y="10729"/>
                  <a:pt x="19756" y="10716"/>
                </a:cubicBezTo>
                <a:cubicBezTo>
                  <a:pt x="19789" y="10705"/>
                  <a:pt x="19810" y="10685"/>
                  <a:pt x="19822" y="10649"/>
                </a:cubicBezTo>
                <a:cubicBezTo>
                  <a:pt x="19829" y="10627"/>
                  <a:pt x="19856" y="10588"/>
                  <a:pt x="19866" y="10583"/>
                </a:cubicBezTo>
                <a:cubicBezTo>
                  <a:pt x="19886" y="10573"/>
                  <a:pt x="19926" y="10550"/>
                  <a:pt x="19932" y="10539"/>
                </a:cubicBezTo>
                <a:cubicBezTo>
                  <a:pt x="19950" y="10504"/>
                  <a:pt x="19918" y="10475"/>
                  <a:pt x="19910" y="10451"/>
                </a:cubicBezTo>
                <a:cubicBezTo>
                  <a:pt x="19900" y="10422"/>
                  <a:pt x="19875" y="10425"/>
                  <a:pt x="19866" y="10407"/>
                </a:cubicBezTo>
                <a:cubicBezTo>
                  <a:pt x="19857" y="10388"/>
                  <a:pt x="19832" y="10337"/>
                  <a:pt x="19800" y="10319"/>
                </a:cubicBezTo>
                <a:cubicBezTo>
                  <a:pt x="19770" y="10302"/>
                  <a:pt x="19731" y="10326"/>
                  <a:pt x="19711" y="10341"/>
                </a:cubicBezTo>
              </a:path>
              <a:path w="5734" h="905">
                <a:moveTo>
                  <a:pt x="19888" y="10627"/>
                </a:moveTo>
                <a:cubicBezTo>
                  <a:pt x="19888" y="10657"/>
                  <a:pt x="19876" y="10699"/>
                  <a:pt x="19910" y="10716"/>
                </a:cubicBezTo>
                <a:cubicBezTo>
                  <a:pt x="19939" y="10730"/>
                  <a:pt x="19932" y="10738"/>
                  <a:pt x="19976" y="10738"/>
                </a:cubicBezTo>
                <a:cubicBezTo>
                  <a:pt x="20009" y="10738"/>
                  <a:pt x="20003" y="10707"/>
                  <a:pt x="20042" y="10694"/>
                </a:cubicBezTo>
                <a:cubicBezTo>
                  <a:pt x="20049" y="10692"/>
                  <a:pt x="20128" y="10675"/>
                  <a:pt x="20130" y="10672"/>
                </a:cubicBezTo>
                <a:cubicBezTo>
                  <a:pt x="20138" y="10662"/>
                  <a:pt x="20171" y="10632"/>
                  <a:pt x="20174" y="10627"/>
                </a:cubicBezTo>
                <a:cubicBezTo>
                  <a:pt x="20186" y="10603"/>
                  <a:pt x="20210" y="10565"/>
                  <a:pt x="20219" y="10539"/>
                </a:cubicBezTo>
                <a:cubicBezTo>
                  <a:pt x="20229" y="10508"/>
                  <a:pt x="20257" y="10484"/>
                  <a:pt x="20263" y="10473"/>
                </a:cubicBezTo>
                <a:cubicBezTo>
                  <a:pt x="20282" y="10436"/>
                  <a:pt x="20241" y="10444"/>
                  <a:pt x="20285" y="10429"/>
                </a:cubicBezTo>
                <a:cubicBezTo>
                  <a:pt x="20270" y="10406"/>
                  <a:pt x="20267" y="10401"/>
                  <a:pt x="20263" y="10385"/>
                </a:cubicBezTo>
                <a:cubicBezTo>
                  <a:pt x="20251" y="10341"/>
                  <a:pt x="20285" y="10319"/>
                  <a:pt x="20285" y="10275"/>
                </a:cubicBezTo>
                <a:cubicBezTo>
                  <a:pt x="20252" y="10286"/>
                  <a:pt x="20263" y="10301"/>
                  <a:pt x="20263" y="10341"/>
                </a:cubicBezTo>
                <a:cubicBezTo>
                  <a:pt x="20263" y="10416"/>
                  <a:pt x="20262" y="10475"/>
                  <a:pt x="20241" y="10539"/>
                </a:cubicBezTo>
                <a:cubicBezTo>
                  <a:pt x="20231" y="10568"/>
                  <a:pt x="20228" y="10601"/>
                  <a:pt x="20219" y="10627"/>
                </a:cubicBezTo>
                <a:cubicBezTo>
                  <a:pt x="20206" y="10666"/>
                  <a:pt x="20227" y="10690"/>
                  <a:pt x="20263" y="10694"/>
                </a:cubicBezTo>
                <a:cubicBezTo>
                  <a:pt x="20312" y="10699"/>
                  <a:pt x="20331" y="10682"/>
                  <a:pt x="20351" y="10672"/>
                </a:cubicBezTo>
                <a:cubicBezTo>
                  <a:pt x="20389" y="10653"/>
                  <a:pt x="20380" y="10695"/>
                  <a:pt x="20395" y="10649"/>
                </a:cubicBezTo>
              </a:path>
              <a:path w="5734" h="905">
                <a:moveTo>
                  <a:pt x="20637" y="10297"/>
                </a:moveTo>
                <a:cubicBezTo>
                  <a:pt x="20597" y="10310"/>
                  <a:pt x="20612" y="10350"/>
                  <a:pt x="20593" y="10385"/>
                </a:cubicBezTo>
                <a:cubicBezTo>
                  <a:pt x="20575" y="10419"/>
                  <a:pt x="20559" y="10452"/>
                  <a:pt x="20527" y="10473"/>
                </a:cubicBezTo>
                <a:cubicBezTo>
                  <a:pt x="20504" y="10488"/>
                  <a:pt x="20492" y="10512"/>
                  <a:pt x="20483" y="10539"/>
                </a:cubicBezTo>
                <a:cubicBezTo>
                  <a:pt x="20494" y="10572"/>
                  <a:pt x="20505" y="10558"/>
                  <a:pt x="20505" y="10605"/>
                </a:cubicBezTo>
                <a:cubicBezTo>
                  <a:pt x="20505" y="10612"/>
                  <a:pt x="20505" y="10620"/>
                  <a:pt x="20505" y="10627"/>
                </a:cubicBezTo>
                <a:cubicBezTo>
                  <a:pt x="20554" y="10627"/>
                  <a:pt x="20571" y="10616"/>
                  <a:pt x="20593" y="10605"/>
                </a:cubicBezTo>
                <a:cubicBezTo>
                  <a:pt x="20618" y="10593"/>
                  <a:pt x="20649" y="10604"/>
                  <a:pt x="20660" y="10583"/>
                </a:cubicBezTo>
                <a:cubicBezTo>
                  <a:pt x="20677" y="10550"/>
                  <a:pt x="20709" y="10567"/>
                  <a:pt x="20726" y="10517"/>
                </a:cubicBezTo>
                <a:cubicBezTo>
                  <a:pt x="20735" y="10489"/>
                  <a:pt x="20757" y="10479"/>
                  <a:pt x="20748" y="10451"/>
                </a:cubicBezTo>
                <a:cubicBezTo>
                  <a:pt x="20737" y="10417"/>
                  <a:pt x="20726" y="10425"/>
                  <a:pt x="20726" y="10385"/>
                </a:cubicBezTo>
                <a:cubicBezTo>
                  <a:pt x="20659" y="10385"/>
                  <a:pt x="20709" y="10353"/>
                  <a:pt x="20660" y="10341"/>
                </a:cubicBezTo>
                <a:cubicBezTo>
                  <a:pt x="20637" y="10341"/>
                  <a:pt x="20630" y="10341"/>
                  <a:pt x="20615" y="10341"/>
                </a:cubicBezTo>
                <a:cubicBezTo>
                  <a:pt x="20651" y="10394"/>
                  <a:pt x="20644" y="10385"/>
                  <a:pt x="20704" y="10385"/>
                </a:cubicBezTo>
                <a:cubicBezTo>
                  <a:pt x="20770" y="10385"/>
                  <a:pt x="20836" y="10385"/>
                  <a:pt x="20902" y="10385"/>
                </a:cubicBezTo>
                <a:cubicBezTo>
                  <a:pt x="20915" y="10309"/>
                  <a:pt x="20939" y="10371"/>
                  <a:pt x="20946" y="10319"/>
                </a:cubicBezTo>
                <a:cubicBezTo>
                  <a:pt x="20950" y="10290"/>
                  <a:pt x="20968" y="10224"/>
                  <a:pt x="20968" y="10253"/>
                </a:cubicBezTo>
                <a:cubicBezTo>
                  <a:pt x="20968" y="10289"/>
                  <a:pt x="20934" y="10278"/>
                  <a:pt x="20924" y="10297"/>
                </a:cubicBezTo>
                <a:cubicBezTo>
                  <a:pt x="20912" y="10321"/>
                  <a:pt x="20905" y="10381"/>
                  <a:pt x="20902" y="10407"/>
                </a:cubicBezTo>
                <a:cubicBezTo>
                  <a:pt x="20898" y="10449"/>
                  <a:pt x="20892" y="10460"/>
                  <a:pt x="20880" y="10495"/>
                </a:cubicBezTo>
                <a:cubicBezTo>
                  <a:pt x="20868" y="10532"/>
                  <a:pt x="20880" y="10580"/>
                  <a:pt x="20902" y="10605"/>
                </a:cubicBezTo>
                <a:cubicBezTo>
                  <a:pt x="20932" y="10638"/>
                  <a:pt x="20969" y="10627"/>
                  <a:pt x="21012" y="10627"/>
                </a:cubicBezTo>
                <a:cubicBezTo>
                  <a:pt x="21058" y="10627"/>
                  <a:pt x="21094" y="10605"/>
                  <a:pt x="21145" y="10605"/>
                </a:cubicBezTo>
                <a:cubicBezTo>
                  <a:pt x="21170" y="10605"/>
                  <a:pt x="21180" y="10603"/>
                  <a:pt x="21189" y="10583"/>
                </a:cubicBezTo>
              </a:path>
              <a:path w="5734" h="905">
                <a:moveTo>
                  <a:pt x="21277" y="10253"/>
                </a:moveTo>
                <a:cubicBezTo>
                  <a:pt x="21277" y="10246"/>
                  <a:pt x="21277" y="10238"/>
                  <a:pt x="21277" y="10231"/>
                </a:cubicBezTo>
                <a:cubicBezTo>
                  <a:pt x="21277" y="10269"/>
                  <a:pt x="21286" y="10265"/>
                  <a:pt x="21255" y="10275"/>
                </a:cubicBezTo>
                <a:cubicBezTo>
                  <a:pt x="21255" y="10328"/>
                  <a:pt x="21246" y="10363"/>
                  <a:pt x="21233" y="10407"/>
                </a:cubicBezTo>
                <a:cubicBezTo>
                  <a:pt x="21223" y="10440"/>
                  <a:pt x="21214" y="10486"/>
                  <a:pt x="21211" y="10517"/>
                </a:cubicBezTo>
                <a:cubicBezTo>
                  <a:pt x="21207" y="10554"/>
                  <a:pt x="21193" y="10571"/>
                  <a:pt x="21189" y="10605"/>
                </a:cubicBezTo>
                <a:cubicBezTo>
                  <a:pt x="21187" y="10622"/>
                  <a:pt x="21167" y="10665"/>
                  <a:pt x="21167" y="10627"/>
                </a:cubicBezTo>
              </a:path>
              <a:path w="5734" h="905">
                <a:moveTo>
                  <a:pt x="21233" y="10429"/>
                </a:moveTo>
                <a:cubicBezTo>
                  <a:pt x="21198" y="10376"/>
                  <a:pt x="21246" y="10419"/>
                  <a:pt x="21255" y="10385"/>
                </a:cubicBezTo>
                <a:cubicBezTo>
                  <a:pt x="21266" y="10345"/>
                  <a:pt x="21271" y="10297"/>
                  <a:pt x="21321" y="10275"/>
                </a:cubicBezTo>
                <a:cubicBezTo>
                  <a:pt x="21352" y="10261"/>
                  <a:pt x="21332" y="10264"/>
                  <a:pt x="21365" y="10253"/>
                </a:cubicBezTo>
                <a:cubicBezTo>
                  <a:pt x="21389" y="10261"/>
                  <a:pt x="21406" y="10269"/>
                  <a:pt x="21409" y="10297"/>
                </a:cubicBezTo>
                <a:cubicBezTo>
                  <a:pt x="21415" y="10347"/>
                  <a:pt x="21409" y="10401"/>
                  <a:pt x="21409" y="10451"/>
                </a:cubicBezTo>
                <a:cubicBezTo>
                  <a:pt x="21426" y="10434"/>
                  <a:pt x="21470" y="10388"/>
                  <a:pt x="21475" y="10385"/>
                </a:cubicBezTo>
                <a:cubicBezTo>
                  <a:pt x="21486" y="10379"/>
                  <a:pt x="21557" y="10329"/>
                  <a:pt x="21564" y="10319"/>
                </a:cubicBezTo>
                <a:cubicBezTo>
                  <a:pt x="21581" y="10295"/>
                  <a:pt x="21570" y="10274"/>
                  <a:pt x="21586" y="10253"/>
                </a:cubicBezTo>
                <a:cubicBezTo>
                  <a:pt x="21600" y="10234"/>
                  <a:pt x="21622" y="10190"/>
                  <a:pt x="21630" y="10186"/>
                </a:cubicBezTo>
                <a:cubicBezTo>
                  <a:pt x="21677" y="10161"/>
                  <a:pt x="21643" y="10170"/>
                  <a:pt x="21630" y="10209"/>
                </a:cubicBezTo>
                <a:cubicBezTo>
                  <a:pt x="21623" y="10230"/>
                  <a:pt x="21622" y="10250"/>
                  <a:pt x="21608" y="10275"/>
                </a:cubicBezTo>
                <a:cubicBezTo>
                  <a:pt x="21584" y="10319"/>
                  <a:pt x="21569" y="10330"/>
                  <a:pt x="21564" y="10385"/>
                </a:cubicBezTo>
                <a:cubicBezTo>
                  <a:pt x="21561" y="10417"/>
                  <a:pt x="21552" y="10478"/>
                  <a:pt x="21586" y="10495"/>
                </a:cubicBezTo>
                <a:cubicBezTo>
                  <a:pt x="21628" y="10516"/>
                  <a:pt x="21687" y="10483"/>
                  <a:pt x="21718" y="10473"/>
                </a:cubicBezTo>
                <a:cubicBezTo>
                  <a:pt x="21763" y="10458"/>
                  <a:pt x="21761" y="10441"/>
                  <a:pt x="21784" y="10407"/>
                </a:cubicBezTo>
                <a:cubicBezTo>
                  <a:pt x="21791" y="10400"/>
                  <a:pt x="21799" y="10392"/>
                  <a:pt x="21806" y="10385"/>
                </a:cubicBezTo>
              </a:path>
              <a:path w="5734" h="905">
                <a:moveTo>
                  <a:pt x="21299" y="10032"/>
                </a:moveTo>
                <a:cubicBezTo>
                  <a:pt x="21299" y="10086"/>
                  <a:pt x="21292" y="10120"/>
                  <a:pt x="21277" y="10164"/>
                </a:cubicBezTo>
                <a:cubicBezTo>
                  <a:pt x="21277" y="10186"/>
                  <a:pt x="21277" y="10194"/>
                  <a:pt x="21277" y="10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Ink 46"/>
          <p:cNvSpPr/>
          <p:nvPr/>
        </p:nvSpPr>
        <p:spPr>
          <a:xfrm>
            <a:off x="7985160" y="3413160"/>
            <a:ext cx="1150920" cy="460440"/>
          </a:xfrm>
          <a:custGeom>
            <a:avLst/>
            <a:gdLst/>
            <a:ahLst/>
            <a:rect l="l" t="t" r="r" b="b"/>
            <a:pathLst>
              <a:path w="3198" h="1280">
                <a:moveTo>
                  <a:pt x="22401" y="10209"/>
                </a:moveTo>
                <a:cubicBezTo>
                  <a:pt x="22394" y="10209"/>
                  <a:pt x="22386" y="10209"/>
                  <a:pt x="22379" y="10209"/>
                </a:cubicBezTo>
                <a:cubicBezTo>
                  <a:pt x="22379" y="10238"/>
                  <a:pt x="22379" y="10268"/>
                  <a:pt x="22379" y="10297"/>
                </a:cubicBezTo>
                <a:cubicBezTo>
                  <a:pt x="22331" y="10313"/>
                  <a:pt x="22377" y="10337"/>
                  <a:pt x="22357" y="10385"/>
                </a:cubicBezTo>
                <a:cubicBezTo>
                  <a:pt x="22337" y="10432"/>
                  <a:pt x="22321" y="10463"/>
                  <a:pt x="22313" y="10517"/>
                </a:cubicBezTo>
                <a:cubicBezTo>
                  <a:pt x="22278" y="10529"/>
                  <a:pt x="22290" y="10552"/>
                  <a:pt x="22269" y="10583"/>
                </a:cubicBezTo>
                <a:cubicBezTo>
                  <a:pt x="22247" y="10615"/>
                  <a:pt x="22215" y="10636"/>
                  <a:pt x="22203" y="10672"/>
                </a:cubicBezTo>
                <a:cubicBezTo>
                  <a:pt x="22196" y="10694"/>
                  <a:pt x="22153" y="10727"/>
                  <a:pt x="22203" y="10694"/>
                </a:cubicBezTo>
              </a:path>
              <a:path w="3198" h="1280">
                <a:moveTo>
                  <a:pt x="22335" y="10429"/>
                </a:moveTo>
                <a:cubicBezTo>
                  <a:pt x="22355" y="10409"/>
                  <a:pt x="22362" y="10405"/>
                  <a:pt x="22357" y="10385"/>
                </a:cubicBezTo>
                <a:cubicBezTo>
                  <a:pt x="22384" y="10367"/>
                  <a:pt x="22388" y="10350"/>
                  <a:pt x="22423" y="10319"/>
                </a:cubicBezTo>
                <a:cubicBezTo>
                  <a:pt x="22454" y="10292"/>
                  <a:pt x="22484" y="10272"/>
                  <a:pt x="22512" y="10253"/>
                </a:cubicBezTo>
                <a:cubicBezTo>
                  <a:pt x="22532" y="10233"/>
                  <a:pt x="22539" y="10229"/>
                  <a:pt x="22534" y="10209"/>
                </a:cubicBezTo>
                <a:cubicBezTo>
                  <a:pt x="22575" y="10209"/>
                  <a:pt x="22586" y="10190"/>
                  <a:pt x="22622" y="10186"/>
                </a:cubicBezTo>
                <a:cubicBezTo>
                  <a:pt x="22629" y="10186"/>
                  <a:pt x="22637" y="10186"/>
                  <a:pt x="22644" y="10186"/>
                </a:cubicBezTo>
                <a:cubicBezTo>
                  <a:pt x="22636" y="10221"/>
                  <a:pt x="22622" y="10235"/>
                  <a:pt x="22622" y="10275"/>
                </a:cubicBezTo>
                <a:cubicBezTo>
                  <a:pt x="22591" y="10285"/>
                  <a:pt x="22600" y="10281"/>
                  <a:pt x="22600" y="10319"/>
                </a:cubicBezTo>
              </a:path>
              <a:path w="3198" h="1280">
                <a:moveTo>
                  <a:pt x="22269" y="10451"/>
                </a:moveTo>
                <a:cubicBezTo>
                  <a:pt x="22302" y="10427"/>
                  <a:pt x="22313" y="10424"/>
                  <a:pt x="22335" y="10407"/>
                </a:cubicBezTo>
                <a:cubicBezTo>
                  <a:pt x="22366" y="10384"/>
                  <a:pt x="22390" y="10348"/>
                  <a:pt x="22423" y="10341"/>
                </a:cubicBezTo>
                <a:cubicBezTo>
                  <a:pt x="22445" y="10341"/>
                  <a:pt x="22453" y="10341"/>
                  <a:pt x="22468" y="10341"/>
                </a:cubicBezTo>
                <a:cubicBezTo>
                  <a:pt x="22468" y="10407"/>
                  <a:pt x="22464" y="10442"/>
                  <a:pt x="22445" y="10495"/>
                </a:cubicBezTo>
                <a:cubicBezTo>
                  <a:pt x="22445" y="10520"/>
                  <a:pt x="22443" y="10530"/>
                  <a:pt x="22423" y="10539"/>
                </a:cubicBezTo>
                <a:cubicBezTo>
                  <a:pt x="22472" y="10576"/>
                  <a:pt x="22464" y="10555"/>
                  <a:pt x="22512" y="10539"/>
                </a:cubicBezTo>
                <a:cubicBezTo>
                  <a:pt x="22535" y="10531"/>
                  <a:pt x="22575" y="10539"/>
                  <a:pt x="22600" y="10539"/>
                </a:cubicBezTo>
              </a:path>
              <a:path w="3198" h="1280">
                <a:moveTo>
                  <a:pt x="23041" y="10186"/>
                </a:moveTo>
                <a:cubicBezTo>
                  <a:pt x="23041" y="10164"/>
                  <a:pt x="23041" y="10157"/>
                  <a:pt x="23019" y="10164"/>
                </a:cubicBezTo>
                <a:cubicBezTo>
                  <a:pt x="22986" y="10175"/>
                  <a:pt x="23000" y="10186"/>
                  <a:pt x="22953" y="10186"/>
                </a:cubicBezTo>
                <a:cubicBezTo>
                  <a:pt x="22918" y="10186"/>
                  <a:pt x="22905" y="10209"/>
                  <a:pt x="22864" y="10209"/>
                </a:cubicBezTo>
                <a:cubicBezTo>
                  <a:pt x="22824" y="10209"/>
                  <a:pt x="22812" y="10235"/>
                  <a:pt x="22798" y="10253"/>
                </a:cubicBezTo>
                <a:cubicBezTo>
                  <a:pt x="22772" y="10288"/>
                  <a:pt x="22748" y="10304"/>
                  <a:pt x="22732" y="10341"/>
                </a:cubicBezTo>
                <a:cubicBezTo>
                  <a:pt x="22712" y="10387"/>
                  <a:pt x="22710" y="10403"/>
                  <a:pt x="22710" y="10451"/>
                </a:cubicBezTo>
                <a:cubicBezTo>
                  <a:pt x="22710" y="10498"/>
                  <a:pt x="22720" y="10505"/>
                  <a:pt x="22754" y="10539"/>
                </a:cubicBezTo>
                <a:cubicBezTo>
                  <a:pt x="22786" y="10571"/>
                  <a:pt x="22786" y="10548"/>
                  <a:pt x="22798" y="10583"/>
                </a:cubicBezTo>
                <a:cubicBezTo>
                  <a:pt x="22831" y="10572"/>
                  <a:pt x="22817" y="10561"/>
                  <a:pt x="22864" y="10561"/>
                </a:cubicBezTo>
                <a:cubicBezTo>
                  <a:pt x="22896" y="10561"/>
                  <a:pt x="22929" y="10555"/>
                  <a:pt x="22953" y="10539"/>
                </a:cubicBezTo>
                <a:cubicBezTo>
                  <a:pt x="22978" y="10522"/>
                  <a:pt x="23005" y="10482"/>
                  <a:pt x="23019" y="10473"/>
                </a:cubicBezTo>
                <a:cubicBezTo>
                  <a:pt x="23041" y="10458"/>
                  <a:pt x="23092" y="10460"/>
                  <a:pt x="23107" y="10429"/>
                </a:cubicBezTo>
                <a:cubicBezTo>
                  <a:pt x="23113" y="10416"/>
                  <a:pt x="23150" y="10387"/>
                  <a:pt x="23151" y="10385"/>
                </a:cubicBezTo>
                <a:cubicBezTo>
                  <a:pt x="23166" y="10330"/>
                  <a:pt x="23178" y="10349"/>
                  <a:pt x="23195" y="10297"/>
                </a:cubicBezTo>
                <a:cubicBezTo>
                  <a:pt x="23206" y="10264"/>
                  <a:pt x="23217" y="10278"/>
                  <a:pt x="23217" y="10231"/>
                </a:cubicBezTo>
                <a:cubicBezTo>
                  <a:pt x="23217" y="10210"/>
                  <a:pt x="23193" y="10187"/>
                  <a:pt x="23173" y="10164"/>
                </a:cubicBezTo>
                <a:cubicBezTo>
                  <a:pt x="23146" y="10134"/>
                  <a:pt x="23123" y="10142"/>
                  <a:pt x="23085" y="10142"/>
                </a:cubicBezTo>
                <a:cubicBezTo>
                  <a:pt x="23071" y="10142"/>
                  <a:pt x="23011" y="10156"/>
                  <a:pt x="22997" y="10164"/>
                </a:cubicBezTo>
                <a:cubicBezTo>
                  <a:pt x="22990" y="10171"/>
                  <a:pt x="22982" y="10179"/>
                  <a:pt x="22975" y="10186"/>
                </a:cubicBezTo>
              </a:path>
              <a:path w="3198" h="1280">
                <a:moveTo>
                  <a:pt x="22754" y="10253"/>
                </a:moveTo>
                <a:cubicBezTo>
                  <a:pt x="22794" y="10253"/>
                  <a:pt x="22806" y="10271"/>
                  <a:pt x="22842" y="10275"/>
                </a:cubicBezTo>
                <a:cubicBezTo>
                  <a:pt x="22879" y="10279"/>
                  <a:pt x="22897" y="10293"/>
                  <a:pt x="22931" y="10297"/>
                </a:cubicBezTo>
                <a:cubicBezTo>
                  <a:pt x="22975" y="10302"/>
                  <a:pt x="22983" y="10292"/>
                  <a:pt x="23019" y="10319"/>
                </a:cubicBezTo>
              </a:path>
              <a:path w="3198" h="1280">
                <a:moveTo>
                  <a:pt x="23327" y="10120"/>
                </a:moveTo>
                <a:cubicBezTo>
                  <a:pt x="23327" y="10158"/>
                  <a:pt x="23306" y="10202"/>
                  <a:pt x="23305" y="10209"/>
                </a:cubicBezTo>
                <a:cubicBezTo>
                  <a:pt x="23299" y="10239"/>
                  <a:pt x="23286" y="10296"/>
                  <a:pt x="23283" y="10319"/>
                </a:cubicBezTo>
                <a:cubicBezTo>
                  <a:pt x="23274" y="10377"/>
                  <a:pt x="23294" y="10419"/>
                  <a:pt x="23261" y="10473"/>
                </a:cubicBezTo>
                <a:cubicBezTo>
                  <a:pt x="23234" y="10517"/>
                  <a:pt x="23220" y="10571"/>
                  <a:pt x="23217" y="10627"/>
                </a:cubicBezTo>
                <a:cubicBezTo>
                  <a:pt x="23215" y="10667"/>
                  <a:pt x="23201" y="10681"/>
                  <a:pt x="23195" y="10716"/>
                </a:cubicBezTo>
                <a:cubicBezTo>
                  <a:pt x="23195" y="10738"/>
                  <a:pt x="23195" y="10745"/>
                  <a:pt x="23195" y="10760"/>
                </a:cubicBezTo>
                <a:cubicBezTo>
                  <a:pt x="23187" y="10750"/>
                  <a:pt x="23156" y="10722"/>
                  <a:pt x="23151" y="10694"/>
                </a:cubicBezTo>
                <a:cubicBezTo>
                  <a:pt x="23144" y="10660"/>
                  <a:pt x="23161" y="10631"/>
                  <a:pt x="23173" y="10605"/>
                </a:cubicBezTo>
                <a:cubicBezTo>
                  <a:pt x="23186" y="10575"/>
                  <a:pt x="23203" y="10547"/>
                  <a:pt x="23217" y="10517"/>
                </a:cubicBezTo>
                <a:cubicBezTo>
                  <a:pt x="23232" y="10484"/>
                  <a:pt x="23255" y="10416"/>
                  <a:pt x="23261" y="10385"/>
                </a:cubicBezTo>
                <a:cubicBezTo>
                  <a:pt x="23271" y="10333"/>
                  <a:pt x="23290" y="10300"/>
                  <a:pt x="23305" y="10275"/>
                </a:cubicBezTo>
                <a:cubicBezTo>
                  <a:pt x="23323" y="10245"/>
                  <a:pt x="23331" y="10227"/>
                  <a:pt x="23349" y="10209"/>
                </a:cubicBezTo>
                <a:cubicBezTo>
                  <a:pt x="23363" y="10195"/>
                  <a:pt x="23378" y="10163"/>
                  <a:pt x="23394" y="10142"/>
                </a:cubicBezTo>
                <a:cubicBezTo>
                  <a:pt x="23428" y="10097"/>
                  <a:pt x="23425" y="10093"/>
                  <a:pt x="23460" y="10054"/>
                </a:cubicBezTo>
                <a:cubicBezTo>
                  <a:pt x="23483" y="10028"/>
                  <a:pt x="23499" y="10032"/>
                  <a:pt x="23526" y="10010"/>
                </a:cubicBezTo>
                <a:cubicBezTo>
                  <a:pt x="23542" y="10037"/>
                  <a:pt x="23546" y="10034"/>
                  <a:pt x="23548" y="10076"/>
                </a:cubicBezTo>
                <a:cubicBezTo>
                  <a:pt x="23551" y="10129"/>
                  <a:pt x="23531" y="10122"/>
                  <a:pt x="23504" y="10164"/>
                </a:cubicBezTo>
                <a:cubicBezTo>
                  <a:pt x="23488" y="10190"/>
                  <a:pt x="23446" y="10245"/>
                  <a:pt x="23438" y="10275"/>
                </a:cubicBezTo>
                <a:cubicBezTo>
                  <a:pt x="23438" y="10297"/>
                  <a:pt x="23438" y="10304"/>
                  <a:pt x="23438" y="10319"/>
                </a:cubicBezTo>
                <a:cubicBezTo>
                  <a:pt x="23452" y="10327"/>
                  <a:pt x="23491" y="10329"/>
                  <a:pt x="23504" y="10341"/>
                </a:cubicBezTo>
                <a:cubicBezTo>
                  <a:pt x="23534" y="10369"/>
                  <a:pt x="23516" y="10378"/>
                  <a:pt x="23570" y="10385"/>
                </a:cubicBezTo>
                <a:cubicBezTo>
                  <a:pt x="23647" y="10395"/>
                  <a:pt x="23602" y="10358"/>
                  <a:pt x="23636" y="10341"/>
                </a:cubicBezTo>
                <a:cubicBezTo>
                  <a:pt x="23661" y="10328"/>
                  <a:pt x="23699" y="10334"/>
                  <a:pt x="23724" y="10319"/>
                </a:cubicBezTo>
                <a:cubicBezTo>
                  <a:pt x="23732" y="10314"/>
                  <a:pt x="23770" y="10273"/>
                  <a:pt x="23790" y="10253"/>
                </a:cubicBezTo>
                <a:cubicBezTo>
                  <a:pt x="23818" y="10225"/>
                  <a:pt x="23858" y="10215"/>
                  <a:pt x="23879" y="10186"/>
                </a:cubicBezTo>
                <a:cubicBezTo>
                  <a:pt x="23897" y="10161"/>
                  <a:pt x="23909" y="10111"/>
                  <a:pt x="23901" y="10076"/>
                </a:cubicBezTo>
                <a:cubicBezTo>
                  <a:pt x="23895" y="10050"/>
                  <a:pt x="23887" y="10035"/>
                  <a:pt x="23879" y="10010"/>
                </a:cubicBezTo>
                <a:cubicBezTo>
                  <a:pt x="23843" y="10031"/>
                  <a:pt x="23836" y="10047"/>
                  <a:pt x="23812" y="10076"/>
                </a:cubicBezTo>
                <a:cubicBezTo>
                  <a:pt x="23790" y="10102"/>
                  <a:pt x="23785" y="10128"/>
                  <a:pt x="23768" y="10164"/>
                </a:cubicBezTo>
                <a:cubicBezTo>
                  <a:pt x="23755" y="10193"/>
                  <a:pt x="23734" y="10213"/>
                  <a:pt x="23746" y="10253"/>
                </a:cubicBezTo>
                <a:cubicBezTo>
                  <a:pt x="23753" y="10275"/>
                  <a:pt x="23754" y="10292"/>
                  <a:pt x="23768" y="10319"/>
                </a:cubicBezTo>
                <a:cubicBezTo>
                  <a:pt x="23776" y="10335"/>
                  <a:pt x="23807" y="10339"/>
                  <a:pt x="23835" y="10341"/>
                </a:cubicBezTo>
                <a:cubicBezTo>
                  <a:pt x="23867" y="10343"/>
                  <a:pt x="23899" y="10334"/>
                  <a:pt x="23923" y="10319"/>
                </a:cubicBezTo>
                <a:cubicBezTo>
                  <a:pt x="23927" y="10316"/>
                  <a:pt x="23961" y="10281"/>
                  <a:pt x="23967" y="10275"/>
                </a:cubicBezTo>
                <a:cubicBezTo>
                  <a:pt x="23978" y="10264"/>
                  <a:pt x="24022" y="10212"/>
                  <a:pt x="24033" y="10209"/>
                </a:cubicBezTo>
                <a:cubicBezTo>
                  <a:pt x="24088" y="10193"/>
                  <a:pt x="24057" y="10207"/>
                  <a:pt x="24099" y="10164"/>
                </a:cubicBezTo>
                <a:cubicBezTo>
                  <a:pt x="24121" y="10142"/>
                  <a:pt x="24114" y="10115"/>
                  <a:pt x="24143" y="10076"/>
                </a:cubicBezTo>
                <a:cubicBezTo>
                  <a:pt x="24166" y="10046"/>
                  <a:pt x="24170" y="10029"/>
                  <a:pt x="24187" y="10010"/>
                </a:cubicBezTo>
                <a:cubicBezTo>
                  <a:pt x="24209" y="9986"/>
                  <a:pt x="24199" y="9944"/>
                  <a:pt x="24231" y="9944"/>
                </a:cubicBezTo>
                <a:cubicBezTo>
                  <a:pt x="24261" y="9944"/>
                  <a:pt x="24264" y="9961"/>
                  <a:pt x="24276" y="9988"/>
                </a:cubicBezTo>
                <a:cubicBezTo>
                  <a:pt x="24276" y="9995"/>
                  <a:pt x="24276" y="10003"/>
                  <a:pt x="24276" y="10010"/>
                </a:cubicBezTo>
                <a:cubicBezTo>
                  <a:pt x="24276" y="9981"/>
                  <a:pt x="24301" y="9981"/>
                  <a:pt x="24276" y="9966"/>
                </a:cubicBezTo>
                <a:cubicBezTo>
                  <a:pt x="24242" y="9946"/>
                  <a:pt x="24210" y="9988"/>
                  <a:pt x="24209" y="9988"/>
                </a:cubicBezTo>
                <a:cubicBezTo>
                  <a:pt x="24188" y="9992"/>
                  <a:pt x="24164" y="9985"/>
                  <a:pt x="24143" y="9988"/>
                </a:cubicBezTo>
              </a:path>
              <a:path w="3198" h="1280">
                <a:moveTo>
                  <a:pt x="23967" y="9900"/>
                </a:moveTo>
                <a:cubicBezTo>
                  <a:pt x="23918" y="9900"/>
                  <a:pt x="23872" y="9890"/>
                  <a:pt x="23835" y="9922"/>
                </a:cubicBezTo>
                <a:cubicBezTo>
                  <a:pt x="23814" y="9940"/>
                  <a:pt x="23805" y="10000"/>
                  <a:pt x="23790" y="10010"/>
                </a:cubicBezTo>
                <a:cubicBezTo>
                  <a:pt x="23776" y="10019"/>
                  <a:pt x="23752" y="10047"/>
                  <a:pt x="23746" y="10076"/>
                </a:cubicBezTo>
                <a:cubicBezTo>
                  <a:pt x="23731" y="10144"/>
                  <a:pt x="23750" y="10240"/>
                  <a:pt x="23768" y="10275"/>
                </a:cubicBezTo>
                <a:cubicBezTo>
                  <a:pt x="23783" y="10306"/>
                  <a:pt x="23792" y="10297"/>
                  <a:pt x="23835" y="10297"/>
                </a:cubicBezTo>
                <a:cubicBezTo>
                  <a:pt x="23881" y="10297"/>
                  <a:pt x="23900" y="10281"/>
                  <a:pt x="23945" y="10275"/>
                </a:cubicBezTo>
              </a:path>
              <a:path w="3198" h="1280">
                <a:moveTo>
                  <a:pt x="24209" y="9878"/>
                </a:moveTo>
                <a:cubicBezTo>
                  <a:pt x="24209" y="9943"/>
                  <a:pt x="24195" y="10001"/>
                  <a:pt x="24187" y="10054"/>
                </a:cubicBezTo>
                <a:cubicBezTo>
                  <a:pt x="24181" y="10093"/>
                  <a:pt x="24171" y="10133"/>
                  <a:pt x="24165" y="10164"/>
                </a:cubicBezTo>
                <a:cubicBezTo>
                  <a:pt x="24154" y="10222"/>
                  <a:pt x="24121" y="10264"/>
                  <a:pt x="24143" y="10319"/>
                </a:cubicBezTo>
                <a:cubicBezTo>
                  <a:pt x="24150" y="10319"/>
                  <a:pt x="24158" y="10319"/>
                  <a:pt x="24165" y="10319"/>
                </a:cubicBezTo>
                <a:cubicBezTo>
                  <a:pt x="24169" y="10284"/>
                  <a:pt x="24182" y="10258"/>
                  <a:pt x="24187" y="10231"/>
                </a:cubicBezTo>
                <a:cubicBezTo>
                  <a:pt x="24195" y="10192"/>
                  <a:pt x="24190" y="10188"/>
                  <a:pt x="24209" y="10164"/>
                </a:cubicBezTo>
                <a:cubicBezTo>
                  <a:pt x="24236" y="10131"/>
                  <a:pt x="24236" y="10093"/>
                  <a:pt x="24253" y="10054"/>
                </a:cubicBezTo>
                <a:cubicBezTo>
                  <a:pt x="24270" y="10015"/>
                  <a:pt x="24297" y="9982"/>
                  <a:pt x="24320" y="9944"/>
                </a:cubicBezTo>
                <a:cubicBezTo>
                  <a:pt x="24343" y="9906"/>
                  <a:pt x="24352" y="9909"/>
                  <a:pt x="24386" y="9878"/>
                </a:cubicBezTo>
                <a:cubicBezTo>
                  <a:pt x="24423" y="9845"/>
                  <a:pt x="24425" y="9837"/>
                  <a:pt x="24474" y="9834"/>
                </a:cubicBezTo>
                <a:cubicBezTo>
                  <a:pt x="24496" y="9834"/>
                  <a:pt x="24503" y="9834"/>
                  <a:pt x="24518" y="9834"/>
                </a:cubicBezTo>
                <a:cubicBezTo>
                  <a:pt x="24518" y="9887"/>
                  <a:pt x="24505" y="9923"/>
                  <a:pt x="24496" y="9966"/>
                </a:cubicBezTo>
                <a:cubicBezTo>
                  <a:pt x="24491" y="9992"/>
                  <a:pt x="24477" y="10035"/>
                  <a:pt x="24474" y="10054"/>
                </a:cubicBezTo>
                <a:cubicBezTo>
                  <a:pt x="24467" y="10100"/>
                  <a:pt x="24472" y="10116"/>
                  <a:pt x="24452" y="10142"/>
                </a:cubicBezTo>
                <a:cubicBezTo>
                  <a:pt x="24452" y="10164"/>
                  <a:pt x="24452" y="10171"/>
                  <a:pt x="24430" y="10164"/>
                </a:cubicBezTo>
                <a:cubicBezTo>
                  <a:pt x="24430" y="10135"/>
                  <a:pt x="24430" y="10149"/>
                  <a:pt x="24430" y="10120"/>
                </a:cubicBezTo>
                <a:cubicBezTo>
                  <a:pt x="24430" y="10062"/>
                  <a:pt x="24462" y="10056"/>
                  <a:pt x="24474" y="10010"/>
                </a:cubicBezTo>
                <a:cubicBezTo>
                  <a:pt x="24482" y="9978"/>
                  <a:pt x="24479" y="9949"/>
                  <a:pt x="24496" y="9922"/>
                </a:cubicBezTo>
                <a:cubicBezTo>
                  <a:pt x="24511" y="9898"/>
                  <a:pt x="24511" y="9885"/>
                  <a:pt x="24540" y="9856"/>
                </a:cubicBezTo>
                <a:cubicBezTo>
                  <a:pt x="24567" y="9829"/>
                  <a:pt x="24588" y="9757"/>
                  <a:pt x="24628" y="9745"/>
                </a:cubicBezTo>
                <a:cubicBezTo>
                  <a:pt x="24668" y="9733"/>
                  <a:pt x="24665" y="9740"/>
                  <a:pt x="24694" y="9723"/>
                </a:cubicBezTo>
                <a:cubicBezTo>
                  <a:pt x="24711" y="9751"/>
                  <a:pt x="24702" y="9752"/>
                  <a:pt x="24716" y="9790"/>
                </a:cubicBezTo>
                <a:cubicBezTo>
                  <a:pt x="24730" y="9829"/>
                  <a:pt x="24749" y="9856"/>
                  <a:pt x="24739" y="9900"/>
                </a:cubicBezTo>
                <a:cubicBezTo>
                  <a:pt x="24731" y="9935"/>
                  <a:pt x="24718" y="9948"/>
                  <a:pt x="24716" y="9988"/>
                </a:cubicBezTo>
                <a:cubicBezTo>
                  <a:pt x="24715" y="10004"/>
                  <a:pt x="24694" y="10076"/>
                  <a:pt x="24694" y="10076"/>
                </a:cubicBezTo>
                <a:cubicBezTo>
                  <a:pt x="24695" y="10082"/>
                  <a:pt x="24711" y="10174"/>
                  <a:pt x="24716" y="10186"/>
                </a:cubicBezTo>
                <a:cubicBezTo>
                  <a:pt x="24739" y="10186"/>
                  <a:pt x="24747" y="10186"/>
                  <a:pt x="24739" y="10209"/>
                </a:cubicBezTo>
                <a:cubicBezTo>
                  <a:pt x="24769" y="10194"/>
                  <a:pt x="24796" y="10182"/>
                  <a:pt x="24827" y="10164"/>
                </a:cubicBezTo>
                <a:cubicBezTo>
                  <a:pt x="24854" y="10148"/>
                  <a:pt x="24894" y="10150"/>
                  <a:pt x="24915" y="10120"/>
                </a:cubicBezTo>
                <a:cubicBezTo>
                  <a:pt x="24950" y="10072"/>
                  <a:pt x="24963" y="10062"/>
                  <a:pt x="25003" y="10032"/>
                </a:cubicBezTo>
                <a:cubicBezTo>
                  <a:pt x="25023" y="10017"/>
                  <a:pt x="25054" y="9968"/>
                  <a:pt x="25069" y="9944"/>
                </a:cubicBezTo>
                <a:cubicBezTo>
                  <a:pt x="25085" y="9919"/>
                  <a:pt x="25090" y="9889"/>
                  <a:pt x="25091" y="9856"/>
                </a:cubicBezTo>
                <a:cubicBezTo>
                  <a:pt x="25093" y="9810"/>
                  <a:pt x="25087" y="9791"/>
                  <a:pt x="25069" y="9768"/>
                </a:cubicBezTo>
                <a:cubicBezTo>
                  <a:pt x="25053" y="9748"/>
                  <a:pt x="25031" y="9729"/>
                  <a:pt x="25003" y="9723"/>
                </a:cubicBezTo>
                <a:cubicBezTo>
                  <a:pt x="24976" y="9718"/>
                  <a:pt x="24905" y="9713"/>
                  <a:pt x="24893" y="9745"/>
                </a:cubicBezTo>
                <a:cubicBezTo>
                  <a:pt x="24882" y="9775"/>
                  <a:pt x="24875" y="9825"/>
                  <a:pt x="24871" y="9856"/>
                </a:cubicBezTo>
                <a:cubicBezTo>
                  <a:pt x="24864" y="9903"/>
                  <a:pt x="24865" y="9953"/>
                  <a:pt x="24893" y="9988"/>
                </a:cubicBezTo>
                <a:cubicBezTo>
                  <a:pt x="24906" y="10004"/>
                  <a:pt x="24928" y="10034"/>
                  <a:pt x="24959" y="10054"/>
                </a:cubicBezTo>
                <a:cubicBezTo>
                  <a:pt x="24984" y="10054"/>
                  <a:pt x="24994" y="10056"/>
                  <a:pt x="25003" y="10076"/>
                </a:cubicBezTo>
              </a:path>
              <a:path w="3198" h="1280">
                <a:moveTo>
                  <a:pt x="25378" y="9745"/>
                </a:moveTo>
                <a:cubicBezTo>
                  <a:pt x="25349" y="9735"/>
                  <a:pt x="25352" y="9710"/>
                  <a:pt x="25334" y="9701"/>
                </a:cubicBezTo>
                <a:cubicBezTo>
                  <a:pt x="25312" y="9690"/>
                  <a:pt x="25285" y="9681"/>
                  <a:pt x="25268" y="9679"/>
                </a:cubicBezTo>
                <a:cubicBezTo>
                  <a:pt x="25237" y="9675"/>
                  <a:pt x="25202" y="9687"/>
                  <a:pt x="25180" y="9701"/>
                </a:cubicBezTo>
                <a:cubicBezTo>
                  <a:pt x="25149" y="9721"/>
                  <a:pt x="25125" y="9731"/>
                  <a:pt x="25113" y="9768"/>
                </a:cubicBezTo>
                <a:cubicBezTo>
                  <a:pt x="25102" y="9803"/>
                  <a:pt x="25095" y="9864"/>
                  <a:pt x="25091" y="9900"/>
                </a:cubicBezTo>
                <a:cubicBezTo>
                  <a:pt x="25088" y="9927"/>
                  <a:pt x="25052" y="9957"/>
                  <a:pt x="25069" y="9988"/>
                </a:cubicBezTo>
                <a:cubicBezTo>
                  <a:pt x="25079" y="10005"/>
                  <a:pt x="25108" y="10051"/>
                  <a:pt x="25113" y="10054"/>
                </a:cubicBezTo>
                <a:cubicBezTo>
                  <a:pt x="25148" y="10072"/>
                  <a:pt x="25178" y="10040"/>
                  <a:pt x="25202" y="10032"/>
                </a:cubicBezTo>
                <a:cubicBezTo>
                  <a:pt x="25235" y="10021"/>
                  <a:pt x="25262" y="10013"/>
                  <a:pt x="25290" y="9988"/>
                </a:cubicBezTo>
                <a:cubicBezTo>
                  <a:pt x="25311" y="9970"/>
                  <a:pt x="25319" y="9910"/>
                  <a:pt x="25334" y="9900"/>
                </a:cubicBezTo>
                <a:cubicBezTo>
                  <a:pt x="25348" y="9891"/>
                  <a:pt x="25372" y="9863"/>
                  <a:pt x="25378" y="9834"/>
                </a:cubicBezTo>
                <a:cubicBezTo>
                  <a:pt x="25385" y="9802"/>
                  <a:pt x="25378" y="9757"/>
                  <a:pt x="25378" y="9723"/>
                </a:cubicBezTo>
                <a:cubicBezTo>
                  <a:pt x="25340" y="9736"/>
                  <a:pt x="25356" y="9785"/>
                  <a:pt x="25356" y="9834"/>
                </a:cubicBezTo>
                <a:cubicBezTo>
                  <a:pt x="25356" y="9881"/>
                  <a:pt x="25342" y="9899"/>
                  <a:pt x="25334" y="9944"/>
                </a:cubicBezTo>
                <a:cubicBezTo>
                  <a:pt x="25323" y="10006"/>
                  <a:pt x="25315" y="10059"/>
                  <a:pt x="25312" y="10120"/>
                </a:cubicBezTo>
                <a:cubicBezTo>
                  <a:pt x="25309" y="10176"/>
                  <a:pt x="25292" y="10224"/>
                  <a:pt x="25268" y="10275"/>
                </a:cubicBezTo>
                <a:cubicBezTo>
                  <a:pt x="25241" y="10331"/>
                  <a:pt x="25199" y="10383"/>
                  <a:pt x="25157" y="10429"/>
                </a:cubicBezTo>
                <a:cubicBezTo>
                  <a:pt x="25136" y="10452"/>
                  <a:pt x="25113" y="10473"/>
                  <a:pt x="25091" y="10495"/>
                </a:cubicBezTo>
                <a:cubicBezTo>
                  <a:pt x="25066" y="10487"/>
                  <a:pt x="25051" y="10465"/>
                  <a:pt x="25047" y="10429"/>
                </a:cubicBezTo>
                <a:cubicBezTo>
                  <a:pt x="25047" y="10422"/>
                  <a:pt x="25047" y="10414"/>
                  <a:pt x="25047" y="10407"/>
                </a:cubicBezTo>
              </a:path>
              <a:path w="3198" h="1280">
                <a:moveTo>
                  <a:pt x="25378" y="9481"/>
                </a:moveTo>
                <a:cubicBezTo>
                  <a:pt x="25378" y="9746"/>
                  <a:pt x="25378" y="10010"/>
                  <a:pt x="25378" y="9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Ink 47"/>
          <p:cNvSpPr/>
          <p:nvPr/>
        </p:nvSpPr>
        <p:spPr>
          <a:xfrm>
            <a:off x="5651640" y="4016520"/>
            <a:ext cx="484200" cy="309240"/>
          </a:xfrm>
          <a:custGeom>
            <a:avLst/>
            <a:gdLst/>
            <a:ahLst/>
            <a:rect l="l" t="t" r="r" b="b"/>
            <a:pathLst>
              <a:path w="1346" h="860">
                <a:moveTo>
                  <a:pt x="15897" y="11355"/>
                </a:moveTo>
                <a:cubicBezTo>
                  <a:pt x="15888" y="11390"/>
                  <a:pt x="15875" y="11404"/>
                  <a:pt x="15875" y="11443"/>
                </a:cubicBezTo>
                <a:cubicBezTo>
                  <a:pt x="15875" y="11478"/>
                  <a:pt x="15853" y="11461"/>
                  <a:pt x="15853" y="11509"/>
                </a:cubicBezTo>
                <a:cubicBezTo>
                  <a:pt x="15853" y="11559"/>
                  <a:pt x="15845" y="11579"/>
                  <a:pt x="15831" y="11620"/>
                </a:cubicBezTo>
                <a:cubicBezTo>
                  <a:pt x="15815" y="11668"/>
                  <a:pt x="15824" y="11728"/>
                  <a:pt x="15809" y="11774"/>
                </a:cubicBezTo>
                <a:cubicBezTo>
                  <a:pt x="15800" y="11801"/>
                  <a:pt x="15807" y="11830"/>
                  <a:pt x="15787" y="11840"/>
                </a:cubicBezTo>
                <a:cubicBezTo>
                  <a:pt x="15780" y="11840"/>
                  <a:pt x="15772" y="11840"/>
                  <a:pt x="15765" y="11840"/>
                </a:cubicBezTo>
                <a:cubicBezTo>
                  <a:pt x="15765" y="11839"/>
                  <a:pt x="15723" y="11776"/>
                  <a:pt x="15721" y="11774"/>
                </a:cubicBezTo>
                <a:cubicBezTo>
                  <a:pt x="15685" y="11746"/>
                  <a:pt x="15715" y="11760"/>
                  <a:pt x="15721" y="11708"/>
                </a:cubicBezTo>
                <a:cubicBezTo>
                  <a:pt x="15722" y="11703"/>
                  <a:pt x="15742" y="11621"/>
                  <a:pt x="15743" y="11620"/>
                </a:cubicBezTo>
                <a:cubicBezTo>
                  <a:pt x="15756" y="11610"/>
                  <a:pt x="15797" y="11578"/>
                  <a:pt x="15809" y="11553"/>
                </a:cubicBezTo>
                <a:cubicBezTo>
                  <a:pt x="15820" y="11531"/>
                  <a:pt x="15846" y="11523"/>
                  <a:pt x="15853" y="11509"/>
                </a:cubicBezTo>
                <a:cubicBezTo>
                  <a:pt x="15868" y="11478"/>
                  <a:pt x="15876" y="11487"/>
                  <a:pt x="15919" y="11487"/>
                </a:cubicBezTo>
                <a:cubicBezTo>
                  <a:pt x="15955" y="11487"/>
                  <a:pt x="15944" y="11521"/>
                  <a:pt x="15963" y="11531"/>
                </a:cubicBezTo>
                <a:cubicBezTo>
                  <a:pt x="15995" y="11547"/>
                  <a:pt x="15987" y="11549"/>
                  <a:pt x="16007" y="11576"/>
                </a:cubicBezTo>
                <a:cubicBezTo>
                  <a:pt x="16027" y="11604"/>
                  <a:pt x="16047" y="11629"/>
                  <a:pt x="16051" y="11664"/>
                </a:cubicBezTo>
                <a:cubicBezTo>
                  <a:pt x="16055" y="11700"/>
                  <a:pt x="16073" y="11712"/>
                  <a:pt x="16073" y="11752"/>
                </a:cubicBezTo>
                <a:cubicBezTo>
                  <a:pt x="16073" y="11776"/>
                  <a:pt x="16051" y="11793"/>
                  <a:pt x="16029" y="11796"/>
                </a:cubicBezTo>
                <a:cubicBezTo>
                  <a:pt x="16001" y="11799"/>
                  <a:pt x="15961" y="11770"/>
                  <a:pt x="15941" y="11752"/>
                </a:cubicBezTo>
                <a:cubicBezTo>
                  <a:pt x="15921" y="11732"/>
                  <a:pt x="15914" y="11728"/>
                  <a:pt x="15919" y="11708"/>
                </a:cubicBezTo>
              </a:path>
              <a:path w="1346" h="860">
                <a:moveTo>
                  <a:pt x="15809" y="11289"/>
                </a:moveTo>
                <a:cubicBezTo>
                  <a:pt x="15809" y="11267"/>
                  <a:pt x="15809" y="11245"/>
                  <a:pt x="15809" y="11223"/>
                </a:cubicBezTo>
                <a:cubicBezTo>
                  <a:pt x="15840" y="11213"/>
                  <a:pt x="15831" y="11217"/>
                  <a:pt x="15831" y="11179"/>
                </a:cubicBezTo>
                <a:cubicBezTo>
                  <a:pt x="15854" y="11173"/>
                  <a:pt x="15891" y="11141"/>
                  <a:pt x="15919" y="11157"/>
                </a:cubicBezTo>
                <a:cubicBezTo>
                  <a:pt x="15955" y="11177"/>
                  <a:pt x="15968" y="11219"/>
                  <a:pt x="15985" y="11245"/>
                </a:cubicBezTo>
                <a:cubicBezTo>
                  <a:pt x="16006" y="11276"/>
                  <a:pt x="16020" y="11297"/>
                  <a:pt x="16029" y="11333"/>
                </a:cubicBezTo>
                <a:cubicBezTo>
                  <a:pt x="16053" y="11339"/>
                  <a:pt x="16089" y="11371"/>
                  <a:pt x="16118" y="11355"/>
                </a:cubicBezTo>
                <a:cubicBezTo>
                  <a:pt x="16152" y="11336"/>
                  <a:pt x="16197" y="11331"/>
                  <a:pt x="16228" y="11311"/>
                </a:cubicBezTo>
                <a:cubicBezTo>
                  <a:pt x="16248" y="11291"/>
                  <a:pt x="16252" y="11284"/>
                  <a:pt x="16272" y="11289"/>
                </a:cubicBezTo>
              </a:path>
              <a:path w="1346" h="860">
                <a:moveTo>
                  <a:pt x="16272" y="11421"/>
                </a:moveTo>
                <a:cubicBezTo>
                  <a:pt x="16251" y="11456"/>
                  <a:pt x="16265" y="11476"/>
                  <a:pt x="16250" y="11509"/>
                </a:cubicBezTo>
                <a:cubicBezTo>
                  <a:pt x="16237" y="11538"/>
                  <a:pt x="16241" y="11570"/>
                  <a:pt x="16228" y="11598"/>
                </a:cubicBezTo>
                <a:cubicBezTo>
                  <a:pt x="16203" y="11653"/>
                  <a:pt x="16222" y="11628"/>
                  <a:pt x="16228" y="11686"/>
                </a:cubicBezTo>
                <a:cubicBezTo>
                  <a:pt x="16228" y="11708"/>
                  <a:pt x="16228" y="11715"/>
                  <a:pt x="16228" y="11730"/>
                </a:cubicBezTo>
                <a:cubicBezTo>
                  <a:pt x="16271" y="11724"/>
                  <a:pt x="16275" y="11718"/>
                  <a:pt x="16294" y="11708"/>
                </a:cubicBezTo>
                <a:cubicBezTo>
                  <a:pt x="16333" y="11687"/>
                  <a:pt x="16336" y="11674"/>
                  <a:pt x="16360" y="11642"/>
                </a:cubicBezTo>
                <a:cubicBezTo>
                  <a:pt x="16382" y="11613"/>
                  <a:pt x="16386" y="11580"/>
                  <a:pt x="16404" y="11553"/>
                </a:cubicBezTo>
                <a:cubicBezTo>
                  <a:pt x="16428" y="11516"/>
                  <a:pt x="16423" y="11510"/>
                  <a:pt x="16426" y="11465"/>
                </a:cubicBezTo>
                <a:cubicBezTo>
                  <a:pt x="16426" y="11458"/>
                  <a:pt x="16426" y="11450"/>
                  <a:pt x="16426" y="11443"/>
                </a:cubicBezTo>
                <a:cubicBezTo>
                  <a:pt x="16426" y="11502"/>
                  <a:pt x="16411" y="11544"/>
                  <a:pt x="16404" y="11598"/>
                </a:cubicBezTo>
                <a:cubicBezTo>
                  <a:pt x="16398" y="11645"/>
                  <a:pt x="16388" y="11685"/>
                  <a:pt x="16382" y="11730"/>
                </a:cubicBezTo>
                <a:cubicBezTo>
                  <a:pt x="16374" y="11786"/>
                  <a:pt x="16363" y="11832"/>
                  <a:pt x="16360" y="11884"/>
                </a:cubicBezTo>
                <a:cubicBezTo>
                  <a:pt x="16357" y="11928"/>
                  <a:pt x="16360" y="11972"/>
                  <a:pt x="16360" y="12016"/>
                </a:cubicBezTo>
                <a:cubicBezTo>
                  <a:pt x="16369" y="11991"/>
                  <a:pt x="16370" y="11951"/>
                  <a:pt x="16382" y="11928"/>
                </a:cubicBezTo>
                <a:cubicBezTo>
                  <a:pt x="16405" y="11883"/>
                  <a:pt x="16422" y="11846"/>
                  <a:pt x="16448" y="11796"/>
                </a:cubicBezTo>
                <a:cubicBezTo>
                  <a:pt x="16464" y="11765"/>
                  <a:pt x="16466" y="11736"/>
                  <a:pt x="16492" y="11708"/>
                </a:cubicBezTo>
                <a:cubicBezTo>
                  <a:pt x="16492" y="11686"/>
                  <a:pt x="16492" y="11679"/>
                  <a:pt x="16514" y="11686"/>
                </a:cubicBezTo>
                <a:cubicBezTo>
                  <a:pt x="16542" y="11714"/>
                  <a:pt x="16531" y="11742"/>
                  <a:pt x="16581" y="11730"/>
                </a:cubicBezTo>
                <a:cubicBezTo>
                  <a:pt x="16619" y="11721"/>
                  <a:pt x="16650" y="11645"/>
                  <a:pt x="16669" y="11620"/>
                </a:cubicBezTo>
                <a:cubicBezTo>
                  <a:pt x="16696" y="11583"/>
                  <a:pt x="16727" y="11534"/>
                  <a:pt x="16735" y="11487"/>
                </a:cubicBezTo>
                <a:cubicBezTo>
                  <a:pt x="16743" y="11439"/>
                  <a:pt x="16735" y="11382"/>
                  <a:pt x="16735" y="11333"/>
                </a:cubicBezTo>
                <a:cubicBezTo>
                  <a:pt x="16735" y="11416"/>
                  <a:pt x="16702" y="11551"/>
                  <a:pt x="16713" y="11620"/>
                </a:cubicBezTo>
                <a:cubicBezTo>
                  <a:pt x="16714" y="11629"/>
                  <a:pt x="16753" y="11727"/>
                  <a:pt x="16757" y="11730"/>
                </a:cubicBezTo>
                <a:cubicBezTo>
                  <a:pt x="16791" y="11751"/>
                  <a:pt x="16862" y="11717"/>
                  <a:pt x="16889" y="11708"/>
                </a:cubicBezTo>
                <a:cubicBezTo>
                  <a:pt x="16925" y="11695"/>
                  <a:pt x="16966" y="11676"/>
                  <a:pt x="16999" y="11664"/>
                </a:cubicBezTo>
                <a:cubicBezTo>
                  <a:pt x="17022" y="11664"/>
                  <a:pt x="17029" y="11664"/>
                  <a:pt x="17044" y="11664"/>
                </a:cubicBezTo>
              </a:path>
              <a:path w="1346" h="860">
                <a:moveTo>
                  <a:pt x="16294" y="11752"/>
                </a:moveTo>
                <a:cubicBezTo>
                  <a:pt x="16401" y="11752"/>
                  <a:pt x="16527" y="11732"/>
                  <a:pt x="16625" y="11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Ink 48"/>
          <p:cNvSpPr/>
          <p:nvPr/>
        </p:nvSpPr>
        <p:spPr>
          <a:xfrm>
            <a:off x="6246720" y="4024440"/>
            <a:ext cx="1166760" cy="285480"/>
          </a:xfrm>
          <a:custGeom>
            <a:avLst/>
            <a:gdLst/>
            <a:ahLst/>
            <a:rect l="l" t="t" r="r" b="b"/>
            <a:pathLst>
              <a:path w="3242" h="794">
                <a:moveTo>
                  <a:pt x="17352" y="11443"/>
                </a:moveTo>
                <a:cubicBezTo>
                  <a:pt x="17358" y="11402"/>
                  <a:pt x="17355" y="11382"/>
                  <a:pt x="17396" y="11355"/>
                </a:cubicBezTo>
                <a:cubicBezTo>
                  <a:pt x="17423" y="11338"/>
                  <a:pt x="17452" y="11338"/>
                  <a:pt x="17485" y="11333"/>
                </a:cubicBezTo>
                <a:cubicBezTo>
                  <a:pt x="17510" y="11374"/>
                  <a:pt x="17526" y="11415"/>
                  <a:pt x="17529" y="11465"/>
                </a:cubicBezTo>
                <a:cubicBezTo>
                  <a:pt x="17532" y="11513"/>
                  <a:pt x="17514" y="11531"/>
                  <a:pt x="17507" y="11576"/>
                </a:cubicBezTo>
                <a:cubicBezTo>
                  <a:pt x="17502" y="11608"/>
                  <a:pt x="17490" y="11639"/>
                  <a:pt x="17485" y="11664"/>
                </a:cubicBezTo>
                <a:cubicBezTo>
                  <a:pt x="17476" y="11711"/>
                  <a:pt x="17483" y="11683"/>
                  <a:pt x="17462" y="11708"/>
                </a:cubicBezTo>
                <a:cubicBezTo>
                  <a:pt x="17462" y="11679"/>
                  <a:pt x="17449" y="11690"/>
                  <a:pt x="17462" y="11664"/>
                </a:cubicBezTo>
                <a:cubicBezTo>
                  <a:pt x="17474" y="11638"/>
                  <a:pt x="17469" y="11629"/>
                  <a:pt x="17485" y="11598"/>
                </a:cubicBezTo>
                <a:cubicBezTo>
                  <a:pt x="17497" y="11573"/>
                  <a:pt x="17501" y="11559"/>
                  <a:pt x="17529" y="11531"/>
                </a:cubicBezTo>
                <a:cubicBezTo>
                  <a:pt x="17561" y="11499"/>
                  <a:pt x="17587" y="11492"/>
                  <a:pt x="17617" y="11465"/>
                </a:cubicBezTo>
                <a:cubicBezTo>
                  <a:pt x="17638" y="11446"/>
                  <a:pt x="17646" y="11448"/>
                  <a:pt x="17683" y="11443"/>
                </a:cubicBezTo>
                <a:cubicBezTo>
                  <a:pt x="17688" y="11475"/>
                  <a:pt x="17683" y="11477"/>
                  <a:pt x="17683" y="11509"/>
                </a:cubicBezTo>
                <a:cubicBezTo>
                  <a:pt x="17683" y="11539"/>
                  <a:pt x="17683" y="11568"/>
                  <a:pt x="17683" y="11598"/>
                </a:cubicBezTo>
                <a:cubicBezTo>
                  <a:pt x="17700" y="11570"/>
                  <a:pt x="17692" y="11569"/>
                  <a:pt x="17705" y="11531"/>
                </a:cubicBezTo>
                <a:cubicBezTo>
                  <a:pt x="17717" y="11496"/>
                  <a:pt x="17730" y="11475"/>
                  <a:pt x="17749" y="11443"/>
                </a:cubicBezTo>
                <a:cubicBezTo>
                  <a:pt x="17769" y="11409"/>
                  <a:pt x="17769" y="11388"/>
                  <a:pt x="17815" y="11377"/>
                </a:cubicBezTo>
                <a:cubicBezTo>
                  <a:pt x="17851" y="11369"/>
                  <a:pt x="17854" y="11383"/>
                  <a:pt x="17881" y="11399"/>
                </a:cubicBezTo>
                <a:cubicBezTo>
                  <a:pt x="17853" y="11403"/>
                  <a:pt x="17811" y="11403"/>
                  <a:pt x="17793" y="11421"/>
                </a:cubicBezTo>
                <a:cubicBezTo>
                  <a:pt x="17790" y="11424"/>
                  <a:pt x="17750" y="11502"/>
                  <a:pt x="17749" y="11509"/>
                </a:cubicBezTo>
                <a:cubicBezTo>
                  <a:pt x="17736" y="11574"/>
                  <a:pt x="17748" y="11676"/>
                  <a:pt x="17771" y="11708"/>
                </a:cubicBezTo>
                <a:cubicBezTo>
                  <a:pt x="17786" y="11728"/>
                  <a:pt x="17795" y="11740"/>
                  <a:pt x="17837" y="11730"/>
                </a:cubicBezTo>
                <a:cubicBezTo>
                  <a:pt x="17868" y="11723"/>
                  <a:pt x="17889" y="11700"/>
                  <a:pt x="17903" y="11686"/>
                </a:cubicBezTo>
                <a:cubicBezTo>
                  <a:pt x="17934" y="11655"/>
                  <a:pt x="17928" y="11612"/>
                  <a:pt x="17948" y="11576"/>
                </a:cubicBezTo>
                <a:cubicBezTo>
                  <a:pt x="17973" y="11531"/>
                  <a:pt x="17972" y="11508"/>
                  <a:pt x="17992" y="11465"/>
                </a:cubicBezTo>
                <a:cubicBezTo>
                  <a:pt x="18001" y="11445"/>
                  <a:pt x="18035" y="11402"/>
                  <a:pt x="18036" y="11399"/>
                </a:cubicBezTo>
                <a:cubicBezTo>
                  <a:pt x="18036" y="11392"/>
                  <a:pt x="18036" y="11384"/>
                  <a:pt x="18036" y="11377"/>
                </a:cubicBezTo>
                <a:cubicBezTo>
                  <a:pt x="18031" y="11416"/>
                  <a:pt x="18018" y="11449"/>
                  <a:pt x="18014" y="11487"/>
                </a:cubicBezTo>
                <a:cubicBezTo>
                  <a:pt x="18012" y="11508"/>
                  <a:pt x="17990" y="11607"/>
                  <a:pt x="17992" y="11620"/>
                </a:cubicBezTo>
                <a:cubicBezTo>
                  <a:pt x="17993" y="11628"/>
                  <a:pt x="18032" y="11728"/>
                  <a:pt x="18036" y="11730"/>
                </a:cubicBezTo>
                <a:cubicBezTo>
                  <a:pt x="18058" y="11730"/>
                  <a:pt x="18065" y="11730"/>
                  <a:pt x="18080" y="11730"/>
                </a:cubicBezTo>
                <a:cubicBezTo>
                  <a:pt x="18088" y="11717"/>
                  <a:pt x="18116" y="11707"/>
                  <a:pt x="18102" y="11664"/>
                </a:cubicBezTo>
                <a:cubicBezTo>
                  <a:pt x="18091" y="11632"/>
                  <a:pt x="18061" y="11602"/>
                  <a:pt x="18036" y="11576"/>
                </a:cubicBezTo>
                <a:cubicBezTo>
                  <a:pt x="18011" y="11551"/>
                  <a:pt x="18006" y="11534"/>
                  <a:pt x="17992" y="11509"/>
                </a:cubicBezTo>
                <a:cubicBezTo>
                  <a:pt x="18027" y="11505"/>
                  <a:pt x="18053" y="11492"/>
                  <a:pt x="18080" y="11487"/>
                </a:cubicBezTo>
                <a:cubicBezTo>
                  <a:pt x="18110" y="11481"/>
                  <a:pt x="18145" y="11470"/>
                  <a:pt x="18168" y="11465"/>
                </a:cubicBezTo>
                <a:cubicBezTo>
                  <a:pt x="18210" y="11457"/>
                  <a:pt x="18205" y="11460"/>
                  <a:pt x="18234" y="11443"/>
                </a:cubicBezTo>
                <a:cubicBezTo>
                  <a:pt x="18215" y="11476"/>
                  <a:pt x="18184" y="11517"/>
                  <a:pt x="18168" y="11553"/>
                </a:cubicBezTo>
                <a:cubicBezTo>
                  <a:pt x="18156" y="11579"/>
                  <a:pt x="18136" y="11631"/>
                  <a:pt x="18146" y="11664"/>
                </a:cubicBezTo>
                <a:cubicBezTo>
                  <a:pt x="18154" y="11690"/>
                  <a:pt x="18209" y="11731"/>
                  <a:pt x="18234" y="11730"/>
                </a:cubicBezTo>
                <a:cubicBezTo>
                  <a:pt x="18273" y="11728"/>
                  <a:pt x="18295" y="11691"/>
                  <a:pt x="18322" y="11664"/>
                </a:cubicBezTo>
                <a:cubicBezTo>
                  <a:pt x="18334" y="11652"/>
                  <a:pt x="18333" y="11634"/>
                  <a:pt x="18344" y="11620"/>
                </a:cubicBezTo>
                <a:cubicBezTo>
                  <a:pt x="18344" y="11670"/>
                  <a:pt x="18334" y="11714"/>
                  <a:pt x="18366" y="11752"/>
                </a:cubicBezTo>
                <a:cubicBezTo>
                  <a:pt x="18381" y="11771"/>
                  <a:pt x="18390" y="11784"/>
                  <a:pt x="18433" y="11774"/>
                </a:cubicBezTo>
                <a:cubicBezTo>
                  <a:pt x="18474" y="11764"/>
                  <a:pt x="18481" y="11748"/>
                  <a:pt x="18499" y="11730"/>
                </a:cubicBezTo>
                <a:cubicBezTo>
                  <a:pt x="18525" y="11704"/>
                  <a:pt x="18537" y="11654"/>
                  <a:pt x="18543" y="11620"/>
                </a:cubicBezTo>
                <a:cubicBezTo>
                  <a:pt x="18550" y="11579"/>
                  <a:pt x="18560" y="11519"/>
                  <a:pt x="18565" y="11487"/>
                </a:cubicBezTo>
                <a:cubicBezTo>
                  <a:pt x="18572" y="11438"/>
                  <a:pt x="18565" y="11383"/>
                  <a:pt x="18565" y="11333"/>
                </a:cubicBezTo>
                <a:cubicBezTo>
                  <a:pt x="18552" y="11354"/>
                  <a:pt x="18546" y="11353"/>
                  <a:pt x="18543" y="11399"/>
                </a:cubicBezTo>
                <a:cubicBezTo>
                  <a:pt x="18540" y="11457"/>
                  <a:pt x="18556" y="11507"/>
                  <a:pt x="18565" y="11553"/>
                </a:cubicBezTo>
                <a:cubicBezTo>
                  <a:pt x="18573" y="11599"/>
                  <a:pt x="18565" y="11626"/>
                  <a:pt x="18587" y="11664"/>
                </a:cubicBezTo>
                <a:cubicBezTo>
                  <a:pt x="18609" y="11702"/>
                  <a:pt x="18625" y="11707"/>
                  <a:pt x="18653" y="11730"/>
                </a:cubicBezTo>
                <a:cubicBezTo>
                  <a:pt x="18667" y="11742"/>
                  <a:pt x="18677" y="11766"/>
                  <a:pt x="18719" y="11752"/>
                </a:cubicBezTo>
                <a:cubicBezTo>
                  <a:pt x="18719" y="11752"/>
                  <a:pt x="18766" y="11714"/>
                  <a:pt x="18785" y="11708"/>
                </a:cubicBezTo>
                <a:cubicBezTo>
                  <a:pt x="18792" y="11708"/>
                  <a:pt x="18800" y="11708"/>
                  <a:pt x="18807" y="11708"/>
                </a:cubicBezTo>
              </a:path>
              <a:path w="3242" h="794">
                <a:moveTo>
                  <a:pt x="18896" y="11465"/>
                </a:moveTo>
                <a:cubicBezTo>
                  <a:pt x="18896" y="11415"/>
                  <a:pt x="18913" y="11435"/>
                  <a:pt x="18918" y="11399"/>
                </a:cubicBezTo>
                <a:cubicBezTo>
                  <a:pt x="18923" y="11362"/>
                  <a:pt x="18972" y="11380"/>
                  <a:pt x="18984" y="11399"/>
                </a:cubicBezTo>
                <a:cubicBezTo>
                  <a:pt x="18984" y="11421"/>
                  <a:pt x="18984" y="11428"/>
                  <a:pt x="18984" y="11399"/>
                </a:cubicBezTo>
                <a:cubicBezTo>
                  <a:pt x="18954" y="11399"/>
                  <a:pt x="18913" y="11387"/>
                  <a:pt x="18896" y="11421"/>
                </a:cubicBezTo>
                <a:cubicBezTo>
                  <a:pt x="18875" y="11462"/>
                  <a:pt x="18842" y="11502"/>
                  <a:pt x="18830" y="11553"/>
                </a:cubicBezTo>
                <a:cubicBezTo>
                  <a:pt x="18820" y="11592"/>
                  <a:pt x="18830" y="11646"/>
                  <a:pt x="18830" y="11686"/>
                </a:cubicBezTo>
                <a:cubicBezTo>
                  <a:pt x="18871" y="11686"/>
                  <a:pt x="18887" y="11692"/>
                  <a:pt x="18918" y="11664"/>
                </a:cubicBezTo>
                <a:cubicBezTo>
                  <a:pt x="18941" y="11644"/>
                  <a:pt x="18978" y="11603"/>
                  <a:pt x="18984" y="11576"/>
                </a:cubicBezTo>
                <a:cubicBezTo>
                  <a:pt x="18992" y="11538"/>
                  <a:pt x="19002" y="11498"/>
                  <a:pt x="19006" y="11465"/>
                </a:cubicBezTo>
                <a:cubicBezTo>
                  <a:pt x="19011" y="11419"/>
                  <a:pt x="18994" y="11430"/>
                  <a:pt x="18984" y="11399"/>
                </a:cubicBezTo>
                <a:cubicBezTo>
                  <a:pt x="18984" y="11334"/>
                  <a:pt x="18981" y="11441"/>
                  <a:pt x="18984" y="11443"/>
                </a:cubicBezTo>
                <a:cubicBezTo>
                  <a:pt x="19009" y="11463"/>
                  <a:pt x="19006" y="11462"/>
                  <a:pt x="19006" y="11509"/>
                </a:cubicBezTo>
                <a:cubicBezTo>
                  <a:pt x="19006" y="11544"/>
                  <a:pt x="19028" y="11527"/>
                  <a:pt x="19028" y="11576"/>
                </a:cubicBezTo>
                <a:cubicBezTo>
                  <a:pt x="19028" y="11681"/>
                  <a:pt x="19037" y="11792"/>
                  <a:pt x="19006" y="11884"/>
                </a:cubicBezTo>
                <a:cubicBezTo>
                  <a:pt x="18992" y="11927"/>
                  <a:pt x="18987" y="11928"/>
                  <a:pt x="18940" y="11928"/>
                </a:cubicBezTo>
                <a:cubicBezTo>
                  <a:pt x="18900" y="11928"/>
                  <a:pt x="18888" y="11902"/>
                  <a:pt x="18874" y="11884"/>
                </a:cubicBezTo>
                <a:cubicBezTo>
                  <a:pt x="18846" y="11847"/>
                  <a:pt x="18841" y="11833"/>
                  <a:pt x="18874" y="11796"/>
                </a:cubicBezTo>
                <a:cubicBezTo>
                  <a:pt x="18895" y="11772"/>
                  <a:pt x="18926" y="11718"/>
                  <a:pt x="18940" y="11686"/>
                </a:cubicBezTo>
                <a:cubicBezTo>
                  <a:pt x="18953" y="11657"/>
                  <a:pt x="18958" y="11646"/>
                  <a:pt x="18984" y="11620"/>
                </a:cubicBezTo>
              </a:path>
              <a:path w="3242" h="794">
                <a:moveTo>
                  <a:pt x="19182" y="11399"/>
                </a:moveTo>
                <a:cubicBezTo>
                  <a:pt x="19140" y="11371"/>
                  <a:pt x="19160" y="11401"/>
                  <a:pt x="19160" y="11443"/>
                </a:cubicBezTo>
                <a:cubicBezTo>
                  <a:pt x="19160" y="11491"/>
                  <a:pt x="19153" y="11534"/>
                  <a:pt x="19138" y="11576"/>
                </a:cubicBezTo>
                <a:cubicBezTo>
                  <a:pt x="19112" y="11650"/>
                  <a:pt x="19118" y="11625"/>
                  <a:pt x="19138" y="11686"/>
                </a:cubicBezTo>
                <a:cubicBezTo>
                  <a:pt x="19144" y="11705"/>
                  <a:pt x="19173" y="11725"/>
                  <a:pt x="19204" y="11708"/>
                </a:cubicBezTo>
                <a:cubicBezTo>
                  <a:pt x="19227" y="11695"/>
                  <a:pt x="19245" y="11643"/>
                  <a:pt x="19248" y="11620"/>
                </a:cubicBezTo>
                <a:cubicBezTo>
                  <a:pt x="19253" y="11577"/>
                  <a:pt x="19254" y="11540"/>
                  <a:pt x="19226" y="11509"/>
                </a:cubicBezTo>
                <a:cubicBezTo>
                  <a:pt x="19204" y="11484"/>
                  <a:pt x="19168" y="11473"/>
                  <a:pt x="19138" y="11465"/>
                </a:cubicBezTo>
                <a:cubicBezTo>
                  <a:pt x="19076" y="11465"/>
                  <a:pt x="19176" y="11468"/>
                  <a:pt x="19182" y="11465"/>
                </a:cubicBezTo>
                <a:cubicBezTo>
                  <a:pt x="19194" y="11458"/>
                  <a:pt x="19267" y="11426"/>
                  <a:pt x="19270" y="11421"/>
                </a:cubicBezTo>
                <a:cubicBezTo>
                  <a:pt x="19288" y="11393"/>
                  <a:pt x="19292" y="11399"/>
                  <a:pt x="19337" y="11399"/>
                </a:cubicBezTo>
                <a:cubicBezTo>
                  <a:pt x="19337" y="11448"/>
                  <a:pt x="19327" y="11462"/>
                  <a:pt x="19315" y="11509"/>
                </a:cubicBezTo>
                <a:cubicBezTo>
                  <a:pt x="19306" y="11544"/>
                  <a:pt x="19293" y="11558"/>
                  <a:pt x="19293" y="11598"/>
                </a:cubicBezTo>
                <a:cubicBezTo>
                  <a:pt x="19293" y="11636"/>
                  <a:pt x="19325" y="11660"/>
                  <a:pt x="19359" y="11664"/>
                </a:cubicBezTo>
                <a:cubicBezTo>
                  <a:pt x="19390" y="11667"/>
                  <a:pt x="19425" y="11656"/>
                  <a:pt x="19447" y="11642"/>
                </a:cubicBezTo>
                <a:cubicBezTo>
                  <a:pt x="19474" y="11624"/>
                  <a:pt x="19473" y="11565"/>
                  <a:pt x="19491" y="11553"/>
                </a:cubicBezTo>
                <a:cubicBezTo>
                  <a:pt x="19518" y="11534"/>
                  <a:pt x="19513" y="11532"/>
                  <a:pt x="19513" y="11487"/>
                </a:cubicBezTo>
                <a:cubicBezTo>
                  <a:pt x="19513" y="11480"/>
                  <a:pt x="19513" y="11472"/>
                  <a:pt x="19513" y="11465"/>
                </a:cubicBezTo>
                <a:cubicBezTo>
                  <a:pt x="19513" y="11420"/>
                  <a:pt x="19530" y="11493"/>
                  <a:pt x="19535" y="11509"/>
                </a:cubicBezTo>
                <a:cubicBezTo>
                  <a:pt x="19550" y="11554"/>
                  <a:pt x="19510" y="11604"/>
                  <a:pt x="19557" y="11620"/>
                </a:cubicBezTo>
                <a:cubicBezTo>
                  <a:pt x="19588" y="11610"/>
                  <a:pt x="19584" y="11576"/>
                  <a:pt x="19601" y="11553"/>
                </a:cubicBezTo>
                <a:cubicBezTo>
                  <a:pt x="19628" y="11516"/>
                  <a:pt x="19641" y="11468"/>
                  <a:pt x="19645" y="11421"/>
                </a:cubicBezTo>
                <a:cubicBezTo>
                  <a:pt x="19649" y="11378"/>
                  <a:pt x="19645" y="11332"/>
                  <a:pt x="19645" y="11289"/>
                </a:cubicBezTo>
                <a:cubicBezTo>
                  <a:pt x="19635" y="11329"/>
                  <a:pt x="19623" y="11351"/>
                  <a:pt x="19623" y="11399"/>
                </a:cubicBezTo>
                <a:cubicBezTo>
                  <a:pt x="19623" y="11480"/>
                  <a:pt x="19622" y="11552"/>
                  <a:pt x="19645" y="11620"/>
                </a:cubicBezTo>
                <a:cubicBezTo>
                  <a:pt x="19658" y="11659"/>
                  <a:pt x="19669" y="11676"/>
                  <a:pt x="19711" y="11686"/>
                </a:cubicBezTo>
                <a:cubicBezTo>
                  <a:pt x="19718" y="11661"/>
                  <a:pt x="19755" y="11623"/>
                  <a:pt x="19756" y="11620"/>
                </a:cubicBezTo>
                <a:cubicBezTo>
                  <a:pt x="19764" y="11591"/>
                  <a:pt x="19776" y="11535"/>
                  <a:pt x="19778" y="11509"/>
                </a:cubicBezTo>
                <a:cubicBezTo>
                  <a:pt x="19782" y="11457"/>
                  <a:pt x="19800" y="11433"/>
                  <a:pt x="19800" y="11377"/>
                </a:cubicBezTo>
                <a:cubicBezTo>
                  <a:pt x="19800" y="11326"/>
                  <a:pt x="19824" y="11359"/>
                  <a:pt x="19800" y="11311"/>
                </a:cubicBezTo>
                <a:cubicBezTo>
                  <a:pt x="19791" y="11346"/>
                  <a:pt x="19778" y="11360"/>
                  <a:pt x="19778" y="11399"/>
                </a:cubicBezTo>
                <a:cubicBezTo>
                  <a:pt x="19778" y="11464"/>
                  <a:pt x="19783" y="11500"/>
                  <a:pt x="19800" y="11553"/>
                </a:cubicBezTo>
                <a:cubicBezTo>
                  <a:pt x="19811" y="11586"/>
                  <a:pt x="19830" y="11608"/>
                  <a:pt x="19866" y="11620"/>
                </a:cubicBezTo>
                <a:cubicBezTo>
                  <a:pt x="19873" y="11620"/>
                  <a:pt x="19881" y="11620"/>
                  <a:pt x="19888" y="11620"/>
                </a:cubicBezTo>
              </a:path>
              <a:path w="3242" h="794">
                <a:moveTo>
                  <a:pt x="20174" y="11179"/>
                </a:moveTo>
                <a:cubicBezTo>
                  <a:pt x="20174" y="11230"/>
                  <a:pt x="20160" y="11270"/>
                  <a:pt x="20152" y="11311"/>
                </a:cubicBezTo>
                <a:cubicBezTo>
                  <a:pt x="20141" y="11366"/>
                  <a:pt x="20125" y="11416"/>
                  <a:pt x="20108" y="11465"/>
                </a:cubicBezTo>
                <a:cubicBezTo>
                  <a:pt x="20089" y="11520"/>
                  <a:pt x="20071" y="11595"/>
                  <a:pt x="20042" y="11642"/>
                </a:cubicBezTo>
                <a:cubicBezTo>
                  <a:pt x="20022" y="11674"/>
                  <a:pt x="20002" y="11714"/>
                  <a:pt x="19998" y="11752"/>
                </a:cubicBezTo>
                <a:cubicBezTo>
                  <a:pt x="19998" y="11774"/>
                  <a:pt x="19998" y="11781"/>
                  <a:pt x="19998" y="11752"/>
                </a:cubicBezTo>
              </a:path>
              <a:path w="3242" h="794">
                <a:moveTo>
                  <a:pt x="20241" y="11377"/>
                </a:moveTo>
                <a:cubicBezTo>
                  <a:pt x="20241" y="11422"/>
                  <a:pt x="20231" y="11429"/>
                  <a:pt x="20219" y="11465"/>
                </a:cubicBezTo>
                <a:cubicBezTo>
                  <a:pt x="20205" y="11507"/>
                  <a:pt x="20210" y="11559"/>
                  <a:pt x="20197" y="11598"/>
                </a:cubicBezTo>
                <a:cubicBezTo>
                  <a:pt x="20193" y="11611"/>
                  <a:pt x="20171" y="11702"/>
                  <a:pt x="20174" y="11708"/>
                </a:cubicBezTo>
                <a:cubicBezTo>
                  <a:pt x="20182" y="11715"/>
                  <a:pt x="20189" y="11723"/>
                  <a:pt x="20197" y="11730"/>
                </a:cubicBezTo>
                <a:cubicBezTo>
                  <a:pt x="20197" y="11689"/>
                  <a:pt x="20178" y="11678"/>
                  <a:pt x="20174" y="11642"/>
                </a:cubicBezTo>
                <a:cubicBezTo>
                  <a:pt x="20169" y="11602"/>
                  <a:pt x="20213" y="11589"/>
                  <a:pt x="20219" y="11576"/>
                </a:cubicBezTo>
                <a:cubicBezTo>
                  <a:pt x="20240" y="11533"/>
                  <a:pt x="20262" y="11581"/>
                  <a:pt x="20285" y="11553"/>
                </a:cubicBezTo>
                <a:cubicBezTo>
                  <a:pt x="20298" y="11537"/>
                  <a:pt x="20343" y="11524"/>
                  <a:pt x="20351" y="11509"/>
                </a:cubicBezTo>
                <a:cubicBezTo>
                  <a:pt x="20364" y="11482"/>
                  <a:pt x="20369" y="11469"/>
                  <a:pt x="20395" y="11443"/>
                </a:cubicBezTo>
                <a:cubicBezTo>
                  <a:pt x="20350" y="11458"/>
                  <a:pt x="20372" y="11488"/>
                  <a:pt x="20351" y="11531"/>
                </a:cubicBezTo>
                <a:cubicBezTo>
                  <a:pt x="20332" y="11569"/>
                  <a:pt x="20318" y="11619"/>
                  <a:pt x="20307" y="11664"/>
                </a:cubicBezTo>
                <a:cubicBezTo>
                  <a:pt x="20299" y="11697"/>
                  <a:pt x="20313" y="11744"/>
                  <a:pt x="20329" y="11752"/>
                </a:cubicBezTo>
                <a:cubicBezTo>
                  <a:pt x="20368" y="11771"/>
                  <a:pt x="20411" y="11739"/>
                  <a:pt x="20439" y="11730"/>
                </a:cubicBezTo>
                <a:cubicBezTo>
                  <a:pt x="20479" y="11717"/>
                  <a:pt x="20484" y="11678"/>
                  <a:pt x="20505" y="11664"/>
                </a:cubicBezTo>
                <a:cubicBezTo>
                  <a:pt x="20520" y="11654"/>
                  <a:pt x="20567" y="11642"/>
                  <a:pt x="20527" y="11642"/>
                </a:cubicBezTo>
                <a:cubicBezTo>
                  <a:pt x="20517" y="11691"/>
                  <a:pt x="20505" y="11722"/>
                  <a:pt x="20505" y="11774"/>
                </a:cubicBezTo>
                <a:cubicBezTo>
                  <a:pt x="20505" y="11816"/>
                  <a:pt x="20486" y="11844"/>
                  <a:pt x="20483" y="11884"/>
                </a:cubicBezTo>
                <a:cubicBezTo>
                  <a:pt x="20481" y="11913"/>
                  <a:pt x="20483" y="11943"/>
                  <a:pt x="20483" y="11972"/>
                </a:cubicBezTo>
                <a:cubicBezTo>
                  <a:pt x="20442" y="11972"/>
                  <a:pt x="20426" y="11978"/>
                  <a:pt x="20395" y="11950"/>
                </a:cubicBezTo>
                <a:cubicBezTo>
                  <a:pt x="20365" y="11923"/>
                  <a:pt x="20373" y="11900"/>
                  <a:pt x="20373" y="11862"/>
                </a:cubicBezTo>
                <a:cubicBezTo>
                  <a:pt x="20373" y="11824"/>
                  <a:pt x="20392" y="11779"/>
                  <a:pt x="20417" y="11752"/>
                </a:cubicBezTo>
                <a:cubicBezTo>
                  <a:pt x="20457" y="11709"/>
                  <a:pt x="20500" y="11671"/>
                  <a:pt x="20549" y="11642"/>
                </a:cubicBezTo>
                <a:cubicBezTo>
                  <a:pt x="20564" y="11635"/>
                  <a:pt x="20578" y="11627"/>
                  <a:pt x="20593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Ink 49"/>
          <p:cNvSpPr/>
          <p:nvPr/>
        </p:nvSpPr>
        <p:spPr>
          <a:xfrm>
            <a:off x="7540560" y="3984480"/>
            <a:ext cx="285840" cy="341280"/>
          </a:xfrm>
          <a:custGeom>
            <a:avLst/>
            <a:gdLst/>
            <a:ahLst/>
            <a:rect l="l" t="t" r="r" b="b"/>
            <a:pathLst>
              <a:path w="795" h="949">
                <a:moveTo>
                  <a:pt x="21012" y="11509"/>
                </a:moveTo>
                <a:cubicBezTo>
                  <a:pt x="21022" y="11480"/>
                  <a:pt x="21047" y="11483"/>
                  <a:pt x="21056" y="11465"/>
                </a:cubicBezTo>
                <a:cubicBezTo>
                  <a:pt x="21071" y="11434"/>
                  <a:pt x="21080" y="11443"/>
                  <a:pt x="21123" y="11443"/>
                </a:cubicBezTo>
                <a:cubicBezTo>
                  <a:pt x="21144" y="11443"/>
                  <a:pt x="21166" y="11467"/>
                  <a:pt x="21189" y="11487"/>
                </a:cubicBezTo>
                <a:cubicBezTo>
                  <a:pt x="21196" y="11494"/>
                  <a:pt x="21204" y="11502"/>
                  <a:pt x="21211" y="11509"/>
                </a:cubicBezTo>
                <a:cubicBezTo>
                  <a:pt x="21189" y="11479"/>
                  <a:pt x="21182" y="11455"/>
                  <a:pt x="21145" y="11443"/>
                </a:cubicBezTo>
                <a:cubicBezTo>
                  <a:pt x="21111" y="11432"/>
                  <a:pt x="21079" y="11445"/>
                  <a:pt x="21056" y="11465"/>
                </a:cubicBezTo>
                <a:cubicBezTo>
                  <a:pt x="21025" y="11492"/>
                  <a:pt x="21008" y="11520"/>
                  <a:pt x="20990" y="11553"/>
                </a:cubicBezTo>
                <a:cubicBezTo>
                  <a:pt x="20958" y="11610"/>
                  <a:pt x="20946" y="11645"/>
                  <a:pt x="20946" y="11708"/>
                </a:cubicBezTo>
                <a:cubicBezTo>
                  <a:pt x="20946" y="11729"/>
                  <a:pt x="20969" y="11785"/>
                  <a:pt x="20990" y="11796"/>
                </a:cubicBezTo>
                <a:cubicBezTo>
                  <a:pt x="21020" y="11811"/>
                  <a:pt x="21125" y="11797"/>
                  <a:pt x="21145" y="11774"/>
                </a:cubicBezTo>
                <a:cubicBezTo>
                  <a:pt x="21169" y="11747"/>
                  <a:pt x="21174" y="11694"/>
                  <a:pt x="21189" y="11664"/>
                </a:cubicBezTo>
                <a:cubicBezTo>
                  <a:pt x="21204" y="11634"/>
                  <a:pt x="21225" y="11593"/>
                  <a:pt x="21211" y="11553"/>
                </a:cubicBezTo>
                <a:cubicBezTo>
                  <a:pt x="21193" y="11503"/>
                  <a:pt x="21182" y="11480"/>
                  <a:pt x="21145" y="11443"/>
                </a:cubicBezTo>
                <a:cubicBezTo>
                  <a:pt x="21115" y="11413"/>
                  <a:pt x="21085" y="11396"/>
                  <a:pt x="21056" y="11377"/>
                </a:cubicBezTo>
                <a:cubicBezTo>
                  <a:pt x="21025" y="11356"/>
                  <a:pt x="20999" y="11312"/>
                  <a:pt x="21034" y="11289"/>
                </a:cubicBezTo>
                <a:cubicBezTo>
                  <a:pt x="21059" y="11272"/>
                  <a:pt x="21094" y="11242"/>
                  <a:pt x="21123" y="11223"/>
                </a:cubicBezTo>
                <a:cubicBezTo>
                  <a:pt x="21175" y="11190"/>
                  <a:pt x="21211" y="11157"/>
                  <a:pt x="21255" y="11112"/>
                </a:cubicBezTo>
                <a:cubicBezTo>
                  <a:pt x="21284" y="11083"/>
                  <a:pt x="21308" y="11084"/>
                  <a:pt x="21277" y="11068"/>
                </a:cubicBezTo>
              </a:path>
              <a:path w="795" h="949">
                <a:moveTo>
                  <a:pt x="21387" y="11179"/>
                </a:moveTo>
                <a:cubicBezTo>
                  <a:pt x="21387" y="11273"/>
                  <a:pt x="21378" y="11352"/>
                  <a:pt x="21365" y="11443"/>
                </a:cubicBezTo>
                <a:cubicBezTo>
                  <a:pt x="21356" y="11506"/>
                  <a:pt x="21340" y="11582"/>
                  <a:pt x="21321" y="11642"/>
                </a:cubicBezTo>
                <a:cubicBezTo>
                  <a:pt x="21302" y="11702"/>
                  <a:pt x="21282" y="11754"/>
                  <a:pt x="21277" y="11818"/>
                </a:cubicBezTo>
                <a:cubicBezTo>
                  <a:pt x="21275" y="11840"/>
                  <a:pt x="21277" y="11862"/>
                  <a:pt x="21277" y="11884"/>
                </a:cubicBezTo>
              </a:path>
              <a:path w="795" h="949">
                <a:moveTo>
                  <a:pt x="21519" y="11399"/>
                </a:moveTo>
                <a:cubicBezTo>
                  <a:pt x="21491" y="11436"/>
                  <a:pt x="21479" y="11485"/>
                  <a:pt x="21475" y="11531"/>
                </a:cubicBezTo>
                <a:cubicBezTo>
                  <a:pt x="21471" y="11578"/>
                  <a:pt x="21439" y="11625"/>
                  <a:pt x="21431" y="11664"/>
                </a:cubicBezTo>
                <a:cubicBezTo>
                  <a:pt x="21423" y="11703"/>
                  <a:pt x="21431" y="11755"/>
                  <a:pt x="21431" y="11796"/>
                </a:cubicBezTo>
                <a:cubicBezTo>
                  <a:pt x="21440" y="11761"/>
                  <a:pt x="21453" y="11747"/>
                  <a:pt x="21453" y="11708"/>
                </a:cubicBezTo>
                <a:cubicBezTo>
                  <a:pt x="21453" y="11663"/>
                  <a:pt x="21492" y="11587"/>
                  <a:pt x="21519" y="11553"/>
                </a:cubicBezTo>
                <a:cubicBezTo>
                  <a:pt x="21544" y="11521"/>
                  <a:pt x="21579" y="11494"/>
                  <a:pt x="21608" y="11465"/>
                </a:cubicBezTo>
                <a:cubicBezTo>
                  <a:pt x="21628" y="11445"/>
                  <a:pt x="21632" y="11438"/>
                  <a:pt x="21652" y="11443"/>
                </a:cubicBezTo>
              </a:path>
              <a:path w="795" h="949">
                <a:moveTo>
                  <a:pt x="21475" y="11553"/>
                </a:moveTo>
                <a:cubicBezTo>
                  <a:pt x="21465" y="11574"/>
                  <a:pt x="21458" y="11611"/>
                  <a:pt x="21475" y="11642"/>
                </a:cubicBezTo>
                <a:cubicBezTo>
                  <a:pt x="21497" y="11681"/>
                  <a:pt x="21497" y="11686"/>
                  <a:pt x="21541" y="11686"/>
                </a:cubicBezTo>
                <a:cubicBezTo>
                  <a:pt x="21588" y="11686"/>
                  <a:pt x="21596" y="11676"/>
                  <a:pt x="21630" y="11642"/>
                </a:cubicBezTo>
                <a:cubicBezTo>
                  <a:pt x="21652" y="11620"/>
                  <a:pt x="21659" y="11613"/>
                  <a:pt x="21674" y="11598"/>
                </a:cubicBezTo>
                <a:cubicBezTo>
                  <a:pt x="21665" y="11632"/>
                  <a:pt x="21664" y="11673"/>
                  <a:pt x="21652" y="11708"/>
                </a:cubicBezTo>
                <a:cubicBezTo>
                  <a:pt x="21633" y="11765"/>
                  <a:pt x="21630" y="11801"/>
                  <a:pt x="21630" y="11862"/>
                </a:cubicBezTo>
                <a:cubicBezTo>
                  <a:pt x="21630" y="11922"/>
                  <a:pt x="21622" y="11965"/>
                  <a:pt x="21608" y="11994"/>
                </a:cubicBezTo>
                <a:cubicBezTo>
                  <a:pt x="21591" y="12028"/>
                  <a:pt x="21579" y="11991"/>
                  <a:pt x="21564" y="11972"/>
                </a:cubicBezTo>
                <a:cubicBezTo>
                  <a:pt x="21538" y="11938"/>
                  <a:pt x="21541" y="11928"/>
                  <a:pt x="21541" y="11884"/>
                </a:cubicBezTo>
                <a:cubicBezTo>
                  <a:pt x="21541" y="11827"/>
                  <a:pt x="21582" y="11815"/>
                  <a:pt x="21608" y="11774"/>
                </a:cubicBezTo>
                <a:cubicBezTo>
                  <a:pt x="21629" y="11742"/>
                  <a:pt x="21656" y="11682"/>
                  <a:pt x="21696" y="11664"/>
                </a:cubicBezTo>
                <a:cubicBezTo>
                  <a:pt x="21721" y="11664"/>
                  <a:pt x="21731" y="11662"/>
                  <a:pt x="21740" y="11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Ink 50"/>
          <p:cNvSpPr/>
          <p:nvPr/>
        </p:nvSpPr>
        <p:spPr>
          <a:xfrm>
            <a:off x="7953480" y="4064040"/>
            <a:ext cx="1182600" cy="325440"/>
          </a:xfrm>
          <a:custGeom>
            <a:avLst/>
            <a:gdLst/>
            <a:ahLst/>
            <a:rect l="l" t="t" r="r" b="b"/>
            <a:pathLst>
              <a:path w="3286" h="905">
                <a:moveTo>
                  <a:pt x="22115" y="11333"/>
                </a:moveTo>
                <a:cubicBezTo>
                  <a:pt x="22135" y="11340"/>
                  <a:pt x="22150" y="11371"/>
                  <a:pt x="22159" y="11399"/>
                </a:cubicBezTo>
                <a:cubicBezTo>
                  <a:pt x="22180" y="11462"/>
                  <a:pt x="22147" y="11541"/>
                  <a:pt x="22137" y="11598"/>
                </a:cubicBezTo>
                <a:cubicBezTo>
                  <a:pt x="22126" y="11660"/>
                  <a:pt x="22130" y="11713"/>
                  <a:pt x="22115" y="11774"/>
                </a:cubicBezTo>
                <a:cubicBezTo>
                  <a:pt x="22106" y="11810"/>
                  <a:pt x="22101" y="11824"/>
                  <a:pt x="22093" y="11840"/>
                </a:cubicBezTo>
                <a:cubicBezTo>
                  <a:pt x="22075" y="11877"/>
                  <a:pt x="22093" y="11823"/>
                  <a:pt x="22093" y="11796"/>
                </a:cubicBezTo>
                <a:cubicBezTo>
                  <a:pt x="22093" y="11751"/>
                  <a:pt x="22103" y="11744"/>
                  <a:pt x="22115" y="11708"/>
                </a:cubicBezTo>
                <a:cubicBezTo>
                  <a:pt x="22127" y="11671"/>
                  <a:pt x="22115" y="11631"/>
                  <a:pt x="22137" y="11598"/>
                </a:cubicBezTo>
                <a:cubicBezTo>
                  <a:pt x="22158" y="11566"/>
                  <a:pt x="22187" y="11523"/>
                  <a:pt x="22203" y="11487"/>
                </a:cubicBezTo>
                <a:cubicBezTo>
                  <a:pt x="22215" y="11459"/>
                  <a:pt x="22255" y="11464"/>
                  <a:pt x="22269" y="11443"/>
                </a:cubicBezTo>
                <a:cubicBezTo>
                  <a:pt x="22286" y="11418"/>
                  <a:pt x="22271" y="11433"/>
                  <a:pt x="22313" y="11443"/>
                </a:cubicBezTo>
              </a:path>
              <a:path w="3286" h="905">
                <a:moveTo>
                  <a:pt x="22137" y="11553"/>
                </a:moveTo>
                <a:cubicBezTo>
                  <a:pt x="22148" y="11588"/>
                  <a:pt x="22156" y="11579"/>
                  <a:pt x="22181" y="11598"/>
                </a:cubicBezTo>
                <a:cubicBezTo>
                  <a:pt x="22208" y="11619"/>
                  <a:pt x="22235" y="11638"/>
                  <a:pt x="22269" y="11642"/>
                </a:cubicBezTo>
                <a:cubicBezTo>
                  <a:pt x="22297" y="11645"/>
                  <a:pt x="22328" y="11642"/>
                  <a:pt x="22357" y="11642"/>
                </a:cubicBezTo>
                <a:cubicBezTo>
                  <a:pt x="22327" y="11681"/>
                  <a:pt x="22333" y="11711"/>
                  <a:pt x="22313" y="11752"/>
                </a:cubicBezTo>
                <a:cubicBezTo>
                  <a:pt x="22292" y="11794"/>
                  <a:pt x="22289" y="11843"/>
                  <a:pt x="22269" y="11884"/>
                </a:cubicBezTo>
                <a:cubicBezTo>
                  <a:pt x="22250" y="11921"/>
                  <a:pt x="22247" y="11927"/>
                  <a:pt x="22247" y="11972"/>
                </a:cubicBezTo>
                <a:cubicBezTo>
                  <a:pt x="22247" y="11979"/>
                  <a:pt x="22247" y="11987"/>
                  <a:pt x="22247" y="11994"/>
                </a:cubicBezTo>
                <a:cubicBezTo>
                  <a:pt x="22201" y="11979"/>
                  <a:pt x="22242" y="11969"/>
                  <a:pt x="22247" y="11928"/>
                </a:cubicBezTo>
                <a:cubicBezTo>
                  <a:pt x="22251" y="11891"/>
                  <a:pt x="22267" y="11873"/>
                  <a:pt x="22269" y="11840"/>
                </a:cubicBezTo>
                <a:cubicBezTo>
                  <a:pt x="22273" y="11788"/>
                  <a:pt x="22304" y="11753"/>
                  <a:pt x="22313" y="11708"/>
                </a:cubicBezTo>
                <a:cubicBezTo>
                  <a:pt x="22324" y="11653"/>
                  <a:pt x="22339" y="11622"/>
                  <a:pt x="22379" y="11576"/>
                </a:cubicBezTo>
                <a:cubicBezTo>
                  <a:pt x="22398" y="11554"/>
                  <a:pt x="22423" y="11498"/>
                  <a:pt x="22445" y="11487"/>
                </a:cubicBezTo>
                <a:cubicBezTo>
                  <a:pt x="22484" y="11468"/>
                  <a:pt x="22503" y="11505"/>
                  <a:pt x="22512" y="11509"/>
                </a:cubicBezTo>
                <a:cubicBezTo>
                  <a:pt x="22537" y="11509"/>
                  <a:pt x="22547" y="11511"/>
                  <a:pt x="22556" y="11531"/>
                </a:cubicBezTo>
                <a:cubicBezTo>
                  <a:pt x="22556" y="11503"/>
                  <a:pt x="22549" y="11472"/>
                  <a:pt x="22534" y="11465"/>
                </a:cubicBezTo>
                <a:cubicBezTo>
                  <a:pt x="22490" y="11443"/>
                  <a:pt x="22521" y="11448"/>
                  <a:pt x="22468" y="11465"/>
                </a:cubicBezTo>
                <a:cubicBezTo>
                  <a:pt x="22435" y="11476"/>
                  <a:pt x="22413" y="11495"/>
                  <a:pt x="22401" y="11531"/>
                </a:cubicBezTo>
                <a:cubicBezTo>
                  <a:pt x="22383" y="11586"/>
                  <a:pt x="22409" y="11643"/>
                  <a:pt x="22423" y="11686"/>
                </a:cubicBezTo>
                <a:cubicBezTo>
                  <a:pt x="22434" y="11719"/>
                  <a:pt x="22450" y="11708"/>
                  <a:pt x="22490" y="11708"/>
                </a:cubicBezTo>
                <a:cubicBezTo>
                  <a:pt x="22528" y="11708"/>
                  <a:pt x="22552" y="11668"/>
                  <a:pt x="22578" y="11642"/>
                </a:cubicBezTo>
                <a:cubicBezTo>
                  <a:pt x="22616" y="11604"/>
                  <a:pt x="22608" y="11589"/>
                  <a:pt x="22600" y="11553"/>
                </a:cubicBezTo>
                <a:cubicBezTo>
                  <a:pt x="22595" y="11530"/>
                  <a:pt x="22581" y="11477"/>
                  <a:pt x="22556" y="11465"/>
                </a:cubicBezTo>
                <a:cubicBezTo>
                  <a:pt x="22538" y="11456"/>
                  <a:pt x="22489" y="11465"/>
                  <a:pt x="22468" y="11465"/>
                </a:cubicBezTo>
              </a:path>
              <a:path w="3286" h="905">
                <a:moveTo>
                  <a:pt x="22666" y="11465"/>
                </a:moveTo>
                <a:cubicBezTo>
                  <a:pt x="22633" y="11440"/>
                  <a:pt x="22639" y="11413"/>
                  <a:pt x="22622" y="11399"/>
                </a:cubicBezTo>
                <a:cubicBezTo>
                  <a:pt x="22604" y="11384"/>
                  <a:pt x="22611" y="11366"/>
                  <a:pt x="22644" y="11355"/>
                </a:cubicBezTo>
                <a:cubicBezTo>
                  <a:pt x="22671" y="11364"/>
                  <a:pt x="22695" y="11379"/>
                  <a:pt x="22710" y="11421"/>
                </a:cubicBezTo>
                <a:cubicBezTo>
                  <a:pt x="22724" y="11459"/>
                  <a:pt x="22732" y="11485"/>
                  <a:pt x="22732" y="11531"/>
                </a:cubicBezTo>
                <a:cubicBezTo>
                  <a:pt x="22732" y="11593"/>
                  <a:pt x="22702" y="11629"/>
                  <a:pt x="22688" y="11686"/>
                </a:cubicBezTo>
                <a:cubicBezTo>
                  <a:pt x="22682" y="11710"/>
                  <a:pt x="22642" y="11764"/>
                  <a:pt x="22666" y="11730"/>
                </a:cubicBezTo>
                <a:cubicBezTo>
                  <a:pt x="22682" y="11708"/>
                  <a:pt x="22715" y="11688"/>
                  <a:pt x="22732" y="11686"/>
                </a:cubicBezTo>
                <a:cubicBezTo>
                  <a:pt x="22753" y="11683"/>
                  <a:pt x="22777" y="11686"/>
                  <a:pt x="22798" y="11686"/>
                </a:cubicBezTo>
                <a:cubicBezTo>
                  <a:pt x="22798" y="11780"/>
                  <a:pt x="22796" y="11862"/>
                  <a:pt x="22776" y="11950"/>
                </a:cubicBezTo>
                <a:cubicBezTo>
                  <a:pt x="22764" y="12002"/>
                  <a:pt x="22741" y="12081"/>
                  <a:pt x="22710" y="12127"/>
                </a:cubicBezTo>
                <a:cubicBezTo>
                  <a:pt x="22690" y="12156"/>
                  <a:pt x="22680" y="12181"/>
                  <a:pt x="22644" y="12193"/>
                </a:cubicBezTo>
                <a:cubicBezTo>
                  <a:pt x="22603" y="12207"/>
                  <a:pt x="22581" y="12174"/>
                  <a:pt x="22556" y="12149"/>
                </a:cubicBezTo>
                <a:cubicBezTo>
                  <a:pt x="22512" y="12105"/>
                  <a:pt x="22547" y="12083"/>
                  <a:pt x="22556" y="12039"/>
                </a:cubicBezTo>
                <a:cubicBezTo>
                  <a:pt x="22568" y="11979"/>
                  <a:pt x="22590" y="11962"/>
                  <a:pt x="22622" y="11906"/>
                </a:cubicBezTo>
              </a:path>
              <a:path w="3286" h="905">
                <a:moveTo>
                  <a:pt x="22909" y="11487"/>
                </a:moveTo>
                <a:cubicBezTo>
                  <a:pt x="23004" y="11487"/>
                  <a:pt x="23100" y="11487"/>
                  <a:pt x="23195" y="11487"/>
                </a:cubicBezTo>
              </a:path>
              <a:path w="3286" h="905">
                <a:moveTo>
                  <a:pt x="22842" y="11399"/>
                </a:moveTo>
                <a:cubicBezTo>
                  <a:pt x="22866" y="11367"/>
                  <a:pt x="22869" y="11355"/>
                  <a:pt x="22886" y="11333"/>
                </a:cubicBezTo>
                <a:cubicBezTo>
                  <a:pt x="22898" y="11318"/>
                  <a:pt x="22980" y="11281"/>
                  <a:pt x="22997" y="11289"/>
                </a:cubicBezTo>
                <a:cubicBezTo>
                  <a:pt x="23030" y="11303"/>
                  <a:pt x="23039" y="11351"/>
                  <a:pt x="23041" y="11377"/>
                </a:cubicBezTo>
                <a:cubicBezTo>
                  <a:pt x="23046" y="11429"/>
                  <a:pt x="23032" y="11466"/>
                  <a:pt x="23019" y="11509"/>
                </a:cubicBezTo>
                <a:cubicBezTo>
                  <a:pt x="23007" y="11548"/>
                  <a:pt x="22997" y="11572"/>
                  <a:pt x="22997" y="11620"/>
                </a:cubicBezTo>
                <a:cubicBezTo>
                  <a:pt x="22997" y="11634"/>
                  <a:pt x="23022" y="11673"/>
                  <a:pt x="23041" y="11664"/>
                </a:cubicBezTo>
                <a:cubicBezTo>
                  <a:pt x="23061" y="11644"/>
                  <a:pt x="23065" y="11637"/>
                  <a:pt x="23085" y="11642"/>
                </a:cubicBezTo>
              </a:path>
              <a:path w="3286" h="905">
                <a:moveTo>
                  <a:pt x="22864" y="11531"/>
                </a:moveTo>
                <a:cubicBezTo>
                  <a:pt x="22899" y="11522"/>
                  <a:pt x="22938" y="11520"/>
                  <a:pt x="22975" y="11509"/>
                </a:cubicBezTo>
                <a:cubicBezTo>
                  <a:pt x="23032" y="11492"/>
                  <a:pt x="23068" y="11487"/>
                  <a:pt x="23129" y="11487"/>
                </a:cubicBezTo>
                <a:cubicBezTo>
                  <a:pt x="23144" y="11487"/>
                  <a:pt x="23158" y="11487"/>
                  <a:pt x="23173" y="11487"/>
                </a:cubicBezTo>
              </a:path>
              <a:path w="3286" h="905">
                <a:moveTo>
                  <a:pt x="23283" y="11377"/>
                </a:moveTo>
                <a:cubicBezTo>
                  <a:pt x="23299" y="11367"/>
                  <a:pt x="23304" y="11345"/>
                  <a:pt x="23349" y="11355"/>
                </a:cubicBezTo>
                <a:cubicBezTo>
                  <a:pt x="23387" y="11364"/>
                  <a:pt x="23393" y="11394"/>
                  <a:pt x="23416" y="11421"/>
                </a:cubicBezTo>
                <a:cubicBezTo>
                  <a:pt x="23438" y="11421"/>
                  <a:pt x="23445" y="11421"/>
                  <a:pt x="23438" y="11443"/>
                </a:cubicBezTo>
                <a:cubicBezTo>
                  <a:pt x="23455" y="11410"/>
                  <a:pt x="23466" y="11435"/>
                  <a:pt x="23438" y="11399"/>
                </a:cubicBezTo>
                <a:cubicBezTo>
                  <a:pt x="23423" y="11380"/>
                  <a:pt x="23415" y="11367"/>
                  <a:pt x="23372" y="11377"/>
                </a:cubicBezTo>
                <a:cubicBezTo>
                  <a:pt x="23332" y="11386"/>
                  <a:pt x="23315" y="11413"/>
                  <a:pt x="23283" y="11443"/>
                </a:cubicBezTo>
                <a:cubicBezTo>
                  <a:pt x="23236" y="11487"/>
                  <a:pt x="23237" y="11500"/>
                  <a:pt x="23217" y="11553"/>
                </a:cubicBezTo>
                <a:cubicBezTo>
                  <a:pt x="23194" y="11614"/>
                  <a:pt x="23202" y="11584"/>
                  <a:pt x="23217" y="11642"/>
                </a:cubicBezTo>
                <a:cubicBezTo>
                  <a:pt x="23267" y="11642"/>
                  <a:pt x="23286" y="11634"/>
                  <a:pt x="23327" y="11620"/>
                </a:cubicBezTo>
                <a:cubicBezTo>
                  <a:pt x="23399" y="11595"/>
                  <a:pt x="23417" y="11573"/>
                  <a:pt x="23460" y="11509"/>
                </a:cubicBezTo>
                <a:cubicBezTo>
                  <a:pt x="23468" y="11497"/>
                  <a:pt x="23501" y="11436"/>
                  <a:pt x="23504" y="11421"/>
                </a:cubicBezTo>
                <a:cubicBezTo>
                  <a:pt x="23504" y="11399"/>
                  <a:pt x="23504" y="11392"/>
                  <a:pt x="23504" y="11377"/>
                </a:cubicBezTo>
                <a:cubicBezTo>
                  <a:pt x="23486" y="11418"/>
                  <a:pt x="23475" y="11442"/>
                  <a:pt x="23460" y="11487"/>
                </a:cubicBezTo>
                <a:cubicBezTo>
                  <a:pt x="23448" y="11524"/>
                  <a:pt x="23431" y="11552"/>
                  <a:pt x="23438" y="11598"/>
                </a:cubicBezTo>
                <a:cubicBezTo>
                  <a:pt x="23441" y="11618"/>
                  <a:pt x="23454" y="11702"/>
                  <a:pt x="23482" y="11708"/>
                </a:cubicBezTo>
                <a:cubicBezTo>
                  <a:pt x="23522" y="11716"/>
                  <a:pt x="23536" y="11671"/>
                  <a:pt x="23548" y="11664"/>
                </a:cubicBezTo>
                <a:cubicBezTo>
                  <a:pt x="23587" y="11640"/>
                  <a:pt x="23588" y="11635"/>
                  <a:pt x="23614" y="11598"/>
                </a:cubicBezTo>
                <a:cubicBezTo>
                  <a:pt x="23618" y="11632"/>
                  <a:pt x="23600" y="11664"/>
                  <a:pt x="23636" y="11686"/>
                </a:cubicBezTo>
                <a:cubicBezTo>
                  <a:pt x="23657" y="11699"/>
                  <a:pt x="23712" y="11673"/>
                  <a:pt x="23724" y="11664"/>
                </a:cubicBezTo>
                <a:cubicBezTo>
                  <a:pt x="23754" y="11642"/>
                  <a:pt x="23802" y="11586"/>
                  <a:pt x="23812" y="11553"/>
                </a:cubicBezTo>
                <a:cubicBezTo>
                  <a:pt x="23832" y="11486"/>
                  <a:pt x="23812" y="11383"/>
                  <a:pt x="23812" y="11311"/>
                </a:cubicBezTo>
                <a:cubicBezTo>
                  <a:pt x="23799" y="11333"/>
                  <a:pt x="23793" y="11346"/>
                  <a:pt x="23790" y="11399"/>
                </a:cubicBezTo>
                <a:cubicBezTo>
                  <a:pt x="23785" y="11492"/>
                  <a:pt x="23801" y="11578"/>
                  <a:pt x="23812" y="11664"/>
                </a:cubicBezTo>
                <a:cubicBezTo>
                  <a:pt x="23819" y="11718"/>
                  <a:pt x="23805" y="11729"/>
                  <a:pt x="23857" y="11752"/>
                </a:cubicBezTo>
                <a:cubicBezTo>
                  <a:pt x="23864" y="11752"/>
                  <a:pt x="23872" y="11752"/>
                  <a:pt x="23879" y="11752"/>
                </a:cubicBezTo>
                <a:cubicBezTo>
                  <a:pt x="23912" y="11728"/>
                  <a:pt x="23923" y="11723"/>
                  <a:pt x="23945" y="11686"/>
                </a:cubicBezTo>
                <a:cubicBezTo>
                  <a:pt x="23973" y="11638"/>
                  <a:pt x="23967" y="11576"/>
                  <a:pt x="23989" y="11531"/>
                </a:cubicBezTo>
                <a:cubicBezTo>
                  <a:pt x="24004" y="11500"/>
                  <a:pt x="24030" y="11444"/>
                  <a:pt x="24055" y="11421"/>
                </a:cubicBezTo>
                <a:cubicBezTo>
                  <a:pt x="24087" y="11392"/>
                  <a:pt x="24102" y="11401"/>
                  <a:pt x="24143" y="11399"/>
                </a:cubicBezTo>
                <a:cubicBezTo>
                  <a:pt x="24200" y="11396"/>
                  <a:pt x="24179" y="11386"/>
                  <a:pt x="24143" y="11399"/>
                </a:cubicBezTo>
                <a:cubicBezTo>
                  <a:pt x="24109" y="11411"/>
                  <a:pt x="24087" y="11427"/>
                  <a:pt x="24055" y="11443"/>
                </a:cubicBezTo>
                <a:cubicBezTo>
                  <a:pt x="24000" y="11471"/>
                  <a:pt x="23993" y="11488"/>
                  <a:pt x="23967" y="11531"/>
                </a:cubicBezTo>
                <a:cubicBezTo>
                  <a:pt x="23952" y="11556"/>
                  <a:pt x="23928" y="11633"/>
                  <a:pt x="23945" y="11664"/>
                </a:cubicBezTo>
                <a:cubicBezTo>
                  <a:pt x="23964" y="11698"/>
                  <a:pt x="23996" y="11714"/>
                  <a:pt x="24033" y="11708"/>
                </a:cubicBezTo>
                <a:cubicBezTo>
                  <a:pt x="24065" y="11703"/>
                  <a:pt x="24107" y="11659"/>
                  <a:pt x="24121" y="11642"/>
                </a:cubicBezTo>
                <a:cubicBezTo>
                  <a:pt x="24161" y="11593"/>
                  <a:pt x="24168" y="11561"/>
                  <a:pt x="24187" y="11509"/>
                </a:cubicBezTo>
                <a:cubicBezTo>
                  <a:pt x="24199" y="11475"/>
                  <a:pt x="24222" y="11433"/>
                  <a:pt x="24231" y="11399"/>
                </a:cubicBezTo>
                <a:cubicBezTo>
                  <a:pt x="24231" y="11392"/>
                  <a:pt x="24231" y="11384"/>
                  <a:pt x="24231" y="11377"/>
                </a:cubicBezTo>
                <a:cubicBezTo>
                  <a:pt x="24226" y="11414"/>
                  <a:pt x="24215" y="11431"/>
                  <a:pt x="24209" y="11465"/>
                </a:cubicBezTo>
                <a:cubicBezTo>
                  <a:pt x="24199" y="11523"/>
                  <a:pt x="24210" y="11569"/>
                  <a:pt x="24231" y="11620"/>
                </a:cubicBezTo>
                <a:cubicBezTo>
                  <a:pt x="24243" y="11648"/>
                  <a:pt x="24263" y="11692"/>
                  <a:pt x="24298" y="11708"/>
                </a:cubicBezTo>
                <a:cubicBezTo>
                  <a:pt x="24330" y="11723"/>
                  <a:pt x="24364" y="11702"/>
                  <a:pt x="24386" y="11686"/>
                </a:cubicBezTo>
                <a:cubicBezTo>
                  <a:pt x="24419" y="11662"/>
                  <a:pt x="24445" y="11616"/>
                  <a:pt x="24452" y="11576"/>
                </a:cubicBezTo>
                <a:cubicBezTo>
                  <a:pt x="24457" y="11548"/>
                  <a:pt x="24475" y="11435"/>
                  <a:pt x="24474" y="11421"/>
                </a:cubicBezTo>
                <a:cubicBezTo>
                  <a:pt x="24471" y="11393"/>
                  <a:pt x="24459" y="11382"/>
                  <a:pt x="24452" y="11355"/>
                </a:cubicBezTo>
                <a:cubicBezTo>
                  <a:pt x="24452" y="11442"/>
                  <a:pt x="24443" y="11517"/>
                  <a:pt x="24430" y="11598"/>
                </a:cubicBezTo>
                <a:cubicBezTo>
                  <a:pt x="24419" y="11662"/>
                  <a:pt x="24450" y="11695"/>
                  <a:pt x="24452" y="11752"/>
                </a:cubicBezTo>
                <a:cubicBezTo>
                  <a:pt x="24454" y="11803"/>
                  <a:pt x="24488" y="11839"/>
                  <a:pt x="24474" y="11818"/>
                </a:cubicBezTo>
                <a:cubicBezTo>
                  <a:pt x="24467" y="11811"/>
                  <a:pt x="24459" y="11803"/>
                  <a:pt x="24452" y="11796"/>
                </a:cubicBezTo>
                <a:cubicBezTo>
                  <a:pt x="24463" y="11757"/>
                  <a:pt x="24463" y="11709"/>
                  <a:pt x="24474" y="11664"/>
                </a:cubicBezTo>
                <a:cubicBezTo>
                  <a:pt x="24489" y="11602"/>
                  <a:pt x="24511" y="11546"/>
                  <a:pt x="24540" y="11487"/>
                </a:cubicBezTo>
                <a:cubicBezTo>
                  <a:pt x="24554" y="11458"/>
                  <a:pt x="24569" y="11429"/>
                  <a:pt x="24584" y="11399"/>
                </a:cubicBezTo>
                <a:cubicBezTo>
                  <a:pt x="24584" y="11377"/>
                  <a:pt x="24584" y="11370"/>
                  <a:pt x="24584" y="11399"/>
                </a:cubicBezTo>
                <a:cubicBezTo>
                  <a:pt x="24597" y="11426"/>
                  <a:pt x="24606" y="11427"/>
                  <a:pt x="24606" y="11487"/>
                </a:cubicBezTo>
                <a:cubicBezTo>
                  <a:pt x="24606" y="11529"/>
                  <a:pt x="24590" y="11558"/>
                  <a:pt x="24584" y="11598"/>
                </a:cubicBezTo>
                <a:cubicBezTo>
                  <a:pt x="24578" y="11640"/>
                  <a:pt x="24574" y="11622"/>
                  <a:pt x="24562" y="11642"/>
                </a:cubicBezTo>
                <a:cubicBezTo>
                  <a:pt x="24567" y="11601"/>
                  <a:pt x="24571" y="11569"/>
                  <a:pt x="24584" y="11531"/>
                </a:cubicBezTo>
                <a:cubicBezTo>
                  <a:pt x="24597" y="11492"/>
                  <a:pt x="24612" y="11458"/>
                  <a:pt x="24628" y="11421"/>
                </a:cubicBezTo>
                <a:cubicBezTo>
                  <a:pt x="24644" y="11383"/>
                  <a:pt x="24662" y="11378"/>
                  <a:pt x="24694" y="11355"/>
                </a:cubicBezTo>
                <a:cubicBezTo>
                  <a:pt x="24694" y="11467"/>
                  <a:pt x="24663" y="11608"/>
                  <a:pt x="24672" y="11708"/>
                </a:cubicBezTo>
                <a:cubicBezTo>
                  <a:pt x="24674" y="11726"/>
                  <a:pt x="24683" y="11804"/>
                  <a:pt x="24694" y="11818"/>
                </a:cubicBezTo>
                <a:cubicBezTo>
                  <a:pt x="24701" y="11818"/>
                  <a:pt x="24709" y="11818"/>
                  <a:pt x="24716" y="11818"/>
                </a:cubicBezTo>
                <a:cubicBezTo>
                  <a:pt x="24750" y="11794"/>
                  <a:pt x="24761" y="11790"/>
                  <a:pt x="24783" y="11752"/>
                </a:cubicBezTo>
                <a:cubicBezTo>
                  <a:pt x="24810" y="11706"/>
                  <a:pt x="24845" y="11665"/>
                  <a:pt x="24871" y="11620"/>
                </a:cubicBezTo>
                <a:cubicBezTo>
                  <a:pt x="24897" y="11577"/>
                  <a:pt x="24917" y="11528"/>
                  <a:pt x="24937" y="11487"/>
                </a:cubicBezTo>
                <a:cubicBezTo>
                  <a:pt x="24957" y="11467"/>
                  <a:pt x="24964" y="11463"/>
                  <a:pt x="24959" y="11443"/>
                </a:cubicBezTo>
                <a:cubicBezTo>
                  <a:pt x="24945" y="11472"/>
                  <a:pt x="24942" y="11455"/>
                  <a:pt x="24937" y="11487"/>
                </a:cubicBezTo>
                <a:cubicBezTo>
                  <a:pt x="24931" y="11529"/>
                  <a:pt x="24919" y="11588"/>
                  <a:pt x="24915" y="11620"/>
                </a:cubicBezTo>
                <a:cubicBezTo>
                  <a:pt x="24908" y="11679"/>
                  <a:pt x="24927" y="11708"/>
                  <a:pt x="24937" y="11752"/>
                </a:cubicBezTo>
                <a:cubicBezTo>
                  <a:pt x="24937" y="11759"/>
                  <a:pt x="24937" y="11767"/>
                  <a:pt x="24937" y="11774"/>
                </a:cubicBezTo>
                <a:cubicBezTo>
                  <a:pt x="24930" y="11739"/>
                  <a:pt x="24930" y="11740"/>
                  <a:pt x="24915" y="11708"/>
                </a:cubicBezTo>
                <a:cubicBezTo>
                  <a:pt x="24899" y="11674"/>
                  <a:pt x="24859" y="11634"/>
                  <a:pt x="24849" y="11598"/>
                </a:cubicBezTo>
                <a:cubicBezTo>
                  <a:pt x="24840" y="11564"/>
                  <a:pt x="24848" y="11532"/>
                  <a:pt x="24871" y="11509"/>
                </a:cubicBezTo>
                <a:cubicBezTo>
                  <a:pt x="24883" y="11497"/>
                  <a:pt x="24935" y="11480"/>
                  <a:pt x="24959" y="11487"/>
                </a:cubicBezTo>
                <a:cubicBezTo>
                  <a:pt x="24987" y="11496"/>
                  <a:pt x="24999" y="11496"/>
                  <a:pt x="25025" y="11509"/>
                </a:cubicBezTo>
                <a:cubicBezTo>
                  <a:pt x="25051" y="11522"/>
                  <a:pt x="25073" y="11554"/>
                  <a:pt x="25091" y="11531"/>
                </a:cubicBezTo>
                <a:cubicBezTo>
                  <a:pt x="25100" y="11519"/>
                  <a:pt x="25091" y="11459"/>
                  <a:pt x="25091" y="11443"/>
                </a:cubicBezTo>
                <a:cubicBezTo>
                  <a:pt x="25091" y="11472"/>
                  <a:pt x="25091" y="11458"/>
                  <a:pt x="25091" y="11487"/>
                </a:cubicBezTo>
                <a:cubicBezTo>
                  <a:pt x="25091" y="11588"/>
                  <a:pt x="25093" y="11686"/>
                  <a:pt x="25113" y="11774"/>
                </a:cubicBezTo>
                <a:cubicBezTo>
                  <a:pt x="25113" y="11781"/>
                  <a:pt x="25113" y="11789"/>
                  <a:pt x="25113" y="11796"/>
                </a:cubicBezTo>
                <a:cubicBezTo>
                  <a:pt x="25161" y="11789"/>
                  <a:pt x="25155" y="11795"/>
                  <a:pt x="25180" y="11774"/>
                </a:cubicBezTo>
                <a:cubicBezTo>
                  <a:pt x="25213" y="11746"/>
                  <a:pt x="25228" y="11718"/>
                  <a:pt x="25246" y="11686"/>
                </a:cubicBezTo>
                <a:cubicBezTo>
                  <a:pt x="25265" y="11652"/>
                  <a:pt x="25284" y="11615"/>
                  <a:pt x="25290" y="11576"/>
                </a:cubicBezTo>
                <a:cubicBezTo>
                  <a:pt x="25296" y="11540"/>
                  <a:pt x="25306" y="11520"/>
                  <a:pt x="25312" y="11487"/>
                </a:cubicBezTo>
                <a:cubicBezTo>
                  <a:pt x="25316" y="11465"/>
                  <a:pt x="25312" y="11487"/>
                  <a:pt x="25312" y="11465"/>
                </a:cubicBezTo>
                <a:cubicBezTo>
                  <a:pt x="25312" y="11522"/>
                  <a:pt x="25296" y="11574"/>
                  <a:pt x="25290" y="11620"/>
                </a:cubicBezTo>
                <a:cubicBezTo>
                  <a:pt x="25281" y="11683"/>
                  <a:pt x="25290" y="11754"/>
                  <a:pt x="25290" y="11818"/>
                </a:cubicBezTo>
                <a:cubicBezTo>
                  <a:pt x="25294" y="11782"/>
                  <a:pt x="25298" y="11761"/>
                  <a:pt x="25312" y="11730"/>
                </a:cubicBezTo>
                <a:cubicBezTo>
                  <a:pt x="25327" y="11697"/>
                  <a:pt x="25322" y="11677"/>
                  <a:pt x="25334" y="11642"/>
                </a:cubicBezTo>
                <a:cubicBezTo>
                  <a:pt x="25344" y="11613"/>
                  <a:pt x="25364" y="11582"/>
                  <a:pt x="25378" y="11553"/>
                </a:cubicBezTo>
                <a:cubicBezTo>
                  <a:pt x="25377" y="11564"/>
                  <a:pt x="25338" y="11685"/>
                  <a:pt x="25378" y="11686"/>
                </a:cubicBezTo>
                <a:cubicBezTo>
                  <a:pt x="25378" y="11649"/>
                  <a:pt x="25378" y="11642"/>
                  <a:pt x="25378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Ink 51"/>
          <p:cNvSpPr/>
          <p:nvPr/>
        </p:nvSpPr>
        <p:spPr>
          <a:xfrm>
            <a:off x="5675400" y="4246560"/>
            <a:ext cx="1000080" cy="341280"/>
          </a:xfrm>
          <a:custGeom>
            <a:avLst/>
            <a:gdLst/>
            <a:ahLst/>
            <a:rect l="l" t="t" r="r" b="b"/>
            <a:pathLst>
              <a:path w="2779" h="949">
                <a:moveTo>
                  <a:pt x="15875" y="12016"/>
                </a:moveTo>
                <a:cubicBezTo>
                  <a:pt x="15871" y="12051"/>
                  <a:pt x="15858" y="12078"/>
                  <a:pt x="15853" y="12105"/>
                </a:cubicBezTo>
                <a:cubicBezTo>
                  <a:pt x="15843" y="12157"/>
                  <a:pt x="15816" y="12205"/>
                  <a:pt x="15809" y="12259"/>
                </a:cubicBezTo>
                <a:cubicBezTo>
                  <a:pt x="15803" y="12306"/>
                  <a:pt x="15793" y="12346"/>
                  <a:pt x="15787" y="12391"/>
                </a:cubicBezTo>
                <a:cubicBezTo>
                  <a:pt x="15783" y="12419"/>
                  <a:pt x="15787" y="12451"/>
                  <a:pt x="15787" y="12480"/>
                </a:cubicBezTo>
                <a:cubicBezTo>
                  <a:pt x="15778" y="12464"/>
                  <a:pt x="15755" y="12457"/>
                  <a:pt x="15765" y="12413"/>
                </a:cubicBezTo>
                <a:cubicBezTo>
                  <a:pt x="15775" y="12372"/>
                  <a:pt x="15809" y="12339"/>
                  <a:pt x="15831" y="12303"/>
                </a:cubicBezTo>
                <a:cubicBezTo>
                  <a:pt x="15852" y="12269"/>
                  <a:pt x="15877" y="12235"/>
                  <a:pt x="15897" y="12215"/>
                </a:cubicBezTo>
                <a:cubicBezTo>
                  <a:pt x="15925" y="12187"/>
                  <a:pt x="15932" y="12158"/>
                  <a:pt x="15963" y="12127"/>
                </a:cubicBezTo>
                <a:cubicBezTo>
                  <a:pt x="15975" y="12115"/>
                  <a:pt x="15974" y="12097"/>
                  <a:pt x="15985" y="12083"/>
                </a:cubicBezTo>
                <a:cubicBezTo>
                  <a:pt x="15985" y="12130"/>
                  <a:pt x="15970" y="12156"/>
                  <a:pt x="15963" y="12193"/>
                </a:cubicBezTo>
                <a:cubicBezTo>
                  <a:pt x="15957" y="12222"/>
                  <a:pt x="15950" y="12333"/>
                  <a:pt x="15985" y="12347"/>
                </a:cubicBezTo>
                <a:cubicBezTo>
                  <a:pt x="16018" y="12360"/>
                  <a:pt x="16050" y="12343"/>
                  <a:pt x="16073" y="12325"/>
                </a:cubicBezTo>
                <a:cubicBezTo>
                  <a:pt x="16098" y="12305"/>
                  <a:pt x="16132" y="12265"/>
                  <a:pt x="16140" y="12237"/>
                </a:cubicBezTo>
                <a:cubicBezTo>
                  <a:pt x="16154" y="12186"/>
                  <a:pt x="16159" y="12156"/>
                  <a:pt x="16184" y="12105"/>
                </a:cubicBezTo>
                <a:cubicBezTo>
                  <a:pt x="16198" y="12076"/>
                  <a:pt x="16195" y="12047"/>
                  <a:pt x="16206" y="12016"/>
                </a:cubicBezTo>
                <a:cubicBezTo>
                  <a:pt x="16224" y="11964"/>
                  <a:pt x="16219" y="11976"/>
                  <a:pt x="16206" y="11950"/>
                </a:cubicBezTo>
                <a:cubicBezTo>
                  <a:pt x="16206" y="12002"/>
                  <a:pt x="16190" y="12035"/>
                  <a:pt x="16184" y="12083"/>
                </a:cubicBezTo>
                <a:cubicBezTo>
                  <a:pt x="16178" y="12130"/>
                  <a:pt x="16169" y="12171"/>
                  <a:pt x="16162" y="12215"/>
                </a:cubicBezTo>
                <a:cubicBezTo>
                  <a:pt x="16151" y="12285"/>
                  <a:pt x="16164" y="12376"/>
                  <a:pt x="16184" y="12413"/>
                </a:cubicBezTo>
                <a:cubicBezTo>
                  <a:pt x="16201" y="12446"/>
                  <a:pt x="16196" y="12439"/>
                  <a:pt x="16228" y="12457"/>
                </a:cubicBezTo>
                <a:cubicBezTo>
                  <a:pt x="16261" y="12430"/>
                  <a:pt x="16271" y="12419"/>
                  <a:pt x="16294" y="12391"/>
                </a:cubicBezTo>
                <a:cubicBezTo>
                  <a:pt x="16304" y="12379"/>
                  <a:pt x="16323" y="12345"/>
                  <a:pt x="16338" y="12325"/>
                </a:cubicBezTo>
                <a:cubicBezTo>
                  <a:pt x="16366" y="12287"/>
                  <a:pt x="16364" y="12272"/>
                  <a:pt x="16382" y="12237"/>
                </a:cubicBezTo>
                <a:cubicBezTo>
                  <a:pt x="16400" y="12202"/>
                  <a:pt x="16419" y="12167"/>
                  <a:pt x="16426" y="12127"/>
                </a:cubicBezTo>
                <a:cubicBezTo>
                  <a:pt x="16433" y="12085"/>
                  <a:pt x="16431" y="12089"/>
                  <a:pt x="16448" y="12061"/>
                </a:cubicBezTo>
                <a:cubicBezTo>
                  <a:pt x="16421" y="12106"/>
                  <a:pt x="16418" y="12142"/>
                  <a:pt x="16404" y="12193"/>
                </a:cubicBezTo>
                <a:cubicBezTo>
                  <a:pt x="16391" y="12242"/>
                  <a:pt x="16368" y="12298"/>
                  <a:pt x="16360" y="12347"/>
                </a:cubicBezTo>
                <a:cubicBezTo>
                  <a:pt x="16340" y="12465"/>
                  <a:pt x="16360" y="12602"/>
                  <a:pt x="16360" y="12722"/>
                </a:cubicBezTo>
                <a:cubicBezTo>
                  <a:pt x="16317" y="12765"/>
                  <a:pt x="16349" y="12700"/>
                  <a:pt x="16360" y="12678"/>
                </a:cubicBezTo>
                <a:cubicBezTo>
                  <a:pt x="16383" y="12633"/>
                  <a:pt x="16400" y="12596"/>
                  <a:pt x="16426" y="12546"/>
                </a:cubicBezTo>
                <a:cubicBezTo>
                  <a:pt x="16448" y="12505"/>
                  <a:pt x="16482" y="12436"/>
                  <a:pt x="16492" y="12391"/>
                </a:cubicBezTo>
                <a:cubicBezTo>
                  <a:pt x="16504" y="12337"/>
                  <a:pt x="16518" y="12286"/>
                  <a:pt x="16536" y="12237"/>
                </a:cubicBezTo>
                <a:cubicBezTo>
                  <a:pt x="16549" y="12201"/>
                  <a:pt x="16585" y="12134"/>
                  <a:pt x="16603" y="12105"/>
                </a:cubicBezTo>
                <a:cubicBezTo>
                  <a:pt x="16621" y="12074"/>
                  <a:pt x="16634" y="12055"/>
                  <a:pt x="16647" y="12039"/>
                </a:cubicBezTo>
                <a:cubicBezTo>
                  <a:pt x="16631" y="12066"/>
                  <a:pt x="16627" y="12063"/>
                  <a:pt x="16625" y="12105"/>
                </a:cubicBezTo>
                <a:cubicBezTo>
                  <a:pt x="16623" y="12155"/>
                  <a:pt x="16610" y="12190"/>
                  <a:pt x="16603" y="12237"/>
                </a:cubicBezTo>
                <a:cubicBezTo>
                  <a:pt x="16593" y="12308"/>
                  <a:pt x="16606" y="12371"/>
                  <a:pt x="16581" y="12413"/>
                </a:cubicBezTo>
                <a:cubicBezTo>
                  <a:pt x="16586" y="12380"/>
                  <a:pt x="16586" y="12352"/>
                  <a:pt x="16603" y="12325"/>
                </a:cubicBezTo>
                <a:cubicBezTo>
                  <a:pt x="16630" y="12281"/>
                  <a:pt x="16634" y="12239"/>
                  <a:pt x="16669" y="12193"/>
                </a:cubicBezTo>
                <a:cubicBezTo>
                  <a:pt x="16688" y="12168"/>
                  <a:pt x="16712" y="12121"/>
                  <a:pt x="16735" y="12105"/>
                </a:cubicBezTo>
                <a:cubicBezTo>
                  <a:pt x="16759" y="12088"/>
                  <a:pt x="16791" y="12088"/>
                  <a:pt x="16823" y="12083"/>
                </a:cubicBezTo>
              </a:path>
              <a:path w="2779" h="949">
                <a:moveTo>
                  <a:pt x="16669" y="12237"/>
                </a:moveTo>
                <a:cubicBezTo>
                  <a:pt x="16675" y="12280"/>
                  <a:pt x="16681" y="12284"/>
                  <a:pt x="16691" y="12303"/>
                </a:cubicBezTo>
                <a:cubicBezTo>
                  <a:pt x="16710" y="12338"/>
                  <a:pt x="16711" y="12358"/>
                  <a:pt x="16757" y="12369"/>
                </a:cubicBezTo>
                <a:cubicBezTo>
                  <a:pt x="16786" y="12376"/>
                  <a:pt x="16824" y="12360"/>
                  <a:pt x="16845" y="12347"/>
                </a:cubicBezTo>
                <a:cubicBezTo>
                  <a:pt x="16895" y="12316"/>
                  <a:pt x="16922" y="12258"/>
                  <a:pt x="16955" y="12215"/>
                </a:cubicBezTo>
                <a:cubicBezTo>
                  <a:pt x="16978" y="12184"/>
                  <a:pt x="16993" y="12142"/>
                  <a:pt x="16999" y="12105"/>
                </a:cubicBezTo>
                <a:cubicBezTo>
                  <a:pt x="17004" y="12076"/>
                  <a:pt x="16999" y="12090"/>
                  <a:pt x="16999" y="12061"/>
                </a:cubicBezTo>
                <a:cubicBezTo>
                  <a:pt x="16978" y="12103"/>
                  <a:pt x="16980" y="12118"/>
                  <a:pt x="16977" y="12171"/>
                </a:cubicBezTo>
                <a:cubicBezTo>
                  <a:pt x="16974" y="12229"/>
                  <a:pt x="16963" y="12271"/>
                  <a:pt x="16955" y="12325"/>
                </a:cubicBezTo>
                <a:cubicBezTo>
                  <a:pt x="16948" y="12376"/>
                  <a:pt x="16955" y="12384"/>
                  <a:pt x="16955" y="12435"/>
                </a:cubicBezTo>
                <a:cubicBezTo>
                  <a:pt x="16967" y="12403"/>
                  <a:pt x="16975" y="12385"/>
                  <a:pt x="16977" y="12347"/>
                </a:cubicBezTo>
                <a:cubicBezTo>
                  <a:pt x="16980" y="12290"/>
                  <a:pt x="16976" y="12267"/>
                  <a:pt x="16999" y="12215"/>
                </a:cubicBezTo>
                <a:cubicBezTo>
                  <a:pt x="17019" y="12169"/>
                  <a:pt x="17055" y="12120"/>
                  <a:pt x="17088" y="12083"/>
                </a:cubicBezTo>
                <a:cubicBezTo>
                  <a:pt x="17110" y="12061"/>
                  <a:pt x="17117" y="12054"/>
                  <a:pt x="17132" y="12039"/>
                </a:cubicBezTo>
                <a:cubicBezTo>
                  <a:pt x="17150" y="12069"/>
                  <a:pt x="17163" y="12087"/>
                  <a:pt x="17154" y="12127"/>
                </a:cubicBezTo>
                <a:cubicBezTo>
                  <a:pt x="17146" y="12161"/>
                  <a:pt x="17137" y="12178"/>
                  <a:pt x="17132" y="12215"/>
                </a:cubicBezTo>
                <a:cubicBezTo>
                  <a:pt x="17127" y="12247"/>
                  <a:pt x="17148" y="12203"/>
                  <a:pt x="17154" y="12171"/>
                </a:cubicBezTo>
                <a:cubicBezTo>
                  <a:pt x="17164" y="12122"/>
                  <a:pt x="17170" y="12126"/>
                  <a:pt x="17198" y="12083"/>
                </a:cubicBezTo>
                <a:cubicBezTo>
                  <a:pt x="17219" y="12050"/>
                  <a:pt x="17210" y="12031"/>
                  <a:pt x="17242" y="12016"/>
                </a:cubicBezTo>
                <a:cubicBezTo>
                  <a:pt x="17249" y="12016"/>
                  <a:pt x="17257" y="12016"/>
                  <a:pt x="17264" y="12016"/>
                </a:cubicBezTo>
                <a:cubicBezTo>
                  <a:pt x="17259" y="12065"/>
                  <a:pt x="17259" y="12078"/>
                  <a:pt x="17242" y="12127"/>
                </a:cubicBezTo>
                <a:cubicBezTo>
                  <a:pt x="17226" y="12172"/>
                  <a:pt x="17206" y="12234"/>
                  <a:pt x="17198" y="12281"/>
                </a:cubicBezTo>
                <a:cubicBezTo>
                  <a:pt x="17188" y="12338"/>
                  <a:pt x="17198" y="12390"/>
                  <a:pt x="17220" y="12435"/>
                </a:cubicBezTo>
                <a:cubicBezTo>
                  <a:pt x="17263" y="12430"/>
                  <a:pt x="17272" y="12442"/>
                  <a:pt x="17308" y="12413"/>
                </a:cubicBezTo>
                <a:cubicBezTo>
                  <a:pt x="17349" y="12380"/>
                  <a:pt x="17366" y="12343"/>
                  <a:pt x="17396" y="12303"/>
                </a:cubicBezTo>
                <a:cubicBezTo>
                  <a:pt x="17432" y="12255"/>
                  <a:pt x="17451" y="12198"/>
                  <a:pt x="17485" y="12149"/>
                </a:cubicBezTo>
                <a:cubicBezTo>
                  <a:pt x="17508" y="12116"/>
                  <a:pt x="17520" y="12078"/>
                  <a:pt x="17529" y="12039"/>
                </a:cubicBezTo>
                <a:cubicBezTo>
                  <a:pt x="17529" y="12031"/>
                  <a:pt x="17529" y="12024"/>
                  <a:pt x="17529" y="12016"/>
                </a:cubicBezTo>
                <a:cubicBezTo>
                  <a:pt x="17474" y="12032"/>
                  <a:pt x="17505" y="12019"/>
                  <a:pt x="17462" y="12061"/>
                </a:cubicBezTo>
                <a:cubicBezTo>
                  <a:pt x="17425" y="12098"/>
                  <a:pt x="17433" y="12147"/>
                  <a:pt x="17418" y="12193"/>
                </a:cubicBezTo>
                <a:cubicBezTo>
                  <a:pt x="17397" y="12256"/>
                  <a:pt x="17397" y="12260"/>
                  <a:pt x="17418" y="12325"/>
                </a:cubicBezTo>
                <a:cubicBezTo>
                  <a:pt x="17425" y="12346"/>
                  <a:pt x="17456" y="12394"/>
                  <a:pt x="17485" y="12391"/>
                </a:cubicBezTo>
                <a:cubicBezTo>
                  <a:pt x="17506" y="12389"/>
                  <a:pt x="17529" y="12369"/>
                  <a:pt x="17551" y="12347"/>
                </a:cubicBezTo>
                <a:cubicBezTo>
                  <a:pt x="17584" y="12314"/>
                  <a:pt x="17621" y="12259"/>
                  <a:pt x="17639" y="12215"/>
                </a:cubicBezTo>
                <a:cubicBezTo>
                  <a:pt x="17653" y="12181"/>
                  <a:pt x="17675" y="12120"/>
                  <a:pt x="17683" y="12083"/>
                </a:cubicBezTo>
                <a:cubicBezTo>
                  <a:pt x="17698" y="12011"/>
                  <a:pt x="17694" y="12068"/>
                  <a:pt x="17683" y="12105"/>
                </a:cubicBezTo>
                <a:cubicBezTo>
                  <a:pt x="17665" y="12165"/>
                  <a:pt x="17642" y="12217"/>
                  <a:pt x="17639" y="12281"/>
                </a:cubicBezTo>
                <a:cubicBezTo>
                  <a:pt x="17637" y="12331"/>
                  <a:pt x="17624" y="12366"/>
                  <a:pt x="17617" y="12413"/>
                </a:cubicBezTo>
                <a:cubicBezTo>
                  <a:pt x="17612" y="12451"/>
                  <a:pt x="17622" y="12450"/>
                  <a:pt x="17639" y="12480"/>
                </a:cubicBezTo>
                <a:cubicBezTo>
                  <a:pt x="17639" y="12417"/>
                  <a:pt x="17623" y="12328"/>
                  <a:pt x="17661" y="12281"/>
                </a:cubicBezTo>
                <a:cubicBezTo>
                  <a:pt x="17691" y="12244"/>
                  <a:pt x="17699" y="12205"/>
                  <a:pt x="17727" y="12171"/>
                </a:cubicBezTo>
                <a:cubicBezTo>
                  <a:pt x="17754" y="12138"/>
                  <a:pt x="17772" y="12117"/>
                  <a:pt x="17793" y="12083"/>
                </a:cubicBezTo>
                <a:cubicBezTo>
                  <a:pt x="17793" y="12058"/>
                  <a:pt x="17795" y="12048"/>
                  <a:pt x="17815" y="12039"/>
                </a:cubicBezTo>
                <a:cubicBezTo>
                  <a:pt x="17811" y="12071"/>
                  <a:pt x="17796" y="12104"/>
                  <a:pt x="17793" y="12127"/>
                </a:cubicBezTo>
                <a:cubicBezTo>
                  <a:pt x="17786" y="12171"/>
                  <a:pt x="17790" y="12221"/>
                  <a:pt x="17771" y="12259"/>
                </a:cubicBezTo>
                <a:cubicBezTo>
                  <a:pt x="17747" y="12307"/>
                  <a:pt x="17757" y="12285"/>
                  <a:pt x="17749" y="12347"/>
                </a:cubicBezTo>
                <a:cubicBezTo>
                  <a:pt x="17769" y="12359"/>
                  <a:pt x="17778" y="12378"/>
                  <a:pt x="17815" y="12369"/>
                </a:cubicBezTo>
                <a:cubicBezTo>
                  <a:pt x="17854" y="12360"/>
                  <a:pt x="17873" y="12333"/>
                  <a:pt x="17903" y="12303"/>
                </a:cubicBezTo>
                <a:cubicBezTo>
                  <a:pt x="17943" y="12264"/>
                  <a:pt x="17946" y="12237"/>
                  <a:pt x="17970" y="12193"/>
                </a:cubicBezTo>
                <a:cubicBezTo>
                  <a:pt x="17985" y="12164"/>
                  <a:pt x="18022" y="12158"/>
                  <a:pt x="18014" y="12127"/>
                </a:cubicBezTo>
                <a:cubicBezTo>
                  <a:pt x="18001" y="12075"/>
                  <a:pt x="17978" y="12172"/>
                  <a:pt x="17970" y="12193"/>
                </a:cubicBezTo>
                <a:cubicBezTo>
                  <a:pt x="17952" y="12238"/>
                  <a:pt x="17951" y="12276"/>
                  <a:pt x="17948" y="12325"/>
                </a:cubicBezTo>
                <a:cubicBezTo>
                  <a:pt x="17946" y="12357"/>
                  <a:pt x="17954" y="12402"/>
                  <a:pt x="17992" y="12413"/>
                </a:cubicBezTo>
                <a:cubicBezTo>
                  <a:pt x="18016" y="12420"/>
                  <a:pt x="18068" y="12403"/>
                  <a:pt x="18080" y="12391"/>
                </a:cubicBezTo>
                <a:cubicBezTo>
                  <a:pt x="18089" y="12382"/>
                  <a:pt x="18095" y="12338"/>
                  <a:pt x="18102" y="12325"/>
                </a:cubicBezTo>
              </a:path>
              <a:path w="2779" h="949">
                <a:moveTo>
                  <a:pt x="18036" y="11796"/>
                </a:moveTo>
                <a:cubicBezTo>
                  <a:pt x="18036" y="11847"/>
                  <a:pt x="18036" y="11899"/>
                  <a:pt x="18036" y="11950"/>
                </a:cubicBezTo>
              </a:path>
              <a:path w="2779" h="949">
                <a:moveTo>
                  <a:pt x="18234" y="12016"/>
                </a:moveTo>
                <a:cubicBezTo>
                  <a:pt x="18282" y="12033"/>
                  <a:pt x="18246" y="12048"/>
                  <a:pt x="18234" y="12083"/>
                </a:cubicBezTo>
                <a:cubicBezTo>
                  <a:pt x="18224" y="12112"/>
                  <a:pt x="18217" y="12185"/>
                  <a:pt x="18212" y="12215"/>
                </a:cubicBezTo>
                <a:cubicBezTo>
                  <a:pt x="18202" y="12272"/>
                  <a:pt x="18205" y="12318"/>
                  <a:pt x="18190" y="12369"/>
                </a:cubicBezTo>
                <a:cubicBezTo>
                  <a:pt x="18190" y="12391"/>
                  <a:pt x="18190" y="12398"/>
                  <a:pt x="18190" y="12413"/>
                </a:cubicBezTo>
                <a:cubicBezTo>
                  <a:pt x="18201" y="12380"/>
                  <a:pt x="18212" y="12394"/>
                  <a:pt x="18212" y="12347"/>
                </a:cubicBezTo>
                <a:cubicBezTo>
                  <a:pt x="18212" y="12324"/>
                  <a:pt x="18218" y="12269"/>
                  <a:pt x="18234" y="12259"/>
                </a:cubicBezTo>
                <a:cubicBezTo>
                  <a:pt x="18258" y="12243"/>
                  <a:pt x="18260" y="12237"/>
                  <a:pt x="18300" y="12237"/>
                </a:cubicBezTo>
                <a:cubicBezTo>
                  <a:pt x="18322" y="12237"/>
                  <a:pt x="18343" y="12213"/>
                  <a:pt x="18366" y="12193"/>
                </a:cubicBezTo>
                <a:cubicBezTo>
                  <a:pt x="18386" y="12175"/>
                  <a:pt x="18422" y="12112"/>
                  <a:pt x="18433" y="12105"/>
                </a:cubicBezTo>
                <a:cubicBezTo>
                  <a:pt x="18459" y="12088"/>
                  <a:pt x="18455" y="12104"/>
                  <a:pt x="18455" y="12061"/>
                </a:cubicBezTo>
                <a:cubicBezTo>
                  <a:pt x="18439" y="12066"/>
                  <a:pt x="18401" y="12100"/>
                  <a:pt x="18389" y="12127"/>
                </a:cubicBezTo>
                <a:cubicBezTo>
                  <a:pt x="18376" y="12157"/>
                  <a:pt x="18366" y="12178"/>
                  <a:pt x="18366" y="12215"/>
                </a:cubicBezTo>
                <a:cubicBezTo>
                  <a:pt x="18366" y="12262"/>
                  <a:pt x="18379" y="12261"/>
                  <a:pt x="18389" y="12281"/>
                </a:cubicBezTo>
                <a:cubicBezTo>
                  <a:pt x="18403" y="12308"/>
                  <a:pt x="18444" y="12303"/>
                  <a:pt x="18455" y="12325"/>
                </a:cubicBezTo>
                <a:cubicBezTo>
                  <a:pt x="18460" y="12334"/>
                  <a:pt x="18494" y="12399"/>
                  <a:pt x="18477" y="12413"/>
                </a:cubicBezTo>
                <a:cubicBezTo>
                  <a:pt x="18458" y="12428"/>
                  <a:pt x="18439" y="12452"/>
                  <a:pt x="18411" y="12480"/>
                </a:cubicBezTo>
                <a:cubicBezTo>
                  <a:pt x="18389" y="12503"/>
                  <a:pt x="18352" y="12521"/>
                  <a:pt x="18322" y="12524"/>
                </a:cubicBezTo>
                <a:cubicBezTo>
                  <a:pt x="18300" y="12524"/>
                  <a:pt x="18293" y="12524"/>
                  <a:pt x="18278" y="12524"/>
                </a:cubicBezTo>
                <a:cubicBezTo>
                  <a:pt x="18288" y="12485"/>
                  <a:pt x="18314" y="12465"/>
                  <a:pt x="18344" y="12435"/>
                </a:cubicBezTo>
                <a:cubicBezTo>
                  <a:pt x="18378" y="12401"/>
                  <a:pt x="18408" y="12363"/>
                  <a:pt x="18455" y="12347"/>
                </a:cubicBezTo>
                <a:cubicBezTo>
                  <a:pt x="18491" y="12335"/>
                  <a:pt x="18534" y="12309"/>
                  <a:pt x="18543" y="12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Ink 52"/>
          <p:cNvSpPr/>
          <p:nvPr/>
        </p:nvSpPr>
        <p:spPr>
          <a:xfrm>
            <a:off x="6794640" y="4246560"/>
            <a:ext cx="190440" cy="206280"/>
          </a:xfrm>
          <a:custGeom>
            <a:avLst/>
            <a:gdLst/>
            <a:ahLst/>
            <a:rect l="l" t="t" r="r" b="b"/>
            <a:pathLst>
              <a:path w="530" h="574">
                <a:moveTo>
                  <a:pt x="18874" y="12061"/>
                </a:moveTo>
                <a:cubicBezTo>
                  <a:pt x="18902" y="12040"/>
                  <a:pt x="18936" y="12034"/>
                  <a:pt x="18962" y="12016"/>
                </a:cubicBezTo>
                <a:cubicBezTo>
                  <a:pt x="18992" y="11996"/>
                  <a:pt x="18999" y="11976"/>
                  <a:pt x="19028" y="11950"/>
                </a:cubicBezTo>
                <a:cubicBezTo>
                  <a:pt x="19054" y="11927"/>
                  <a:pt x="19084" y="11892"/>
                  <a:pt x="19094" y="11862"/>
                </a:cubicBezTo>
                <a:cubicBezTo>
                  <a:pt x="19097" y="11854"/>
                  <a:pt x="19094" y="11757"/>
                  <a:pt x="19094" y="11818"/>
                </a:cubicBezTo>
                <a:cubicBezTo>
                  <a:pt x="19094" y="11878"/>
                  <a:pt x="19087" y="11921"/>
                  <a:pt x="19072" y="11972"/>
                </a:cubicBezTo>
                <a:cubicBezTo>
                  <a:pt x="19059" y="12015"/>
                  <a:pt x="19070" y="12065"/>
                  <a:pt x="19050" y="12105"/>
                </a:cubicBezTo>
                <a:cubicBezTo>
                  <a:pt x="19030" y="12146"/>
                  <a:pt x="19000" y="12189"/>
                  <a:pt x="18984" y="12237"/>
                </a:cubicBezTo>
                <a:cubicBezTo>
                  <a:pt x="18981" y="12245"/>
                  <a:pt x="18965" y="12322"/>
                  <a:pt x="18962" y="12325"/>
                </a:cubicBezTo>
                <a:cubicBezTo>
                  <a:pt x="18951" y="12334"/>
                  <a:pt x="18907" y="12384"/>
                  <a:pt x="18962" y="12347"/>
                </a:cubicBezTo>
              </a:path>
              <a:path w="530" h="574">
                <a:moveTo>
                  <a:pt x="19182" y="12039"/>
                </a:moveTo>
                <a:cubicBezTo>
                  <a:pt x="19190" y="12006"/>
                  <a:pt x="19200" y="11998"/>
                  <a:pt x="19226" y="11972"/>
                </a:cubicBezTo>
              </a:path>
              <a:path w="530" h="574">
                <a:moveTo>
                  <a:pt x="19315" y="11994"/>
                </a:moveTo>
                <a:cubicBezTo>
                  <a:pt x="19301" y="11953"/>
                  <a:pt x="19284" y="11991"/>
                  <a:pt x="19270" y="11950"/>
                </a:cubicBezTo>
                <a:cubicBezTo>
                  <a:pt x="19236" y="11975"/>
                  <a:pt x="19181" y="11968"/>
                  <a:pt x="19160" y="12016"/>
                </a:cubicBezTo>
                <a:cubicBezTo>
                  <a:pt x="19147" y="12046"/>
                  <a:pt x="19138" y="12069"/>
                  <a:pt x="19138" y="12105"/>
                </a:cubicBezTo>
                <a:cubicBezTo>
                  <a:pt x="19138" y="12157"/>
                  <a:pt x="19156" y="12162"/>
                  <a:pt x="19160" y="12193"/>
                </a:cubicBezTo>
                <a:cubicBezTo>
                  <a:pt x="19163" y="12220"/>
                  <a:pt x="19194" y="12233"/>
                  <a:pt x="19226" y="12237"/>
                </a:cubicBezTo>
                <a:cubicBezTo>
                  <a:pt x="19263" y="12241"/>
                  <a:pt x="19284" y="12203"/>
                  <a:pt x="19315" y="12193"/>
                </a:cubicBezTo>
                <a:cubicBezTo>
                  <a:pt x="19359" y="12178"/>
                  <a:pt x="19365" y="12187"/>
                  <a:pt x="19403" y="121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Ink 53"/>
          <p:cNvSpPr/>
          <p:nvPr/>
        </p:nvSpPr>
        <p:spPr>
          <a:xfrm>
            <a:off x="7095960" y="4222800"/>
            <a:ext cx="1841760" cy="357120"/>
          </a:xfrm>
          <a:custGeom>
            <a:avLst/>
            <a:gdLst/>
            <a:ahLst/>
            <a:rect l="l" t="t" r="r" b="b"/>
            <a:pathLst>
              <a:path w="5117" h="993">
                <a:moveTo>
                  <a:pt x="19756" y="11950"/>
                </a:moveTo>
                <a:cubicBezTo>
                  <a:pt x="19756" y="11998"/>
                  <a:pt x="19742" y="12024"/>
                  <a:pt x="19734" y="12061"/>
                </a:cubicBezTo>
                <a:cubicBezTo>
                  <a:pt x="19725" y="12102"/>
                  <a:pt x="19715" y="12154"/>
                  <a:pt x="19711" y="12193"/>
                </a:cubicBezTo>
                <a:cubicBezTo>
                  <a:pt x="19706" y="12241"/>
                  <a:pt x="19703" y="12275"/>
                  <a:pt x="19756" y="12281"/>
                </a:cubicBezTo>
                <a:cubicBezTo>
                  <a:pt x="19787" y="12284"/>
                  <a:pt x="19822" y="12273"/>
                  <a:pt x="19844" y="12259"/>
                </a:cubicBezTo>
                <a:cubicBezTo>
                  <a:pt x="19868" y="12243"/>
                  <a:pt x="19890" y="12213"/>
                  <a:pt x="19910" y="12193"/>
                </a:cubicBezTo>
              </a:path>
              <a:path w="5117" h="993">
                <a:moveTo>
                  <a:pt x="19844" y="11730"/>
                </a:moveTo>
                <a:cubicBezTo>
                  <a:pt x="19806" y="11730"/>
                  <a:pt x="19837" y="11746"/>
                  <a:pt x="19844" y="11774"/>
                </a:cubicBezTo>
              </a:path>
              <a:path w="5117" h="993">
                <a:moveTo>
                  <a:pt x="19998" y="11906"/>
                </a:moveTo>
                <a:lnTo>
                  <a:pt x="19998" y="11906"/>
                </a:lnTo>
              </a:path>
              <a:path w="5117" h="993">
                <a:moveTo>
                  <a:pt x="19998" y="11906"/>
                </a:moveTo>
                <a:cubicBezTo>
                  <a:pt x="19998" y="11928"/>
                  <a:pt x="19998" y="11950"/>
                  <a:pt x="19998" y="11972"/>
                </a:cubicBezTo>
              </a:path>
              <a:path w="5117" h="993">
                <a:moveTo>
                  <a:pt x="19998" y="11972"/>
                </a:moveTo>
                <a:cubicBezTo>
                  <a:pt x="19998" y="12065"/>
                  <a:pt x="19993" y="12157"/>
                  <a:pt x="20020" y="12237"/>
                </a:cubicBezTo>
                <a:cubicBezTo>
                  <a:pt x="20024" y="12248"/>
                  <a:pt x="20065" y="12285"/>
                  <a:pt x="20086" y="12259"/>
                </a:cubicBezTo>
                <a:cubicBezTo>
                  <a:pt x="20102" y="12239"/>
                  <a:pt x="20122" y="12211"/>
                  <a:pt x="20130" y="12193"/>
                </a:cubicBezTo>
                <a:cubicBezTo>
                  <a:pt x="20148" y="12153"/>
                  <a:pt x="20184" y="12120"/>
                  <a:pt x="20197" y="12083"/>
                </a:cubicBezTo>
                <a:cubicBezTo>
                  <a:pt x="20206" y="12057"/>
                  <a:pt x="20216" y="12020"/>
                  <a:pt x="20219" y="11994"/>
                </a:cubicBezTo>
                <a:cubicBezTo>
                  <a:pt x="20219" y="11972"/>
                  <a:pt x="20219" y="11965"/>
                  <a:pt x="20219" y="11950"/>
                </a:cubicBezTo>
                <a:cubicBezTo>
                  <a:pt x="20219" y="11891"/>
                  <a:pt x="20219" y="11984"/>
                  <a:pt x="20219" y="11994"/>
                </a:cubicBezTo>
                <a:cubicBezTo>
                  <a:pt x="20219" y="12022"/>
                  <a:pt x="20196" y="12099"/>
                  <a:pt x="20197" y="12105"/>
                </a:cubicBezTo>
                <a:cubicBezTo>
                  <a:pt x="20203" y="12136"/>
                  <a:pt x="20219" y="12152"/>
                  <a:pt x="20219" y="12193"/>
                </a:cubicBezTo>
                <a:cubicBezTo>
                  <a:pt x="20219" y="12218"/>
                  <a:pt x="20221" y="12228"/>
                  <a:pt x="20241" y="12237"/>
                </a:cubicBezTo>
                <a:cubicBezTo>
                  <a:pt x="20269" y="12237"/>
                  <a:pt x="20300" y="12230"/>
                  <a:pt x="20307" y="12215"/>
                </a:cubicBezTo>
                <a:cubicBezTo>
                  <a:pt x="20321" y="12186"/>
                  <a:pt x="20359" y="12157"/>
                  <a:pt x="20373" y="12127"/>
                </a:cubicBezTo>
                <a:cubicBezTo>
                  <a:pt x="20385" y="12101"/>
                  <a:pt x="20408" y="12066"/>
                  <a:pt x="20417" y="12039"/>
                </a:cubicBezTo>
                <a:cubicBezTo>
                  <a:pt x="20427" y="12007"/>
                  <a:pt x="20432" y="11986"/>
                  <a:pt x="20439" y="11972"/>
                </a:cubicBezTo>
                <a:cubicBezTo>
                  <a:pt x="20439" y="11965"/>
                  <a:pt x="20439" y="11957"/>
                  <a:pt x="20439" y="11950"/>
                </a:cubicBezTo>
                <a:cubicBezTo>
                  <a:pt x="20432" y="11979"/>
                  <a:pt x="20430" y="12035"/>
                  <a:pt x="20417" y="12061"/>
                </a:cubicBezTo>
                <a:cubicBezTo>
                  <a:pt x="20397" y="12102"/>
                  <a:pt x="20395" y="12118"/>
                  <a:pt x="20395" y="12171"/>
                </a:cubicBezTo>
                <a:cubicBezTo>
                  <a:pt x="20395" y="12194"/>
                  <a:pt x="20401" y="12249"/>
                  <a:pt x="20417" y="12259"/>
                </a:cubicBezTo>
                <a:cubicBezTo>
                  <a:pt x="20439" y="12259"/>
                  <a:pt x="20446" y="12259"/>
                  <a:pt x="20439" y="12281"/>
                </a:cubicBezTo>
                <a:cubicBezTo>
                  <a:pt x="20471" y="12281"/>
                  <a:pt x="20503" y="12275"/>
                  <a:pt x="20527" y="12259"/>
                </a:cubicBezTo>
                <a:cubicBezTo>
                  <a:pt x="20565" y="12234"/>
                  <a:pt x="20570" y="12227"/>
                  <a:pt x="20593" y="12193"/>
                </a:cubicBezTo>
                <a:cubicBezTo>
                  <a:pt x="20612" y="12164"/>
                  <a:pt x="20633" y="12141"/>
                  <a:pt x="20637" y="12105"/>
                </a:cubicBezTo>
                <a:cubicBezTo>
                  <a:pt x="20637" y="12098"/>
                  <a:pt x="20637" y="12090"/>
                  <a:pt x="20637" y="12083"/>
                </a:cubicBezTo>
                <a:cubicBezTo>
                  <a:pt x="20637" y="12034"/>
                  <a:pt x="20617" y="12110"/>
                  <a:pt x="20615" y="12127"/>
                </a:cubicBezTo>
                <a:cubicBezTo>
                  <a:pt x="20612" y="12154"/>
                  <a:pt x="20576" y="12184"/>
                  <a:pt x="20593" y="12215"/>
                </a:cubicBezTo>
                <a:cubicBezTo>
                  <a:pt x="20615" y="12255"/>
                  <a:pt x="20615" y="12259"/>
                  <a:pt x="20660" y="12259"/>
                </a:cubicBezTo>
                <a:cubicBezTo>
                  <a:pt x="20701" y="12259"/>
                  <a:pt x="20717" y="12265"/>
                  <a:pt x="20748" y="12237"/>
                </a:cubicBezTo>
                <a:cubicBezTo>
                  <a:pt x="20774" y="12214"/>
                  <a:pt x="20786" y="12214"/>
                  <a:pt x="20814" y="12193"/>
                </a:cubicBezTo>
              </a:path>
              <a:path w="5117" h="993">
                <a:moveTo>
                  <a:pt x="20726" y="11840"/>
                </a:moveTo>
                <a:cubicBezTo>
                  <a:pt x="20726" y="11862"/>
                  <a:pt x="20726" y="11884"/>
                  <a:pt x="20726" y="11906"/>
                </a:cubicBezTo>
              </a:path>
              <a:path w="5117" h="993">
                <a:moveTo>
                  <a:pt x="20880" y="11906"/>
                </a:moveTo>
                <a:cubicBezTo>
                  <a:pt x="20880" y="11974"/>
                  <a:pt x="20874" y="12020"/>
                  <a:pt x="20858" y="12083"/>
                </a:cubicBezTo>
                <a:cubicBezTo>
                  <a:pt x="20842" y="12147"/>
                  <a:pt x="20858" y="12236"/>
                  <a:pt x="20858" y="12303"/>
                </a:cubicBezTo>
                <a:cubicBezTo>
                  <a:pt x="20858" y="12233"/>
                  <a:pt x="20860" y="12166"/>
                  <a:pt x="20880" y="12127"/>
                </a:cubicBezTo>
                <a:cubicBezTo>
                  <a:pt x="20902" y="12083"/>
                  <a:pt x="20906" y="12127"/>
                  <a:pt x="20946" y="12105"/>
                </a:cubicBezTo>
                <a:cubicBezTo>
                  <a:pt x="20966" y="12094"/>
                  <a:pt x="21046" y="12075"/>
                  <a:pt x="21056" y="12061"/>
                </a:cubicBezTo>
                <a:cubicBezTo>
                  <a:pt x="21070" y="12041"/>
                  <a:pt x="21097" y="12031"/>
                  <a:pt x="21101" y="11994"/>
                </a:cubicBezTo>
                <a:cubicBezTo>
                  <a:pt x="21101" y="11987"/>
                  <a:pt x="21101" y="11979"/>
                  <a:pt x="21101" y="11972"/>
                </a:cubicBezTo>
                <a:cubicBezTo>
                  <a:pt x="21066" y="11983"/>
                  <a:pt x="21074" y="11991"/>
                  <a:pt x="21056" y="12016"/>
                </a:cubicBezTo>
                <a:cubicBezTo>
                  <a:pt x="21035" y="12045"/>
                  <a:pt x="21029" y="12079"/>
                  <a:pt x="21012" y="12105"/>
                </a:cubicBezTo>
                <a:cubicBezTo>
                  <a:pt x="20987" y="12143"/>
                  <a:pt x="20990" y="12169"/>
                  <a:pt x="20990" y="12215"/>
                </a:cubicBezTo>
                <a:cubicBezTo>
                  <a:pt x="20990" y="12271"/>
                  <a:pt x="21015" y="12253"/>
                  <a:pt x="21034" y="12281"/>
                </a:cubicBezTo>
                <a:cubicBezTo>
                  <a:pt x="21057" y="12316"/>
                  <a:pt x="21066" y="12286"/>
                  <a:pt x="21123" y="12281"/>
                </a:cubicBezTo>
                <a:cubicBezTo>
                  <a:pt x="21149" y="12279"/>
                  <a:pt x="21161" y="12258"/>
                  <a:pt x="21189" y="12237"/>
                </a:cubicBezTo>
              </a:path>
              <a:path w="5117" h="993">
                <a:moveTo>
                  <a:pt x="21277" y="12016"/>
                </a:moveTo>
                <a:cubicBezTo>
                  <a:pt x="21284" y="11989"/>
                  <a:pt x="21304" y="11950"/>
                  <a:pt x="21343" y="11972"/>
                </a:cubicBezTo>
                <a:cubicBezTo>
                  <a:pt x="21385" y="11995"/>
                  <a:pt x="21369" y="12047"/>
                  <a:pt x="21387" y="12061"/>
                </a:cubicBezTo>
                <a:cubicBezTo>
                  <a:pt x="21394" y="12061"/>
                  <a:pt x="21402" y="12061"/>
                  <a:pt x="21409" y="12061"/>
                </a:cubicBezTo>
                <a:cubicBezTo>
                  <a:pt x="21409" y="12011"/>
                  <a:pt x="21391" y="12030"/>
                  <a:pt x="21387" y="11994"/>
                </a:cubicBezTo>
                <a:cubicBezTo>
                  <a:pt x="21383" y="11965"/>
                  <a:pt x="21371" y="11971"/>
                  <a:pt x="21343" y="11950"/>
                </a:cubicBezTo>
                <a:cubicBezTo>
                  <a:pt x="21321" y="11967"/>
                  <a:pt x="21264" y="11984"/>
                  <a:pt x="21255" y="12016"/>
                </a:cubicBezTo>
                <a:cubicBezTo>
                  <a:pt x="21239" y="12074"/>
                  <a:pt x="21211" y="12106"/>
                  <a:pt x="21211" y="12171"/>
                </a:cubicBezTo>
                <a:cubicBezTo>
                  <a:pt x="21211" y="12192"/>
                  <a:pt x="21234" y="12248"/>
                  <a:pt x="21255" y="12259"/>
                </a:cubicBezTo>
                <a:cubicBezTo>
                  <a:pt x="21290" y="12277"/>
                  <a:pt x="21319" y="12245"/>
                  <a:pt x="21343" y="12237"/>
                </a:cubicBezTo>
                <a:cubicBezTo>
                  <a:pt x="21375" y="12226"/>
                  <a:pt x="21372" y="12206"/>
                  <a:pt x="21387" y="12171"/>
                </a:cubicBezTo>
                <a:cubicBezTo>
                  <a:pt x="21407" y="12125"/>
                  <a:pt x="21409" y="12109"/>
                  <a:pt x="21409" y="12061"/>
                </a:cubicBezTo>
                <a:cubicBezTo>
                  <a:pt x="21409" y="12046"/>
                  <a:pt x="21409" y="11938"/>
                  <a:pt x="21409" y="11994"/>
                </a:cubicBezTo>
                <a:cubicBezTo>
                  <a:pt x="21409" y="12074"/>
                  <a:pt x="21398" y="12138"/>
                  <a:pt x="21387" y="12215"/>
                </a:cubicBezTo>
                <a:cubicBezTo>
                  <a:pt x="21378" y="12275"/>
                  <a:pt x="21384" y="12334"/>
                  <a:pt x="21365" y="12391"/>
                </a:cubicBezTo>
                <a:cubicBezTo>
                  <a:pt x="21349" y="12438"/>
                  <a:pt x="21335" y="12483"/>
                  <a:pt x="21321" y="12524"/>
                </a:cubicBezTo>
                <a:cubicBezTo>
                  <a:pt x="21311" y="12555"/>
                  <a:pt x="21283" y="12579"/>
                  <a:pt x="21277" y="12590"/>
                </a:cubicBezTo>
                <a:cubicBezTo>
                  <a:pt x="21277" y="12597"/>
                  <a:pt x="21277" y="12605"/>
                  <a:pt x="21277" y="12612"/>
                </a:cubicBezTo>
                <a:cubicBezTo>
                  <a:pt x="21255" y="12596"/>
                  <a:pt x="21223" y="12554"/>
                  <a:pt x="21211" y="12546"/>
                </a:cubicBezTo>
                <a:cubicBezTo>
                  <a:pt x="21183" y="12528"/>
                  <a:pt x="21189" y="12525"/>
                  <a:pt x="21189" y="12480"/>
                </a:cubicBezTo>
                <a:cubicBezTo>
                  <a:pt x="21189" y="12434"/>
                  <a:pt x="21202" y="12432"/>
                  <a:pt x="21211" y="12413"/>
                </a:cubicBezTo>
                <a:cubicBezTo>
                  <a:pt x="21227" y="12381"/>
                  <a:pt x="21262" y="12345"/>
                  <a:pt x="21277" y="12325"/>
                </a:cubicBezTo>
                <a:cubicBezTo>
                  <a:pt x="21307" y="12285"/>
                  <a:pt x="21328" y="12252"/>
                  <a:pt x="21365" y="12215"/>
                </a:cubicBezTo>
                <a:cubicBezTo>
                  <a:pt x="21397" y="12183"/>
                  <a:pt x="21423" y="12176"/>
                  <a:pt x="21453" y="12149"/>
                </a:cubicBezTo>
                <a:cubicBezTo>
                  <a:pt x="21476" y="12128"/>
                  <a:pt x="21554" y="12075"/>
                  <a:pt x="21564" y="12061"/>
                </a:cubicBezTo>
                <a:cubicBezTo>
                  <a:pt x="21572" y="12049"/>
                  <a:pt x="21608" y="11995"/>
                  <a:pt x="21608" y="11994"/>
                </a:cubicBezTo>
                <a:cubicBezTo>
                  <a:pt x="21608" y="11972"/>
                  <a:pt x="21608" y="11965"/>
                  <a:pt x="21608" y="11950"/>
                </a:cubicBezTo>
                <a:cubicBezTo>
                  <a:pt x="21554" y="11936"/>
                  <a:pt x="21570" y="11936"/>
                  <a:pt x="21541" y="11950"/>
                </a:cubicBezTo>
                <a:cubicBezTo>
                  <a:pt x="21516" y="11962"/>
                  <a:pt x="21486" y="11950"/>
                  <a:pt x="21475" y="11972"/>
                </a:cubicBezTo>
                <a:cubicBezTo>
                  <a:pt x="21461" y="12001"/>
                  <a:pt x="21453" y="12025"/>
                  <a:pt x="21453" y="12061"/>
                </a:cubicBezTo>
                <a:cubicBezTo>
                  <a:pt x="21453" y="12102"/>
                  <a:pt x="21451" y="12122"/>
                  <a:pt x="21497" y="12127"/>
                </a:cubicBezTo>
                <a:cubicBezTo>
                  <a:pt x="21590" y="12137"/>
                  <a:pt x="21690" y="12127"/>
                  <a:pt x="21784" y="12127"/>
                </a:cubicBezTo>
              </a:path>
              <a:path w="5117" h="993">
                <a:moveTo>
                  <a:pt x="21982" y="12105"/>
                </a:moveTo>
                <a:cubicBezTo>
                  <a:pt x="22033" y="12083"/>
                  <a:pt x="22062" y="12065"/>
                  <a:pt x="22115" y="12061"/>
                </a:cubicBezTo>
                <a:cubicBezTo>
                  <a:pt x="22154" y="12058"/>
                  <a:pt x="22175" y="12022"/>
                  <a:pt x="22203" y="11994"/>
                </a:cubicBezTo>
                <a:cubicBezTo>
                  <a:pt x="22239" y="11958"/>
                  <a:pt x="22267" y="11920"/>
                  <a:pt x="22291" y="11884"/>
                </a:cubicBezTo>
                <a:cubicBezTo>
                  <a:pt x="22314" y="11849"/>
                  <a:pt x="22313" y="11840"/>
                  <a:pt x="22313" y="11796"/>
                </a:cubicBezTo>
                <a:cubicBezTo>
                  <a:pt x="22268" y="11811"/>
                  <a:pt x="22290" y="11841"/>
                  <a:pt x="22269" y="11884"/>
                </a:cubicBezTo>
                <a:cubicBezTo>
                  <a:pt x="22252" y="11918"/>
                  <a:pt x="22232" y="11974"/>
                  <a:pt x="22225" y="12016"/>
                </a:cubicBezTo>
                <a:cubicBezTo>
                  <a:pt x="22214" y="12078"/>
                  <a:pt x="22195" y="12132"/>
                  <a:pt x="22181" y="12193"/>
                </a:cubicBezTo>
                <a:cubicBezTo>
                  <a:pt x="22170" y="12240"/>
                  <a:pt x="22126" y="12284"/>
                  <a:pt x="22115" y="12325"/>
                </a:cubicBezTo>
                <a:cubicBezTo>
                  <a:pt x="22106" y="12357"/>
                  <a:pt x="22096" y="12406"/>
                  <a:pt x="22093" y="12435"/>
                </a:cubicBezTo>
                <a:cubicBezTo>
                  <a:pt x="22093" y="12457"/>
                  <a:pt x="22093" y="12465"/>
                  <a:pt x="22093" y="12480"/>
                </a:cubicBezTo>
              </a:path>
              <a:path w="5117" h="993">
                <a:moveTo>
                  <a:pt x="22335" y="12193"/>
                </a:moveTo>
                <a:cubicBezTo>
                  <a:pt x="22340" y="12230"/>
                  <a:pt x="22351" y="12247"/>
                  <a:pt x="22357" y="12281"/>
                </a:cubicBezTo>
                <a:cubicBezTo>
                  <a:pt x="22361" y="12303"/>
                  <a:pt x="22362" y="12358"/>
                  <a:pt x="22379" y="12369"/>
                </a:cubicBezTo>
                <a:cubicBezTo>
                  <a:pt x="22407" y="12387"/>
                  <a:pt x="22449" y="12361"/>
                  <a:pt x="22468" y="12347"/>
                </a:cubicBezTo>
                <a:cubicBezTo>
                  <a:pt x="22505" y="12321"/>
                  <a:pt x="22533" y="12274"/>
                  <a:pt x="22556" y="12237"/>
                </a:cubicBezTo>
                <a:cubicBezTo>
                  <a:pt x="22581" y="12196"/>
                  <a:pt x="22613" y="12146"/>
                  <a:pt x="22622" y="12105"/>
                </a:cubicBezTo>
                <a:cubicBezTo>
                  <a:pt x="22633" y="12055"/>
                  <a:pt x="22622" y="12046"/>
                  <a:pt x="22622" y="11994"/>
                </a:cubicBezTo>
                <a:cubicBezTo>
                  <a:pt x="22609" y="12034"/>
                  <a:pt x="22610" y="12058"/>
                  <a:pt x="22600" y="12105"/>
                </a:cubicBezTo>
                <a:cubicBezTo>
                  <a:pt x="22588" y="12160"/>
                  <a:pt x="22578" y="12200"/>
                  <a:pt x="22578" y="12259"/>
                </a:cubicBezTo>
                <a:cubicBezTo>
                  <a:pt x="22578" y="12317"/>
                  <a:pt x="22574" y="12346"/>
                  <a:pt x="22600" y="12391"/>
                </a:cubicBezTo>
                <a:cubicBezTo>
                  <a:pt x="22609" y="12407"/>
                  <a:pt x="22631" y="12431"/>
                  <a:pt x="22666" y="12413"/>
                </a:cubicBezTo>
                <a:cubicBezTo>
                  <a:pt x="22702" y="12394"/>
                  <a:pt x="22713" y="12347"/>
                  <a:pt x="22732" y="12325"/>
                </a:cubicBezTo>
                <a:cubicBezTo>
                  <a:pt x="22765" y="12286"/>
                  <a:pt x="22792" y="12258"/>
                  <a:pt x="22820" y="12215"/>
                </a:cubicBezTo>
                <a:cubicBezTo>
                  <a:pt x="22840" y="12184"/>
                  <a:pt x="22879" y="12138"/>
                  <a:pt x="22886" y="12105"/>
                </a:cubicBezTo>
                <a:cubicBezTo>
                  <a:pt x="22895" y="12063"/>
                  <a:pt x="22891" y="12068"/>
                  <a:pt x="22909" y="12039"/>
                </a:cubicBezTo>
                <a:cubicBezTo>
                  <a:pt x="22897" y="12054"/>
                  <a:pt x="22877" y="12072"/>
                  <a:pt x="22864" y="12105"/>
                </a:cubicBezTo>
                <a:cubicBezTo>
                  <a:pt x="22846" y="12148"/>
                  <a:pt x="22844" y="12190"/>
                  <a:pt x="22842" y="12237"/>
                </a:cubicBezTo>
                <a:cubicBezTo>
                  <a:pt x="22839" y="12303"/>
                  <a:pt x="22858" y="12315"/>
                  <a:pt x="22886" y="12369"/>
                </a:cubicBezTo>
                <a:cubicBezTo>
                  <a:pt x="22896" y="12389"/>
                  <a:pt x="22921" y="12435"/>
                  <a:pt x="22953" y="12435"/>
                </a:cubicBezTo>
                <a:cubicBezTo>
                  <a:pt x="22999" y="12435"/>
                  <a:pt x="23028" y="12408"/>
                  <a:pt x="23063" y="12391"/>
                </a:cubicBezTo>
                <a:cubicBezTo>
                  <a:pt x="23101" y="12372"/>
                  <a:pt x="23150" y="12341"/>
                  <a:pt x="23173" y="12303"/>
                </a:cubicBezTo>
                <a:cubicBezTo>
                  <a:pt x="23195" y="12266"/>
                  <a:pt x="23200" y="12231"/>
                  <a:pt x="23217" y="12193"/>
                </a:cubicBezTo>
                <a:cubicBezTo>
                  <a:pt x="23241" y="12138"/>
                  <a:pt x="23241" y="12131"/>
                  <a:pt x="23217" y="12083"/>
                </a:cubicBezTo>
                <a:cubicBezTo>
                  <a:pt x="23204" y="12057"/>
                  <a:pt x="23210" y="12064"/>
                  <a:pt x="23195" y="12039"/>
                </a:cubicBezTo>
                <a:cubicBezTo>
                  <a:pt x="23163" y="12044"/>
                  <a:pt x="23143" y="12042"/>
                  <a:pt x="23129" y="12061"/>
                </a:cubicBezTo>
                <a:cubicBezTo>
                  <a:pt x="23118" y="12076"/>
                  <a:pt x="23089" y="12150"/>
                  <a:pt x="23085" y="12171"/>
                </a:cubicBezTo>
                <a:cubicBezTo>
                  <a:pt x="23077" y="12219"/>
                  <a:pt x="23100" y="12242"/>
                  <a:pt x="23107" y="12281"/>
                </a:cubicBezTo>
                <a:cubicBezTo>
                  <a:pt x="23113" y="12319"/>
                  <a:pt x="23127" y="12347"/>
                  <a:pt x="23173" y="12369"/>
                </a:cubicBezTo>
                <a:cubicBezTo>
                  <a:pt x="23211" y="12387"/>
                  <a:pt x="23255" y="12359"/>
                  <a:pt x="23283" y="12347"/>
                </a:cubicBezTo>
                <a:cubicBezTo>
                  <a:pt x="23322" y="12330"/>
                  <a:pt x="23347" y="12297"/>
                  <a:pt x="23372" y="12259"/>
                </a:cubicBezTo>
                <a:cubicBezTo>
                  <a:pt x="23388" y="12234"/>
                  <a:pt x="23393" y="12204"/>
                  <a:pt x="23394" y="12171"/>
                </a:cubicBezTo>
                <a:cubicBezTo>
                  <a:pt x="23395" y="12142"/>
                  <a:pt x="23394" y="12112"/>
                  <a:pt x="23394" y="12083"/>
                </a:cubicBezTo>
                <a:cubicBezTo>
                  <a:pt x="23394" y="12112"/>
                  <a:pt x="23401" y="12098"/>
                  <a:pt x="23394" y="12127"/>
                </a:cubicBezTo>
                <a:cubicBezTo>
                  <a:pt x="23385" y="12166"/>
                  <a:pt x="23374" y="12196"/>
                  <a:pt x="23372" y="12237"/>
                </a:cubicBezTo>
                <a:cubicBezTo>
                  <a:pt x="23368" y="12310"/>
                  <a:pt x="23372" y="12384"/>
                  <a:pt x="23372" y="12457"/>
                </a:cubicBezTo>
                <a:cubicBezTo>
                  <a:pt x="23383" y="12439"/>
                  <a:pt x="23382" y="12426"/>
                  <a:pt x="23394" y="12391"/>
                </a:cubicBezTo>
                <a:cubicBezTo>
                  <a:pt x="23407" y="12354"/>
                  <a:pt x="23418" y="12320"/>
                  <a:pt x="23438" y="12281"/>
                </a:cubicBezTo>
                <a:cubicBezTo>
                  <a:pt x="23454" y="12250"/>
                  <a:pt x="23467" y="12205"/>
                  <a:pt x="23482" y="12171"/>
                </a:cubicBezTo>
                <a:cubicBezTo>
                  <a:pt x="23494" y="12142"/>
                  <a:pt x="23514" y="12121"/>
                  <a:pt x="23526" y="12105"/>
                </a:cubicBezTo>
                <a:cubicBezTo>
                  <a:pt x="23547" y="12126"/>
                  <a:pt x="23560" y="12114"/>
                  <a:pt x="23570" y="12149"/>
                </a:cubicBezTo>
                <a:cubicBezTo>
                  <a:pt x="23581" y="12187"/>
                  <a:pt x="23526" y="12226"/>
                  <a:pt x="23548" y="12259"/>
                </a:cubicBezTo>
                <a:cubicBezTo>
                  <a:pt x="23564" y="12283"/>
                  <a:pt x="23568" y="12222"/>
                  <a:pt x="23570" y="12193"/>
                </a:cubicBezTo>
                <a:cubicBezTo>
                  <a:pt x="23573" y="12149"/>
                  <a:pt x="23578" y="12142"/>
                  <a:pt x="23592" y="12105"/>
                </a:cubicBezTo>
                <a:cubicBezTo>
                  <a:pt x="23606" y="12123"/>
                  <a:pt x="23629" y="12130"/>
                  <a:pt x="23636" y="12171"/>
                </a:cubicBezTo>
                <a:cubicBezTo>
                  <a:pt x="23649" y="12241"/>
                  <a:pt x="23622" y="12313"/>
                  <a:pt x="23614" y="12369"/>
                </a:cubicBezTo>
                <a:cubicBezTo>
                  <a:pt x="23608" y="12410"/>
                  <a:pt x="23618" y="12449"/>
                  <a:pt x="23636" y="12480"/>
                </a:cubicBezTo>
                <a:cubicBezTo>
                  <a:pt x="23643" y="12487"/>
                  <a:pt x="23651" y="12495"/>
                  <a:pt x="23658" y="12502"/>
                </a:cubicBezTo>
                <a:cubicBezTo>
                  <a:pt x="23695" y="12497"/>
                  <a:pt x="23703" y="12499"/>
                  <a:pt x="23724" y="12480"/>
                </a:cubicBezTo>
                <a:cubicBezTo>
                  <a:pt x="23794" y="12418"/>
                  <a:pt x="23849" y="12358"/>
                  <a:pt x="23879" y="12281"/>
                </a:cubicBezTo>
                <a:cubicBezTo>
                  <a:pt x="23892" y="12248"/>
                  <a:pt x="23915" y="12230"/>
                  <a:pt x="23923" y="12193"/>
                </a:cubicBezTo>
                <a:cubicBezTo>
                  <a:pt x="23923" y="12171"/>
                  <a:pt x="23923" y="12164"/>
                  <a:pt x="23923" y="12149"/>
                </a:cubicBezTo>
                <a:cubicBezTo>
                  <a:pt x="23905" y="12184"/>
                  <a:pt x="23886" y="12219"/>
                  <a:pt x="23879" y="12259"/>
                </a:cubicBezTo>
                <a:cubicBezTo>
                  <a:pt x="23870" y="12314"/>
                  <a:pt x="23872" y="12413"/>
                  <a:pt x="23901" y="12435"/>
                </a:cubicBezTo>
                <a:cubicBezTo>
                  <a:pt x="23925" y="12454"/>
                  <a:pt x="23945" y="12482"/>
                  <a:pt x="23967" y="12480"/>
                </a:cubicBezTo>
                <a:cubicBezTo>
                  <a:pt x="23984" y="12479"/>
                  <a:pt x="24037" y="12444"/>
                  <a:pt x="24055" y="12435"/>
                </a:cubicBezTo>
              </a:path>
              <a:path w="5117" h="993">
                <a:moveTo>
                  <a:pt x="23923" y="12061"/>
                </a:moveTo>
                <a:cubicBezTo>
                  <a:pt x="23923" y="12101"/>
                  <a:pt x="23941" y="12113"/>
                  <a:pt x="23945" y="12149"/>
                </a:cubicBezTo>
                <a:cubicBezTo>
                  <a:pt x="23952" y="12216"/>
                  <a:pt x="23933" y="12264"/>
                  <a:pt x="23923" y="12325"/>
                </a:cubicBezTo>
                <a:cubicBezTo>
                  <a:pt x="23908" y="12415"/>
                  <a:pt x="23921" y="12502"/>
                  <a:pt x="23901" y="12590"/>
                </a:cubicBezTo>
                <a:cubicBezTo>
                  <a:pt x="23889" y="12641"/>
                  <a:pt x="23911" y="12663"/>
                  <a:pt x="23923" y="12700"/>
                </a:cubicBezTo>
                <a:cubicBezTo>
                  <a:pt x="23934" y="12733"/>
                  <a:pt x="23927" y="12696"/>
                  <a:pt x="23923" y="12678"/>
                </a:cubicBezTo>
                <a:cubicBezTo>
                  <a:pt x="23913" y="12638"/>
                  <a:pt x="23941" y="12624"/>
                  <a:pt x="23945" y="12590"/>
                </a:cubicBezTo>
                <a:cubicBezTo>
                  <a:pt x="23952" y="12527"/>
                  <a:pt x="23956" y="12467"/>
                  <a:pt x="23967" y="12413"/>
                </a:cubicBezTo>
                <a:cubicBezTo>
                  <a:pt x="23977" y="12364"/>
                  <a:pt x="23977" y="12329"/>
                  <a:pt x="23989" y="12281"/>
                </a:cubicBezTo>
                <a:cubicBezTo>
                  <a:pt x="23997" y="12250"/>
                  <a:pt x="23994" y="12219"/>
                  <a:pt x="24011" y="12193"/>
                </a:cubicBezTo>
                <a:cubicBezTo>
                  <a:pt x="24023" y="12175"/>
                  <a:pt x="24061" y="12113"/>
                  <a:pt x="24077" y="12105"/>
                </a:cubicBezTo>
                <a:cubicBezTo>
                  <a:pt x="24084" y="12105"/>
                  <a:pt x="24092" y="12105"/>
                  <a:pt x="24099" y="12105"/>
                </a:cubicBezTo>
                <a:cubicBezTo>
                  <a:pt x="24099" y="12204"/>
                  <a:pt x="24092" y="12305"/>
                  <a:pt x="24121" y="12391"/>
                </a:cubicBezTo>
                <a:cubicBezTo>
                  <a:pt x="24135" y="12434"/>
                  <a:pt x="24140" y="12435"/>
                  <a:pt x="24187" y="12435"/>
                </a:cubicBezTo>
                <a:cubicBezTo>
                  <a:pt x="24209" y="12435"/>
                  <a:pt x="24231" y="12435"/>
                  <a:pt x="24253" y="12435"/>
                </a:cubicBezTo>
              </a:path>
              <a:path w="5117" h="993">
                <a:moveTo>
                  <a:pt x="24342" y="12149"/>
                </a:moveTo>
                <a:cubicBezTo>
                  <a:pt x="24376" y="12115"/>
                  <a:pt x="24383" y="12105"/>
                  <a:pt x="24430" y="12105"/>
                </a:cubicBezTo>
                <a:cubicBezTo>
                  <a:pt x="24437" y="12105"/>
                  <a:pt x="24445" y="12105"/>
                  <a:pt x="24452" y="12105"/>
                </a:cubicBezTo>
                <a:cubicBezTo>
                  <a:pt x="24452" y="12163"/>
                  <a:pt x="24440" y="12212"/>
                  <a:pt x="24430" y="12259"/>
                </a:cubicBezTo>
                <a:cubicBezTo>
                  <a:pt x="24421" y="12301"/>
                  <a:pt x="24408" y="12326"/>
                  <a:pt x="24408" y="12369"/>
                </a:cubicBezTo>
                <a:cubicBezTo>
                  <a:pt x="24408" y="12391"/>
                  <a:pt x="24408" y="12413"/>
                  <a:pt x="24408" y="12435"/>
                </a:cubicBezTo>
                <a:cubicBezTo>
                  <a:pt x="24449" y="12435"/>
                  <a:pt x="24465" y="12441"/>
                  <a:pt x="24496" y="12413"/>
                </a:cubicBezTo>
                <a:cubicBezTo>
                  <a:pt x="24530" y="12383"/>
                  <a:pt x="24539" y="12382"/>
                  <a:pt x="24562" y="12347"/>
                </a:cubicBezTo>
                <a:cubicBezTo>
                  <a:pt x="24585" y="12312"/>
                  <a:pt x="24608" y="12267"/>
                  <a:pt x="24628" y="12237"/>
                </a:cubicBezTo>
                <a:cubicBezTo>
                  <a:pt x="24655" y="12196"/>
                  <a:pt x="24672" y="12177"/>
                  <a:pt x="24672" y="12127"/>
                </a:cubicBezTo>
                <a:cubicBezTo>
                  <a:pt x="24672" y="12102"/>
                  <a:pt x="24670" y="12092"/>
                  <a:pt x="24650" y="12083"/>
                </a:cubicBezTo>
                <a:cubicBezTo>
                  <a:pt x="24617" y="12091"/>
                  <a:pt x="24595" y="12115"/>
                  <a:pt x="24584" y="12149"/>
                </a:cubicBezTo>
                <a:cubicBezTo>
                  <a:pt x="24575" y="12175"/>
                  <a:pt x="24564" y="12212"/>
                  <a:pt x="24562" y="12237"/>
                </a:cubicBezTo>
                <a:cubicBezTo>
                  <a:pt x="24558" y="12286"/>
                  <a:pt x="24545" y="12305"/>
                  <a:pt x="24540" y="12347"/>
                </a:cubicBezTo>
                <a:cubicBezTo>
                  <a:pt x="24537" y="12375"/>
                  <a:pt x="24566" y="12415"/>
                  <a:pt x="24584" y="12435"/>
                </a:cubicBezTo>
                <a:cubicBezTo>
                  <a:pt x="24600" y="12453"/>
                  <a:pt x="24645" y="12472"/>
                  <a:pt x="24672" y="12457"/>
                </a:cubicBezTo>
                <a:cubicBezTo>
                  <a:pt x="24706" y="12438"/>
                  <a:pt x="24725" y="12403"/>
                  <a:pt x="24761" y="12391"/>
                </a:cubicBezTo>
                <a:cubicBezTo>
                  <a:pt x="24785" y="12383"/>
                  <a:pt x="24802" y="12375"/>
                  <a:pt x="24827" y="123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Ink 54"/>
          <p:cNvSpPr/>
          <p:nvPr/>
        </p:nvSpPr>
        <p:spPr>
          <a:xfrm>
            <a:off x="5675400" y="4524480"/>
            <a:ext cx="849240" cy="285480"/>
          </a:xfrm>
          <a:custGeom>
            <a:avLst/>
            <a:gdLst/>
            <a:ahLst/>
            <a:rect l="l" t="t" r="r" b="b"/>
            <a:pathLst>
              <a:path w="2360" h="794">
                <a:moveTo>
                  <a:pt x="15809" y="12744"/>
                </a:moveTo>
                <a:cubicBezTo>
                  <a:pt x="15817" y="12711"/>
                  <a:pt x="15848" y="12659"/>
                  <a:pt x="15875" y="12656"/>
                </a:cubicBezTo>
                <a:cubicBezTo>
                  <a:pt x="15920" y="12650"/>
                  <a:pt x="15932" y="12669"/>
                  <a:pt x="15963" y="12700"/>
                </a:cubicBezTo>
                <a:cubicBezTo>
                  <a:pt x="15974" y="12711"/>
                  <a:pt x="16024" y="12751"/>
                  <a:pt x="16029" y="12744"/>
                </a:cubicBezTo>
                <a:cubicBezTo>
                  <a:pt x="16029" y="12737"/>
                  <a:pt x="16029" y="12729"/>
                  <a:pt x="16029" y="12722"/>
                </a:cubicBezTo>
                <a:cubicBezTo>
                  <a:pt x="16000" y="12700"/>
                  <a:pt x="15989" y="12681"/>
                  <a:pt x="15963" y="12678"/>
                </a:cubicBezTo>
                <a:cubicBezTo>
                  <a:pt x="15936" y="12675"/>
                  <a:pt x="15906" y="12639"/>
                  <a:pt x="15875" y="12656"/>
                </a:cubicBezTo>
                <a:cubicBezTo>
                  <a:pt x="15841" y="12675"/>
                  <a:pt x="15799" y="12731"/>
                  <a:pt x="15787" y="12766"/>
                </a:cubicBezTo>
                <a:cubicBezTo>
                  <a:pt x="15772" y="12812"/>
                  <a:pt x="15765" y="12848"/>
                  <a:pt x="15765" y="12898"/>
                </a:cubicBezTo>
                <a:cubicBezTo>
                  <a:pt x="15765" y="12960"/>
                  <a:pt x="15751" y="13027"/>
                  <a:pt x="15787" y="13075"/>
                </a:cubicBezTo>
                <a:cubicBezTo>
                  <a:pt x="15819" y="13075"/>
                  <a:pt x="15851" y="13069"/>
                  <a:pt x="15875" y="13053"/>
                </a:cubicBezTo>
                <a:cubicBezTo>
                  <a:pt x="15917" y="13025"/>
                  <a:pt x="15921" y="12962"/>
                  <a:pt x="15941" y="12920"/>
                </a:cubicBezTo>
                <a:cubicBezTo>
                  <a:pt x="15964" y="12870"/>
                  <a:pt x="15994" y="12819"/>
                  <a:pt x="16007" y="12766"/>
                </a:cubicBezTo>
                <a:cubicBezTo>
                  <a:pt x="16017" y="12726"/>
                  <a:pt x="15989" y="12712"/>
                  <a:pt x="15985" y="12678"/>
                </a:cubicBezTo>
                <a:cubicBezTo>
                  <a:pt x="15985" y="12656"/>
                  <a:pt x="15985" y="12649"/>
                  <a:pt x="15963" y="12656"/>
                </a:cubicBezTo>
              </a:path>
              <a:path w="2360" h="794">
                <a:moveTo>
                  <a:pt x="16095" y="12612"/>
                </a:moveTo>
                <a:cubicBezTo>
                  <a:pt x="16095" y="12660"/>
                  <a:pt x="16114" y="12674"/>
                  <a:pt x="16118" y="12722"/>
                </a:cubicBezTo>
                <a:cubicBezTo>
                  <a:pt x="16124" y="12785"/>
                  <a:pt x="16118" y="12839"/>
                  <a:pt x="16095" y="12898"/>
                </a:cubicBezTo>
                <a:cubicBezTo>
                  <a:pt x="16069" y="12965"/>
                  <a:pt x="16074" y="13029"/>
                  <a:pt x="16051" y="13097"/>
                </a:cubicBezTo>
                <a:cubicBezTo>
                  <a:pt x="16029" y="13162"/>
                  <a:pt x="16022" y="13230"/>
                  <a:pt x="16007" y="13295"/>
                </a:cubicBezTo>
                <a:cubicBezTo>
                  <a:pt x="16003" y="13314"/>
                  <a:pt x="16007" y="13341"/>
                  <a:pt x="16007" y="13361"/>
                </a:cubicBezTo>
                <a:cubicBezTo>
                  <a:pt x="16014" y="13334"/>
                  <a:pt x="16018" y="13277"/>
                  <a:pt x="16029" y="13251"/>
                </a:cubicBezTo>
                <a:cubicBezTo>
                  <a:pt x="16048" y="13206"/>
                  <a:pt x="16057" y="13165"/>
                  <a:pt x="16073" y="13119"/>
                </a:cubicBezTo>
                <a:cubicBezTo>
                  <a:pt x="16091" y="13067"/>
                  <a:pt x="16105" y="13018"/>
                  <a:pt x="16118" y="12965"/>
                </a:cubicBezTo>
                <a:cubicBezTo>
                  <a:pt x="16130" y="12917"/>
                  <a:pt x="16140" y="12873"/>
                  <a:pt x="16162" y="12832"/>
                </a:cubicBezTo>
                <a:cubicBezTo>
                  <a:pt x="16181" y="12796"/>
                  <a:pt x="16213" y="12757"/>
                  <a:pt x="16228" y="12722"/>
                </a:cubicBezTo>
                <a:cubicBezTo>
                  <a:pt x="16245" y="12685"/>
                  <a:pt x="16250" y="12667"/>
                  <a:pt x="16294" y="12656"/>
                </a:cubicBezTo>
                <a:cubicBezTo>
                  <a:pt x="16319" y="12690"/>
                  <a:pt x="16314" y="12726"/>
                  <a:pt x="16294" y="12766"/>
                </a:cubicBezTo>
                <a:cubicBezTo>
                  <a:pt x="16273" y="12808"/>
                  <a:pt x="16236" y="12855"/>
                  <a:pt x="16228" y="12898"/>
                </a:cubicBezTo>
                <a:cubicBezTo>
                  <a:pt x="16222" y="12926"/>
                  <a:pt x="16218" y="12993"/>
                  <a:pt x="16250" y="13009"/>
                </a:cubicBezTo>
                <a:cubicBezTo>
                  <a:pt x="16268" y="13018"/>
                  <a:pt x="16317" y="13009"/>
                  <a:pt x="16338" y="13009"/>
                </a:cubicBezTo>
              </a:path>
              <a:path w="2360" h="794">
                <a:moveTo>
                  <a:pt x="16448" y="12766"/>
                </a:moveTo>
                <a:cubicBezTo>
                  <a:pt x="16442" y="12811"/>
                  <a:pt x="16426" y="12830"/>
                  <a:pt x="16426" y="12876"/>
                </a:cubicBezTo>
                <a:cubicBezTo>
                  <a:pt x="16426" y="12917"/>
                  <a:pt x="16449" y="12968"/>
                  <a:pt x="16492" y="12987"/>
                </a:cubicBezTo>
                <a:cubicBezTo>
                  <a:pt x="16499" y="12987"/>
                  <a:pt x="16507" y="12987"/>
                  <a:pt x="16514" y="12987"/>
                </a:cubicBezTo>
                <a:cubicBezTo>
                  <a:pt x="16524" y="12958"/>
                  <a:pt x="16539" y="12959"/>
                  <a:pt x="16514" y="12920"/>
                </a:cubicBezTo>
                <a:cubicBezTo>
                  <a:pt x="16496" y="12893"/>
                  <a:pt x="16456" y="12892"/>
                  <a:pt x="16448" y="12876"/>
                </a:cubicBezTo>
                <a:cubicBezTo>
                  <a:pt x="16448" y="12854"/>
                  <a:pt x="16448" y="12847"/>
                  <a:pt x="16426" y="12854"/>
                </a:cubicBezTo>
                <a:cubicBezTo>
                  <a:pt x="16440" y="12799"/>
                  <a:pt x="16450" y="12825"/>
                  <a:pt x="16492" y="12810"/>
                </a:cubicBezTo>
                <a:cubicBezTo>
                  <a:pt x="16524" y="12799"/>
                  <a:pt x="16575" y="12772"/>
                  <a:pt x="16603" y="12766"/>
                </a:cubicBezTo>
                <a:cubicBezTo>
                  <a:pt x="16654" y="12755"/>
                  <a:pt x="16667" y="12734"/>
                  <a:pt x="16691" y="12722"/>
                </a:cubicBezTo>
                <a:cubicBezTo>
                  <a:pt x="16720" y="12708"/>
                  <a:pt x="16713" y="12719"/>
                  <a:pt x="16713" y="12678"/>
                </a:cubicBezTo>
                <a:cubicBezTo>
                  <a:pt x="16673" y="12708"/>
                  <a:pt x="16680" y="12707"/>
                  <a:pt x="16647" y="12744"/>
                </a:cubicBezTo>
                <a:cubicBezTo>
                  <a:pt x="16621" y="12773"/>
                  <a:pt x="16607" y="12814"/>
                  <a:pt x="16603" y="12854"/>
                </a:cubicBezTo>
                <a:cubicBezTo>
                  <a:pt x="16600" y="12881"/>
                  <a:pt x="16604" y="12951"/>
                  <a:pt x="16625" y="12965"/>
                </a:cubicBezTo>
                <a:cubicBezTo>
                  <a:pt x="16649" y="12981"/>
                  <a:pt x="16651" y="12987"/>
                  <a:pt x="16691" y="12987"/>
                </a:cubicBezTo>
                <a:cubicBezTo>
                  <a:pt x="16755" y="12987"/>
                  <a:pt x="16708" y="12967"/>
                  <a:pt x="16757" y="12943"/>
                </a:cubicBezTo>
                <a:cubicBezTo>
                  <a:pt x="16800" y="12922"/>
                  <a:pt x="16778" y="12900"/>
                  <a:pt x="16801" y="12854"/>
                </a:cubicBezTo>
                <a:cubicBezTo>
                  <a:pt x="16818" y="12821"/>
                  <a:pt x="16855" y="12801"/>
                  <a:pt x="16867" y="12766"/>
                </a:cubicBezTo>
                <a:cubicBezTo>
                  <a:pt x="16875" y="12742"/>
                  <a:pt x="16883" y="12725"/>
                  <a:pt x="16889" y="12700"/>
                </a:cubicBezTo>
                <a:cubicBezTo>
                  <a:pt x="16889" y="12638"/>
                  <a:pt x="16892" y="12738"/>
                  <a:pt x="16889" y="12744"/>
                </a:cubicBezTo>
                <a:cubicBezTo>
                  <a:pt x="16864" y="12789"/>
                  <a:pt x="16867" y="12821"/>
                  <a:pt x="16867" y="12876"/>
                </a:cubicBezTo>
                <a:cubicBezTo>
                  <a:pt x="16867" y="12942"/>
                  <a:pt x="16863" y="12978"/>
                  <a:pt x="16845" y="13031"/>
                </a:cubicBezTo>
                <a:cubicBezTo>
                  <a:pt x="16845" y="13038"/>
                  <a:pt x="16845" y="13046"/>
                  <a:pt x="16845" y="13053"/>
                </a:cubicBezTo>
                <a:cubicBezTo>
                  <a:pt x="16852" y="13032"/>
                  <a:pt x="16853" y="13012"/>
                  <a:pt x="16867" y="12987"/>
                </a:cubicBezTo>
                <a:cubicBezTo>
                  <a:pt x="16888" y="12949"/>
                  <a:pt x="16893" y="12912"/>
                  <a:pt x="16911" y="12876"/>
                </a:cubicBezTo>
                <a:cubicBezTo>
                  <a:pt x="16927" y="12844"/>
                  <a:pt x="16970" y="12822"/>
                  <a:pt x="16977" y="12788"/>
                </a:cubicBezTo>
                <a:cubicBezTo>
                  <a:pt x="16979" y="12779"/>
                  <a:pt x="16999" y="12679"/>
                  <a:pt x="16999" y="12678"/>
                </a:cubicBezTo>
                <a:cubicBezTo>
                  <a:pt x="16992" y="12671"/>
                  <a:pt x="16984" y="12663"/>
                  <a:pt x="16977" y="12656"/>
                </a:cubicBezTo>
                <a:cubicBezTo>
                  <a:pt x="16977" y="12732"/>
                  <a:pt x="16949" y="12887"/>
                  <a:pt x="16999" y="12943"/>
                </a:cubicBezTo>
                <a:cubicBezTo>
                  <a:pt x="17018" y="12964"/>
                  <a:pt x="17053" y="13006"/>
                  <a:pt x="17088" y="12987"/>
                </a:cubicBezTo>
                <a:cubicBezTo>
                  <a:pt x="17126" y="12966"/>
                  <a:pt x="17151" y="12937"/>
                  <a:pt x="17176" y="12920"/>
                </a:cubicBezTo>
                <a:cubicBezTo>
                  <a:pt x="17183" y="12920"/>
                  <a:pt x="17191" y="12920"/>
                  <a:pt x="17198" y="12920"/>
                </a:cubicBezTo>
              </a:path>
              <a:path w="2360" h="794">
                <a:moveTo>
                  <a:pt x="17529" y="12634"/>
                </a:moveTo>
                <a:cubicBezTo>
                  <a:pt x="17574" y="12634"/>
                  <a:pt x="17576" y="12647"/>
                  <a:pt x="17595" y="12656"/>
                </a:cubicBezTo>
                <a:cubicBezTo>
                  <a:pt x="17617" y="12656"/>
                  <a:pt x="17624" y="12656"/>
                  <a:pt x="17617" y="12678"/>
                </a:cubicBezTo>
                <a:cubicBezTo>
                  <a:pt x="17655" y="12665"/>
                  <a:pt x="17633" y="12629"/>
                  <a:pt x="17595" y="12612"/>
                </a:cubicBezTo>
                <a:cubicBezTo>
                  <a:pt x="17562" y="12597"/>
                  <a:pt x="17536" y="12646"/>
                  <a:pt x="17529" y="12656"/>
                </a:cubicBezTo>
                <a:cubicBezTo>
                  <a:pt x="17498" y="12697"/>
                  <a:pt x="17501" y="12702"/>
                  <a:pt x="17485" y="12744"/>
                </a:cubicBezTo>
                <a:cubicBezTo>
                  <a:pt x="17472" y="12778"/>
                  <a:pt x="17441" y="12836"/>
                  <a:pt x="17462" y="12876"/>
                </a:cubicBezTo>
                <a:cubicBezTo>
                  <a:pt x="17479" y="12908"/>
                  <a:pt x="17485" y="12935"/>
                  <a:pt x="17507" y="12965"/>
                </a:cubicBezTo>
                <a:cubicBezTo>
                  <a:pt x="17549" y="12955"/>
                  <a:pt x="17556" y="12944"/>
                  <a:pt x="17573" y="12920"/>
                </a:cubicBezTo>
                <a:cubicBezTo>
                  <a:pt x="17596" y="12889"/>
                  <a:pt x="17628" y="12866"/>
                  <a:pt x="17639" y="12832"/>
                </a:cubicBezTo>
                <a:cubicBezTo>
                  <a:pt x="17651" y="12796"/>
                  <a:pt x="17673" y="12763"/>
                  <a:pt x="17683" y="12722"/>
                </a:cubicBezTo>
                <a:cubicBezTo>
                  <a:pt x="17690" y="12696"/>
                  <a:pt x="17698" y="12682"/>
                  <a:pt x="17705" y="12656"/>
                </a:cubicBezTo>
                <a:cubicBezTo>
                  <a:pt x="17705" y="12693"/>
                  <a:pt x="17696" y="12714"/>
                  <a:pt x="17683" y="12744"/>
                </a:cubicBezTo>
                <a:cubicBezTo>
                  <a:pt x="17660" y="12798"/>
                  <a:pt x="17661" y="12818"/>
                  <a:pt x="17661" y="12876"/>
                </a:cubicBezTo>
                <a:cubicBezTo>
                  <a:pt x="17661" y="12917"/>
                  <a:pt x="17655" y="12934"/>
                  <a:pt x="17683" y="12965"/>
                </a:cubicBezTo>
                <a:cubicBezTo>
                  <a:pt x="17724" y="13012"/>
                  <a:pt x="17730" y="12974"/>
                  <a:pt x="17749" y="12965"/>
                </a:cubicBezTo>
                <a:cubicBezTo>
                  <a:pt x="17801" y="12939"/>
                  <a:pt x="17770" y="12940"/>
                  <a:pt x="17793" y="12898"/>
                </a:cubicBezTo>
                <a:cubicBezTo>
                  <a:pt x="17813" y="12861"/>
                  <a:pt x="17815" y="12855"/>
                  <a:pt x="17815" y="12810"/>
                </a:cubicBezTo>
                <a:cubicBezTo>
                  <a:pt x="17815" y="12745"/>
                  <a:pt x="17820" y="12691"/>
                  <a:pt x="17837" y="12656"/>
                </a:cubicBezTo>
                <a:cubicBezTo>
                  <a:pt x="17856" y="12617"/>
                  <a:pt x="17847" y="12645"/>
                  <a:pt x="17881" y="12656"/>
                </a:cubicBezTo>
                <a:cubicBezTo>
                  <a:pt x="17881" y="12624"/>
                  <a:pt x="17888" y="12646"/>
                  <a:pt x="17859" y="12656"/>
                </a:cubicBezTo>
              </a:path>
              <a:path w="2360" h="794">
                <a:moveTo>
                  <a:pt x="17926" y="12568"/>
                </a:moveTo>
                <a:cubicBezTo>
                  <a:pt x="17926" y="12614"/>
                  <a:pt x="17916" y="12619"/>
                  <a:pt x="17903" y="12656"/>
                </a:cubicBezTo>
                <a:cubicBezTo>
                  <a:pt x="17887" y="12703"/>
                  <a:pt x="17896" y="12765"/>
                  <a:pt x="17881" y="12810"/>
                </a:cubicBezTo>
                <a:cubicBezTo>
                  <a:pt x="17868" y="12848"/>
                  <a:pt x="17899" y="12865"/>
                  <a:pt x="17903" y="12898"/>
                </a:cubicBezTo>
                <a:cubicBezTo>
                  <a:pt x="17903" y="12905"/>
                  <a:pt x="17903" y="12913"/>
                  <a:pt x="17903" y="12920"/>
                </a:cubicBezTo>
                <a:cubicBezTo>
                  <a:pt x="17949" y="12920"/>
                  <a:pt x="17950" y="12924"/>
                  <a:pt x="17970" y="12898"/>
                </a:cubicBezTo>
                <a:cubicBezTo>
                  <a:pt x="17994" y="12866"/>
                  <a:pt x="18043" y="12862"/>
                  <a:pt x="18058" y="12832"/>
                </a:cubicBezTo>
                <a:cubicBezTo>
                  <a:pt x="18073" y="12802"/>
                  <a:pt x="18084" y="12749"/>
                  <a:pt x="18102" y="12722"/>
                </a:cubicBezTo>
                <a:cubicBezTo>
                  <a:pt x="18125" y="12687"/>
                  <a:pt x="18124" y="12678"/>
                  <a:pt x="18124" y="12634"/>
                </a:cubicBezTo>
                <a:cubicBezTo>
                  <a:pt x="18124" y="12570"/>
                  <a:pt x="18139" y="12606"/>
                  <a:pt x="18124" y="12634"/>
                </a:cubicBezTo>
                <a:cubicBezTo>
                  <a:pt x="18099" y="12679"/>
                  <a:pt x="18102" y="12711"/>
                  <a:pt x="18102" y="12766"/>
                </a:cubicBezTo>
                <a:cubicBezTo>
                  <a:pt x="18102" y="12860"/>
                  <a:pt x="18095" y="12943"/>
                  <a:pt x="18080" y="13031"/>
                </a:cubicBezTo>
                <a:cubicBezTo>
                  <a:pt x="18071" y="13088"/>
                  <a:pt x="18072" y="13130"/>
                  <a:pt x="18058" y="13185"/>
                </a:cubicBezTo>
                <a:cubicBezTo>
                  <a:pt x="18050" y="13216"/>
                  <a:pt x="18053" y="13247"/>
                  <a:pt x="18036" y="13273"/>
                </a:cubicBezTo>
                <a:cubicBezTo>
                  <a:pt x="18026" y="13288"/>
                  <a:pt x="17939" y="13323"/>
                  <a:pt x="17926" y="13317"/>
                </a:cubicBezTo>
                <a:cubicBezTo>
                  <a:pt x="17901" y="13306"/>
                  <a:pt x="17867" y="13277"/>
                  <a:pt x="17859" y="13273"/>
                </a:cubicBezTo>
                <a:cubicBezTo>
                  <a:pt x="17829" y="13258"/>
                  <a:pt x="17837" y="13240"/>
                  <a:pt x="17859" y="13207"/>
                </a:cubicBezTo>
                <a:cubicBezTo>
                  <a:pt x="17866" y="13200"/>
                  <a:pt x="17874" y="13192"/>
                  <a:pt x="17881" y="13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Ink 55"/>
          <p:cNvSpPr/>
          <p:nvPr/>
        </p:nvSpPr>
        <p:spPr>
          <a:xfrm>
            <a:off x="6715080" y="4405320"/>
            <a:ext cx="1008000" cy="388800"/>
          </a:xfrm>
          <a:custGeom>
            <a:avLst/>
            <a:gdLst/>
            <a:ahLst/>
            <a:rect l="l" t="t" r="r" b="b"/>
            <a:pathLst>
              <a:path w="2801" h="1081">
                <a:moveTo>
                  <a:pt x="18741" y="12612"/>
                </a:moveTo>
                <a:cubicBezTo>
                  <a:pt x="18801" y="12612"/>
                  <a:pt x="18825" y="12618"/>
                  <a:pt x="18874" y="12634"/>
                </a:cubicBezTo>
                <a:cubicBezTo>
                  <a:pt x="18903" y="12644"/>
                  <a:pt x="18900" y="12669"/>
                  <a:pt x="18918" y="12678"/>
                </a:cubicBezTo>
                <a:cubicBezTo>
                  <a:pt x="18925" y="12678"/>
                  <a:pt x="18933" y="12678"/>
                  <a:pt x="18940" y="12678"/>
                </a:cubicBezTo>
                <a:cubicBezTo>
                  <a:pt x="18916" y="12645"/>
                  <a:pt x="18913" y="12634"/>
                  <a:pt x="18896" y="12612"/>
                </a:cubicBezTo>
                <a:cubicBezTo>
                  <a:pt x="18872" y="12580"/>
                  <a:pt x="18843" y="12590"/>
                  <a:pt x="18807" y="12590"/>
                </a:cubicBezTo>
                <a:cubicBezTo>
                  <a:pt x="18745" y="12590"/>
                  <a:pt x="18740" y="12591"/>
                  <a:pt x="18697" y="12634"/>
                </a:cubicBezTo>
                <a:cubicBezTo>
                  <a:pt x="18666" y="12665"/>
                  <a:pt x="18656" y="12700"/>
                  <a:pt x="18653" y="12744"/>
                </a:cubicBezTo>
                <a:cubicBezTo>
                  <a:pt x="18651" y="12785"/>
                  <a:pt x="18655" y="12842"/>
                  <a:pt x="18675" y="12876"/>
                </a:cubicBezTo>
                <a:cubicBezTo>
                  <a:pt x="18693" y="12906"/>
                  <a:pt x="18732" y="12939"/>
                  <a:pt x="18763" y="12943"/>
                </a:cubicBezTo>
                <a:cubicBezTo>
                  <a:pt x="18797" y="12947"/>
                  <a:pt x="18877" y="12958"/>
                  <a:pt x="18896" y="12920"/>
                </a:cubicBezTo>
                <a:cubicBezTo>
                  <a:pt x="18918" y="12876"/>
                  <a:pt x="18921" y="12833"/>
                  <a:pt x="18940" y="12788"/>
                </a:cubicBezTo>
                <a:cubicBezTo>
                  <a:pt x="18958" y="12744"/>
                  <a:pt x="18964" y="12705"/>
                  <a:pt x="18940" y="12656"/>
                </a:cubicBezTo>
                <a:cubicBezTo>
                  <a:pt x="18923" y="12623"/>
                  <a:pt x="18917" y="12565"/>
                  <a:pt x="18874" y="12546"/>
                </a:cubicBezTo>
                <a:cubicBezTo>
                  <a:pt x="18853" y="12537"/>
                  <a:pt x="18774" y="12515"/>
                  <a:pt x="18763" y="12502"/>
                </a:cubicBezTo>
                <a:cubicBezTo>
                  <a:pt x="18755" y="12492"/>
                  <a:pt x="18726" y="12461"/>
                  <a:pt x="18741" y="12435"/>
                </a:cubicBezTo>
                <a:cubicBezTo>
                  <a:pt x="18759" y="12403"/>
                  <a:pt x="18817" y="12355"/>
                  <a:pt x="18852" y="12347"/>
                </a:cubicBezTo>
                <a:cubicBezTo>
                  <a:pt x="18909" y="12334"/>
                  <a:pt x="18946" y="12299"/>
                  <a:pt x="19006" y="12281"/>
                </a:cubicBezTo>
                <a:cubicBezTo>
                  <a:pt x="19042" y="12270"/>
                  <a:pt x="19062" y="12267"/>
                  <a:pt x="19072" y="12237"/>
                </a:cubicBezTo>
              </a:path>
              <a:path w="2801" h="1081">
                <a:moveTo>
                  <a:pt x="19094" y="12590"/>
                </a:moveTo>
                <a:cubicBezTo>
                  <a:pt x="19094" y="12568"/>
                  <a:pt x="19094" y="12561"/>
                  <a:pt x="19116" y="12568"/>
                </a:cubicBezTo>
                <a:cubicBezTo>
                  <a:pt x="19116" y="12608"/>
                  <a:pt x="19098" y="12620"/>
                  <a:pt x="19094" y="12656"/>
                </a:cubicBezTo>
                <a:cubicBezTo>
                  <a:pt x="19089" y="12705"/>
                  <a:pt x="19072" y="12736"/>
                  <a:pt x="19072" y="12788"/>
                </a:cubicBezTo>
                <a:cubicBezTo>
                  <a:pt x="19072" y="12809"/>
                  <a:pt x="19095" y="12865"/>
                  <a:pt x="19116" y="12876"/>
                </a:cubicBezTo>
                <a:cubicBezTo>
                  <a:pt x="19142" y="12889"/>
                  <a:pt x="19209" y="12864"/>
                  <a:pt x="19226" y="12854"/>
                </a:cubicBezTo>
                <a:cubicBezTo>
                  <a:pt x="19265" y="12831"/>
                  <a:pt x="19271" y="12821"/>
                  <a:pt x="19293" y="12788"/>
                </a:cubicBezTo>
                <a:cubicBezTo>
                  <a:pt x="19313" y="12768"/>
                  <a:pt x="19320" y="12764"/>
                  <a:pt x="19315" y="12744"/>
                </a:cubicBezTo>
              </a:path>
              <a:path w="2801" h="1081">
                <a:moveTo>
                  <a:pt x="19160" y="12369"/>
                </a:moveTo>
                <a:cubicBezTo>
                  <a:pt x="19182" y="12369"/>
                  <a:pt x="19169" y="12353"/>
                  <a:pt x="19182" y="12391"/>
                </a:cubicBezTo>
              </a:path>
              <a:path w="2801" h="1081">
                <a:moveTo>
                  <a:pt x="19337" y="12678"/>
                </a:moveTo>
                <a:cubicBezTo>
                  <a:pt x="19350" y="12699"/>
                  <a:pt x="19357" y="12698"/>
                  <a:pt x="19359" y="12744"/>
                </a:cubicBezTo>
                <a:cubicBezTo>
                  <a:pt x="19362" y="12800"/>
                  <a:pt x="19373" y="12851"/>
                  <a:pt x="19381" y="12876"/>
                </a:cubicBezTo>
                <a:cubicBezTo>
                  <a:pt x="19381" y="12883"/>
                  <a:pt x="19381" y="12891"/>
                  <a:pt x="19381" y="12898"/>
                </a:cubicBezTo>
                <a:cubicBezTo>
                  <a:pt x="19428" y="12891"/>
                  <a:pt x="19433" y="12890"/>
                  <a:pt x="19469" y="12854"/>
                </a:cubicBezTo>
                <a:cubicBezTo>
                  <a:pt x="19500" y="12823"/>
                  <a:pt x="19517" y="12799"/>
                  <a:pt x="19535" y="12766"/>
                </a:cubicBezTo>
                <a:cubicBezTo>
                  <a:pt x="19554" y="12730"/>
                  <a:pt x="19573" y="12666"/>
                  <a:pt x="19579" y="12634"/>
                </a:cubicBezTo>
                <a:cubicBezTo>
                  <a:pt x="19588" y="12587"/>
                  <a:pt x="19579" y="12528"/>
                  <a:pt x="19579" y="12480"/>
                </a:cubicBezTo>
                <a:cubicBezTo>
                  <a:pt x="19579" y="12510"/>
                  <a:pt x="19579" y="12494"/>
                  <a:pt x="19579" y="12524"/>
                </a:cubicBezTo>
                <a:cubicBezTo>
                  <a:pt x="19579" y="12587"/>
                  <a:pt x="19560" y="12621"/>
                  <a:pt x="19557" y="12678"/>
                </a:cubicBezTo>
                <a:cubicBezTo>
                  <a:pt x="19553" y="12752"/>
                  <a:pt x="19547" y="12837"/>
                  <a:pt x="19579" y="12898"/>
                </a:cubicBezTo>
                <a:cubicBezTo>
                  <a:pt x="19579" y="12923"/>
                  <a:pt x="19581" y="12933"/>
                  <a:pt x="19601" y="12943"/>
                </a:cubicBezTo>
                <a:cubicBezTo>
                  <a:pt x="19633" y="12910"/>
                  <a:pt x="19635" y="12908"/>
                  <a:pt x="19667" y="12876"/>
                </a:cubicBezTo>
                <a:cubicBezTo>
                  <a:pt x="19707" y="12836"/>
                  <a:pt x="19702" y="12806"/>
                  <a:pt x="19734" y="12766"/>
                </a:cubicBezTo>
                <a:cubicBezTo>
                  <a:pt x="19763" y="12731"/>
                  <a:pt x="19782" y="12682"/>
                  <a:pt x="19822" y="12656"/>
                </a:cubicBezTo>
                <a:cubicBezTo>
                  <a:pt x="19847" y="12640"/>
                  <a:pt x="19877" y="12636"/>
                  <a:pt x="19910" y="12634"/>
                </a:cubicBezTo>
                <a:cubicBezTo>
                  <a:pt x="19939" y="12632"/>
                  <a:pt x="19976" y="12685"/>
                  <a:pt x="19976" y="12656"/>
                </a:cubicBezTo>
                <a:cubicBezTo>
                  <a:pt x="19976" y="12627"/>
                  <a:pt x="19886" y="12573"/>
                  <a:pt x="19866" y="12568"/>
                </a:cubicBezTo>
                <a:cubicBezTo>
                  <a:pt x="19837" y="12561"/>
                  <a:pt x="19799" y="12577"/>
                  <a:pt x="19778" y="12590"/>
                </a:cubicBezTo>
                <a:cubicBezTo>
                  <a:pt x="19748" y="12609"/>
                  <a:pt x="19717" y="12688"/>
                  <a:pt x="19711" y="12722"/>
                </a:cubicBezTo>
                <a:cubicBezTo>
                  <a:pt x="19702" y="12773"/>
                  <a:pt x="19707" y="12833"/>
                  <a:pt x="19734" y="12876"/>
                </a:cubicBezTo>
                <a:cubicBezTo>
                  <a:pt x="19751" y="12903"/>
                  <a:pt x="19816" y="12909"/>
                  <a:pt x="19844" y="12898"/>
                </a:cubicBezTo>
                <a:cubicBezTo>
                  <a:pt x="19856" y="12893"/>
                  <a:pt x="19903" y="12857"/>
                  <a:pt x="19910" y="12832"/>
                </a:cubicBezTo>
                <a:cubicBezTo>
                  <a:pt x="19922" y="12791"/>
                  <a:pt x="19916" y="12740"/>
                  <a:pt x="19932" y="12700"/>
                </a:cubicBezTo>
                <a:cubicBezTo>
                  <a:pt x="19952" y="12680"/>
                  <a:pt x="19959" y="12676"/>
                  <a:pt x="19954" y="12656"/>
                </a:cubicBezTo>
                <a:cubicBezTo>
                  <a:pt x="19954" y="12693"/>
                  <a:pt x="19954" y="12685"/>
                  <a:pt x="19954" y="12722"/>
                </a:cubicBezTo>
                <a:cubicBezTo>
                  <a:pt x="19954" y="12809"/>
                  <a:pt x="19943" y="12881"/>
                  <a:pt x="19932" y="12965"/>
                </a:cubicBezTo>
                <a:cubicBezTo>
                  <a:pt x="19923" y="13032"/>
                  <a:pt x="19921" y="13099"/>
                  <a:pt x="19910" y="13163"/>
                </a:cubicBezTo>
                <a:cubicBezTo>
                  <a:pt x="19902" y="13213"/>
                  <a:pt x="19913" y="13254"/>
                  <a:pt x="19888" y="13295"/>
                </a:cubicBezTo>
                <a:cubicBezTo>
                  <a:pt x="19871" y="13322"/>
                  <a:pt x="19829" y="13324"/>
                  <a:pt x="19800" y="13317"/>
                </a:cubicBezTo>
                <a:cubicBezTo>
                  <a:pt x="19759" y="13308"/>
                  <a:pt x="19755" y="13285"/>
                  <a:pt x="19734" y="13251"/>
                </a:cubicBezTo>
                <a:cubicBezTo>
                  <a:pt x="19717" y="13223"/>
                  <a:pt x="19702" y="13180"/>
                  <a:pt x="19711" y="13141"/>
                </a:cubicBezTo>
                <a:cubicBezTo>
                  <a:pt x="19720" y="13104"/>
                  <a:pt x="19731" y="13062"/>
                  <a:pt x="19756" y="13031"/>
                </a:cubicBezTo>
                <a:cubicBezTo>
                  <a:pt x="19791" y="12988"/>
                  <a:pt x="19826" y="12931"/>
                  <a:pt x="19866" y="12898"/>
                </a:cubicBezTo>
                <a:cubicBezTo>
                  <a:pt x="19908" y="12864"/>
                  <a:pt x="19985" y="12829"/>
                  <a:pt x="20020" y="12788"/>
                </a:cubicBezTo>
                <a:cubicBezTo>
                  <a:pt x="20051" y="12752"/>
                  <a:pt x="20073" y="12713"/>
                  <a:pt x="20108" y="12678"/>
                </a:cubicBezTo>
                <a:cubicBezTo>
                  <a:pt x="20133" y="12653"/>
                  <a:pt x="20138" y="12637"/>
                  <a:pt x="20152" y="12612"/>
                </a:cubicBezTo>
                <a:cubicBezTo>
                  <a:pt x="20123" y="12641"/>
                  <a:pt x="20127" y="12646"/>
                  <a:pt x="20108" y="12700"/>
                </a:cubicBezTo>
                <a:cubicBezTo>
                  <a:pt x="20096" y="12734"/>
                  <a:pt x="20075" y="12767"/>
                  <a:pt x="20086" y="12810"/>
                </a:cubicBezTo>
                <a:cubicBezTo>
                  <a:pt x="20091" y="12828"/>
                  <a:pt x="20130" y="12892"/>
                  <a:pt x="20152" y="12898"/>
                </a:cubicBezTo>
                <a:cubicBezTo>
                  <a:pt x="20188" y="12908"/>
                  <a:pt x="20215" y="12896"/>
                  <a:pt x="20241" y="12876"/>
                </a:cubicBezTo>
                <a:cubicBezTo>
                  <a:pt x="20248" y="12869"/>
                  <a:pt x="20256" y="12861"/>
                  <a:pt x="20263" y="12854"/>
                </a:cubicBezTo>
              </a:path>
              <a:path w="2801" h="1081">
                <a:moveTo>
                  <a:pt x="20241" y="12369"/>
                </a:moveTo>
                <a:cubicBezTo>
                  <a:pt x="20241" y="12310"/>
                  <a:pt x="20241" y="12403"/>
                  <a:pt x="20241" y="12413"/>
                </a:cubicBezTo>
              </a:path>
              <a:path w="2801" h="1081">
                <a:moveTo>
                  <a:pt x="20351" y="12546"/>
                </a:moveTo>
                <a:cubicBezTo>
                  <a:pt x="20369" y="12502"/>
                  <a:pt x="20380" y="12495"/>
                  <a:pt x="20351" y="12524"/>
                </a:cubicBezTo>
                <a:cubicBezTo>
                  <a:pt x="20351" y="12575"/>
                  <a:pt x="20337" y="12615"/>
                  <a:pt x="20329" y="12656"/>
                </a:cubicBezTo>
                <a:cubicBezTo>
                  <a:pt x="20315" y="12725"/>
                  <a:pt x="20301" y="12879"/>
                  <a:pt x="20307" y="12943"/>
                </a:cubicBezTo>
                <a:cubicBezTo>
                  <a:pt x="20313" y="13016"/>
                  <a:pt x="20307" y="13064"/>
                  <a:pt x="20307" y="13141"/>
                </a:cubicBezTo>
                <a:cubicBezTo>
                  <a:pt x="20307" y="13200"/>
                  <a:pt x="20307" y="13258"/>
                  <a:pt x="20307" y="13317"/>
                </a:cubicBezTo>
                <a:cubicBezTo>
                  <a:pt x="20319" y="13285"/>
                  <a:pt x="20345" y="13238"/>
                  <a:pt x="20351" y="13207"/>
                </a:cubicBezTo>
                <a:cubicBezTo>
                  <a:pt x="20361" y="13158"/>
                  <a:pt x="20365" y="13100"/>
                  <a:pt x="20373" y="13053"/>
                </a:cubicBezTo>
                <a:cubicBezTo>
                  <a:pt x="20383" y="12994"/>
                  <a:pt x="20360" y="12952"/>
                  <a:pt x="20351" y="12898"/>
                </a:cubicBezTo>
                <a:cubicBezTo>
                  <a:pt x="20343" y="12849"/>
                  <a:pt x="20371" y="12796"/>
                  <a:pt x="20373" y="12744"/>
                </a:cubicBezTo>
                <a:cubicBezTo>
                  <a:pt x="20374" y="12710"/>
                  <a:pt x="20372" y="12657"/>
                  <a:pt x="20395" y="12634"/>
                </a:cubicBezTo>
                <a:cubicBezTo>
                  <a:pt x="20411" y="12618"/>
                  <a:pt x="20473" y="12579"/>
                  <a:pt x="20505" y="12590"/>
                </a:cubicBezTo>
                <a:cubicBezTo>
                  <a:pt x="20512" y="12597"/>
                  <a:pt x="20520" y="12605"/>
                  <a:pt x="20527" y="12612"/>
                </a:cubicBezTo>
                <a:cubicBezTo>
                  <a:pt x="20523" y="12647"/>
                  <a:pt x="20510" y="12673"/>
                  <a:pt x="20505" y="12700"/>
                </a:cubicBezTo>
                <a:cubicBezTo>
                  <a:pt x="20496" y="12747"/>
                  <a:pt x="20472" y="12769"/>
                  <a:pt x="20461" y="12810"/>
                </a:cubicBezTo>
                <a:cubicBezTo>
                  <a:pt x="20456" y="12830"/>
                  <a:pt x="20464" y="12855"/>
                  <a:pt x="20461" y="12876"/>
                </a:cubicBezTo>
                <a:cubicBezTo>
                  <a:pt x="20512" y="12907"/>
                  <a:pt x="20498" y="12896"/>
                  <a:pt x="20549" y="12876"/>
                </a:cubicBezTo>
                <a:cubicBezTo>
                  <a:pt x="20590" y="12860"/>
                  <a:pt x="20632" y="12853"/>
                  <a:pt x="20660" y="12810"/>
                </a:cubicBezTo>
                <a:cubicBezTo>
                  <a:pt x="20688" y="12767"/>
                  <a:pt x="20684" y="12722"/>
                  <a:pt x="20704" y="12678"/>
                </a:cubicBezTo>
                <a:cubicBezTo>
                  <a:pt x="20731" y="12620"/>
                  <a:pt x="20721" y="12646"/>
                  <a:pt x="20704" y="12590"/>
                </a:cubicBezTo>
                <a:cubicBezTo>
                  <a:pt x="20704" y="12583"/>
                  <a:pt x="20704" y="12575"/>
                  <a:pt x="20704" y="12568"/>
                </a:cubicBezTo>
                <a:cubicBezTo>
                  <a:pt x="20682" y="12585"/>
                  <a:pt x="20666" y="12583"/>
                  <a:pt x="20637" y="12612"/>
                </a:cubicBezTo>
                <a:cubicBezTo>
                  <a:pt x="20615" y="12634"/>
                  <a:pt x="20577" y="12672"/>
                  <a:pt x="20571" y="12700"/>
                </a:cubicBezTo>
                <a:cubicBezTo>
                  <a:pt x="20560" y="12755"/>
                  <a:pt x="20579" y="12774"/>
                  <a:pt x="20615" y="12810"/>
                </a:cubicBezTo>
                <a:cubicBezTo>
                  <a:pt x="20645" y="12840"/>
                  <a:pt x="20664" y="12830"/>
                  <a:pt x="20704" y="12832"/>
                </a:cubicBezTo>
                <a:cubicBezTo>
                  <a:pt x="20745" y="12834"/>
                  <a:pt x="20761" y="12835"/>
                  <a:pt x="20792" y="12810"/>
                </a:cubicBezTo>
                <a:cubicBezTo>
                  <a:pt x="20820" y="12788"/>
                  <a:pt x="20848" y="12778"/>
                  <a:pt x="20858" y="12744"/>
                </a:cubicBezTo>
                <a:cubicBezTo>
                  <a:pt x="20867" y="12714"/>
                  <a:pt x="20875" y="12659"/>
                  <a:pt x="20880" y="12634"/>
                </a:cubicBezTo>
                <a:cubicBezTo>
                  <a:pt x="20887" y="12600"/>
                  <a:pt x="20873" y="12576"/>
                  <a:pt x="20924" y="12590"/>
                </a:cubicBezTo>
                <a:cubicBezTo>
                  <a:pt x="20954" y="12598"/>
                  <a:pt x="20951" y="12626"/>
                  <a:pt x="20968" y="12634"/>
                </a:cubicBezTo>
                <a:cubicBezTo>
                  <a:pt x="20975" y="12634"/>
                  <a:pt x="20983" y="12634"/>
                  <a:pt x="20990" y="12634"/>
                </a:cubicBezTo>
                <a:cubicBezTo>
                  <a:pt x="20962" y="12606"/>
                  <a:pt x="20965" y="12580"/>
                  <a:pt x="20924" y="12568"/>
                </a:cubicBezTo>
                <a:cubicBezTo>
                  <a:pt x="20892" y="12559"/>
                  <a:pt x="20873" y="12578"/>
                  <a:pt x="20858" y="12590"/>
                </a:cubicBezTo>
                <a:cubicBezTo>
                  <a:pt x="20834" y="12609"/>
                  <a:pt x="20819" y="12672"/>
                  <a:pt x="20814" y="12700"/>
                </a:cubicBezTo>
                <a:cubicBezTo>
                  <a:pt x="20806" y="12746"/>
                  <a:pt x="20821" y="12774"/>
                  <a:pt x="20836" y="12810"/>
                </a:cubicBezTo>
                <a:cubicBezTo>
                  <a:pt x="20845" y="12832"/>
                  <a:pt x="20850" y="12854"/>
                  <a:pt x="20858" y="12876"/>
                </a:cubicBezTo>
                <a:cubicBezTo>
                  <a:pt x="20901" y="12871"/>
                  <a:pt x="20910" y="12883"/>
                  <a:pt x="20946" y="12854"/>
                </a:cubicBezTo>
                <a:cubicBezTo>
                  <a:pt x="20985" y="12823"/>
                  <a:pt x="20971" y="12782"/>
                  <a:pt x="20990" y="12744"/>
                </a:cubicBezTo>
                <a:cubicBezTo>
                  <a:pt x="21008" y="12709"/>
                  <a:pt x="21027" y="12674"/>
                  <a:pt x="21034" y="12634"/>
                </a:cubicBezTo>
                <a:cubicBezTo>
                  <a:pt x="21042" y="12584"/>
                  <a:pt x="21045" y="12592"/>
                  <a:pt x="21034" y="12634"/>
                </a:cubicBezTo>
                <a:cubicBezTo>
                  <a:pt x="21020" y="12688"/>
                  <a:pt x="21012" y="12730"/>
                  <a:pt x="21012" y="12788"/>
                </a:cubicBezTo>
                <a:cubicBezTo>
                  <a:pt x="21012" y="12857"/>
                  <a:pt x="20978" y="12921"/>
                  <a:pt x="20968" y="12987"/>
                </a:cubicBezTo>
                <a:cubicBezTo>
                  <a:pt x="20959" y="13045"/>
                  <a:pt x="20949" y="13106"/>
                  <a:pt x="20946" y="13163"/>
                </a:cubicBezTo>
                <a:cubicBezTo>
                  <a:pt x="20944" y="13192"/>
                  <a:pt x="20937" y="13247"/>
                  <a:pt x="20924" y="13273"/>
                </a:cubicBezTo>
                <a:cubicBezTo>
                  <a:pt x="20902" y="13295"/>
                  <a:pt x="20895" y="13302"/>
                  <a:pt x="20880" y="13317"/>
                </a:cubicBezTo>
                <a:cubicBezTo>
                  <a:pt x="20849" y="13299"/>
                  <a:pt x="20832" y="13291"/>
                  <a:pt x="20814" y="13273"/>
                </a:cubicBezTo>
                <a:cubicBezTo>
                  <a:pt x="20779" y="13238"/>
                  <a:pt x="20773" y="13232"/>
                  <a:pt x="20770" y="13185"/>
                </a:cubicBezTo>
                <a:cubicBezTo>
                  <a:pt x="20767" y="13140"/>
                  <a:pt x="20793" y="13095"/>
                  <a:pt x="20814" y="13053"/>
                </a:cubicBezTo>
                <a:cubicBezTo>
                  <a:pt x="20831" y="13018"/>
                  <a:pt x="20858" y="12980"/>
                  <a:pt x="20880" y="12943"/>
                </a:cubicBezTo>
                <a:cubicBezTo>
                  <a:pt x="20907" y="12897"/>
                  <a:pt x="20930" y="12870"/>
                  <a:pt x="20968" y="12832"/>
                </a:cubicBezTo>
                <a:cubicBezTo>
                  <a:pt x="21005" y="12795"/>
                  <a:pt x="21030" y="12756"/>
                  <a:pt x="21056" y="12722"/>
                </a:cubicBezTo>
                <a:cubicBezTo>
                  <a:pt x="21072" y="12701"/>
                  <a:pt x="21138" y="12666"/>
                  <a:pt x="21123" y="12634"/>
                </a:cubicBezTo>
                <a:cubicBezTo>
                  <a:pt x="21109" y="12604"/>
                  <a:pt x="21095" y="12672"/>
                  <a:pt x="21078" y="12700"/>
                </a:cubicBezTo>
                <a:cubicBezTo>
                  <a:pt x="21060" y="12729"/>
                  <a:pt x="21046" y="12774"/>
                  <a:pt x="21056" y="12810"/>
                </a:cubicBezTo>
                <a:cubicBezTo>
                  <a:pt x="21066" y="12844"/>
                  <a:pt x="21092" y="12867"/>
                  <a:pt x="21123" y="12876"/>
                </a:cubicBezTo>
                <a:cubicBezTo>
                  <a:pt x="21159" y="12886"/>
                  <a:pt x="21186" y="12874"/>
                  <a:pt x="21211" y="12854"/>
                </a:cubicBezTo>
                <a:cubicBezTo>
                  <a:pt x="21236" y="12834"/>
                  <a:pt x="21241" y="12842"/>
                  <a:pt x="21255" y="12810"/>
                </a:cubicBezTo>
                <a:cubicBezTo>
                  <a:pt x="21255" y="12803"/>
                  <a:pt x="21255" y="12795"/>
                  <a:pt x="21255" y="12788"/>
                </a:cubicBezTo>
              </a:path>
              <a:path w="2801" h="1081">
                <a:moveTo>
                  <a:pt x="21123" y="12413"/>
                </a:moveTo>
                <a:cubicBezTo>
                  <a:pt x="21116" y="12406"/>
                  <a:pt x="21108" y="12398"/>
                  <a:pt x="21101" y="12391"/>
                </a:cubicBezTo>
                <a:cubicBezTo>
                  <a:pt x="21142" y="12405"/>
                  <a:pt x="21104" y="12421"/>
                  <a:pt x="21145" y="12435"/>
                </a:cubicBezTo>
              </a:path>
              <a:path w="2801" h="1081">
                <a:moveTo>
                  <a:pt x="21431" y="12722"/>
                </a:moveTo>
                <a:cubicBezTo>
                  <a:pt x="21431" y="12684"/>
                  <a:pt x="21447" y="12726"/>
                  <a:pt x="21453" y="127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Ink 56"/>
          <p:cNvSpPr/>
          <p:nvPr/>
        </p:nvSpPr>
        <p:spPr>
          <a:xfrm>
            <a:off x="5937120" y="4897440"/>
            <a:ext cx="111240" cy="301680"/>
          </a:xfrm>
          <a:custGeom>
            <a:avLst/>
            <a:gdLst/>
            <a:ahLst/>
            <a:rect l="l" t="t" r="r" b="b"/>
            <a:pathLst>
              <a:path w="310" h="839">
                <a:moveTo>
                  <a:pt x="16647" y="13604"/>
                </a:moveTo>
                <a:cubicBezTo>
                  <a:pt x="16640" y="13604"/>
                  <a:pt x="16632" y="13604"/>
                  <a:pt x="16625" y="13604"/>
                </a:cubicBezTo>
                <a:cubicBezTo>
                  <a:pt x="16620" y="13620"/>
                  <a:pt x="16586" y="13658"/>
                  <a:pt x="16559" y="13670"/>
                </a:cubicBezTo>
                <a:cubicBezTo>
                  <a:pt x="16551" y="13670"/>
                  <a:pt x="16544" y="13670"/>
                  <a:pt x="16536" y="13670"/>
                </a:cubicBezTo>
                <a:cubicBezTo>
                  <a:pt x="16527" y="13705"/>
                  <a:pt x="16514" y="13719"/>
                  <a:pt x="16514" y="13758"/>
                </a:cubicBezTo>
                <a:cubicBezTo>
                  <a:pt x="16481" y="13769"/>
                  <a:pt x="16492" y="13784"/>
                  <a:pt x="16492" y="13824"/>
                </a:cubicBezTo>
                <a:cubicBezTo>
                  <a:pt x="16492" y="13923"/>
                  <a:pt x="16485" y="14025"/>
                  <a:pt x="16514" y="14111"/>
                </a:cubicBezTo>
                <a:cubicBezTo>
                  <a:pt x="16514" y="14133"/>
                  <a:pt x="16514" y="14140"/>
                  <a:pt x="16514" y="14155"/>
                </a:cubicBezTo>
                <a:cubicBezTo>
                  <a:pt x="16547" y="14166"/>
                  <a:pt x="16536" y="14181"/>
                  <a:pt x="16536" y="14221"/>
                </a:cubicBezTo>
                <a:cubicBezTo>
                  <a:pt x="16568" y="14231"/>
                  <a:pt x="16559" y="14227"/>
                  <a:pt x="16559" y="14265"/>
                </a:cubicBezTo>
                <a:cubicBezTo>
                  <a:pt x="16559" y="14243"/>
                  <a:pt x="16559" y="14236"/>
                  <a:pt x="16581" y="14243"/>
                </a:cubicBezTo>
              </a:path>
              <a:path w="310" h="839">
                <a:moveTo>
                  <a:pt x="16625" y="14310"/>
                </a:moveTo>
                <a:cubicBezTo>
                  <a:pt x="16625" y="14346"/>
                  <a:pt x="16636" y="14321"/>
                  <a:pt x="16647" y="14354"/>
                </a:cubicBezTo>
              </a:path>
              <a:path w="310" h="839">
                <a:moveTo>
                  <a:pt x="16581" y="14067"/>
                </a:moveTo>
                <a:cubicBezTo>
                  <a:pt x="16581" y="14074"/>
                  <a:pt x="16581" y="14082"/>
                  <a:pt x="16581" y="14089"/>
                </a:cubicBezTo>
                <a:cubicBezTo>
                  <a:pt x="16612" y="14099"/>
                  <a:pt x="16603" y="14095"/>
                  <a:pt x="16603" y="14133"/>
                </a:cubicBezTo>
                <a:cubicBezTo>
                  <a:pt x="16636" y="14144"/>
                  <a:pt x="16625" y="14159"/>
                  <a:pt x="16625" y="14199"/>
                </a:cubicBezTo>
                <a:cubicBezTo>
                  <a:pt x="16656" y="14209"/>
                  <a:pt x="16647" y="14205"/>
                  <a:pt x="16647" y="14243"/>
                </a:cubicBezTo>
                <a:cubicBezTo>
                  <a:pt x="16667" y="14250"/>
                  <a:pt x="16682" y="14281"/>
                  <a:pt x="16691" y="14310"/>
                </a:cubicBezTo>
                <a:cubicBezTo>
                  <a:pt x="16691" y="14317"/>
                  <a:pt x="16691" y="14325"/>
                  <a:pt x="16691" y="14332"/>
                </a:cubicBezTo>
                <a:cubicBezTo>
                  <a:pt x="16717" y="14341"/>
                  <a:pt x="16728" y="14369"/>
                  <a:pt x="16757" y="14398"/>
                </a:cubicBezTo>
                <a:cubicBezTo>
                  <a:pt x="16789" y="14430"/>
                  <a:pt x="16789" y="14407"/>
                  <a:pt x="16801" y="14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Ink 57"/>
          <p:cNvSpPr/>
          <p:nvPr/>
        </p:nvSpPr>
        <p:spPr>
          <a:xfrm>
            <a:off x="6167520" y="4842000"/>
            <a:ext cx="849240" cy="301680"/>
          </a:xfrm>
          <a:custGeom>
            <a:avLst/>
            <a:gdLst/>
            <a:ahLst/>
            <a:rect l="l" t="t" r="r" b="b"/>
            <a:pathLst>
              <a:path w="2360" h="838">
                <a:moveTo>
                  <a:pt x="17154" y="14045"/>
                </a:moveTo>
                <a:cubicBezTo>
                  <a:pt x="17129" y="14086"/>
                  <a:pt x="17121" y="14091"/>
                  <a:pt x="17154" y="14133"/>
                </a:cubicBezTo>
                <a:cubicBezTo>
                  <a:pt x="17171" y="14155"/>
                  <a:pt x="17193" y="14157"/>
                  <a:pt x="17220" y="14177"/>
                </a:cubicBezTo>
                <a:cubicBezTo>
                  <a:pt x="17240" y="14192"/>
                  <a:pt x="17255" y="14210"/>
                  <a:pt x="17308" y="14199"/>
                </a:cubicBezTo>
                <a:cubicBezTo>
                  <a:pt x="17310" y="14199"/>
                  <a:pt x="17379" y="14159"/>
                  <a:pt x="17396" y="14133"/>
                </a:cubicBezTo>
                <a:cubicBezTo>
                  <a:pt x="17407" y="14116"/>
                  <a:pt x="17432" y="14075"/>
                  <a:pt x="17462" y="14045"/>
                </a:cubicBezTo>
                <a:cubicBezTo>
                  <a:pt x="17482" y="14026"/>
                  <a:pt x="17521" y="13941"/>
                  <a:pt x="17529" y="13913"/>
                </a:cubicBezTo>
                <a:cubicBezTo>
                  <a:pt x="17542" y="13863"/>
                  <a:pt x="17556" y="13809"/>
                  <a:pt x="17573" y="13758"/>
                </a:cubicBezTo>
                <a:cubicBezTo>
                  <a:pt x="17584" y="13725"/>
                  <a:pt x="17593" y="13708"/>
                  <a:pt x="17595" y="13670"/>
                </a:cubicBezTo>
                <a:cubicBezTo>
                  <a:pt x="17597" y="13631"/>
                  <a:pt x="17592" y="13636"/>
                  <a:pt x="17573" y="13604"/>
                </a:cubicBezTo>
                <a:cubicBezTo>
                  <a:pt x="17573" y="13740"/>
                  <a:pt x="17534" y="13953"/>
                  <a:pt x="17595" y="14067"/>
                </a:cubicBezTo>
                <a:cubicBezTo>
                  <a:pt x="17611" y="14098"/>
                  <a:pt x="17612" y="14122"/>
                  <a:pt x="17661" y="14111"/>
                </a:cubicBezTo>
                <a:cubicBezTo>
                  <a:pt x="17709" y="14100"/>
                  <a:pt x="17704" y="14076"/>
                  <a:pt x="17727" y="14045"/>
                </a:cubicBezTo>
                <a:cubicBezTo>
                  <a:pt x="17748" y="14017"/>
                  <a:pt x="17776" y="13980"/>
                  <a:pt x="17793" y="13957"/>
                </a:cubicBezTo>
                <a:cubicBezTo>
                  <a:pt x="17815" y="13928"/>
                  <a:pt x="17829" y="13904"/>
                  <a:pt x="17837" y="13869"/>
                </a:cubicBezTo>
                <a:cubicBezTo>
                  <a:pt x="17846" y="13826"/>
                  <a:pt x="17856" y="13802"/>
                  <a:pt x="17859" y="13758"/>
                </a:cubicBezTo>
                <a:cubicBezTo>
                  <a:pt x="17861" y="13729"/>
                  <a:pt x="17859" y="13699"/>
                  <a:pt x="17859" y="13670"/>
                </a:cubicBezTo>
                <a:cubicBezTo>
                  <a:pt x="17846" y="13691"/>
                  <a:pt x="17839" y="13690"/>
                  <a:pt x="17837" y="13736"/>
                </a:cubicBezTo>
                <a:cubicBezTo>
                  <a:pt x="17833" y="13830"/>
                  <a:pt x="17803" y="14041"/>
                  <a:pt x="17859" y="14111"/>
                </a:cubicBezTo>
                <a:cubicBezTo>
                  <a:pt x="17892" y="14153"/>
                  <a:pt x="17873" y="14149"/>
                  <a:pt x="17926" y="14155"/>
                </a:cubicBezTo>
                <a:cubicBezTo>
                  <a:pt x="17984" y="14162"/>
                  <a:pt x="18033" y="14152"/>
                  <a:pt x="18080" y="14133"/>
                </a:cubicBezTo>
                <a:cubicBezTo>
                  <a:pt x="18111" y="14121"/>
                  <a:pt x="18161" y="14124"/>
                  <a:pt x="18190" y="14111"/>
                </a:cubicBezTo>
                <a:cubicBezTo>
                  <a:pt x="18210" y="14091"/>
                  <a:pt x="18214" y="14084"/>
                  <a:pt x="18234" y="14089"/>
                </a:cubicBezTo>
              </a:path>
              <a:path w="2360" h="838">
                <a:moveTo>
                  <a:pt x="18433" y="13450"/>
                </a:moveTo>
                <a:cubicBezTo>
                  <a:pt x="18408" y="13484"/>
                  <a:pt x="18411" y="13495"/>
                  <a:pt x="18411" y="13538"/>
                </a:cubicBezTo>
                <a:cubicBezTo>
                  <a:pt x="18411" y="13580"/>
                  <a:pt x="18392" y="13608"/>
                  <a:pt x="18389" y="13648"/>
                </a:cubicBezTo>
                <a:cubicBezTo>
                  <a:pt x="18383" y="13741"/>
                  <a:pt x="18381" y="13825"/>
                  <a:pt x="18366" y="13913"/>
                </a:cubicBezTo>
                <a:cubicBezTo>
                  <a:pt x="18343" y="14043"/>
                  <a:pt x="18313" y="14386"/>
                  <a:pt x="18366" y="14265"/>
                </a:cubicBezTo>
                <a:cubicBezTo>
                  <a:pt x="18374" y="14250"/>
                  <a:pt x="18381" y="14236"/>
                  <a:pt x="18389" y="14221"/>
                </a:cubicBezTo>
              </a:path>
              <a:path w="2360" h="838">
                <a:moveTo>
                  <a:pt x="18984" y="13604"/>
                </a:moveTo>
                <a:cubicBezTo>
                  <a:pt x="18984" y="13565"/>
                  <a:pt x="18978" y="13560"/>
                  <a:pt x="18962" y="13538"/>
                </a:cubicBezTo>
                <a:cubicBezTo>
                  <a:pt x="18935" y="13501"/>
                  <a:pt x="18917" y="13494"/>
                  <a:pt x="18874" y="13494"/>
                </a:cubicBezTo>
                <a:cubicBezTo>
                  <a:pt x="18835" y="13494"/>
                  <a:pt x="18818" y="13527"/>
                  <a:pt x="18785" y="13538"/>
                </a:cubicBezTo>
                <a:cubicBezTo>
                  <a:pt x="18769" y="13543"/>
                  <a:pt x="18731" y="13577"/>
                  <a:pt x="18719" y="13604"/>
                </a:cubicBezTo>
                <a:cubicBezTo>
                  <a:pt x="18709" y="13627"/>
                  <a:pt x="18699" y="13690"/>
                  <a:pt x="18697" y="13714"/>
                </a:cubicBezTo>
                <a:cubicBezTo>
                  <a:pt x="18693" y="13774"/>
                  <a:pt x="18705" y="13792"/>
                  <a:pt x="18719" y="13847"/>
                </a:cubicBezTo>
                <a:cubicBezTo>
                  <a:pt x="18727" y="13878"/>
                  <a:pt x="18738" y="13906"/>
                  <a:pt x="18741" y="13935"/>
                </a:cubicBezTo>
                <a:cubicBezTo>
                  <a:pt x="18743" y="13957"/>
                  <a:pt x="18762" y="14012"/>
                  <a:pt x="18785" y="14023"/>
                </a:cubicBezTo>
                <a:cubicBezTo>
                  <a:pt x="18813" y="14037"/>
                  <a:pt x="18839" y="14045"/>
                  <a:pt x="18874" y="14045"/>
                </a:cubicBezTo>
                <a:cubicBezTo>
                  <a:pt x="18899" y="14045"/>
                  <a:pt x="18963" y="14013"/>
                  <a:pt x="18984" y="14001"/>
                </a:cubicBezTo>
                <a:cubicBezTo>
                  <a:pt x="18996" y="13994"/>
                  <a:pt x="19084" y="13930"/>
                  <a:pt x="19094" y="13935"/>
                </a:cubicBezTo>
                <a:cubicBezTo>
                  <a:pt x="19094" y="13942"/>
                  <a:pt x="19094" y="13950"/>
                  <a:pt x="19094" y="13957"/>
                </a:cubicBezTo>
              </a:path>
              <a:path w="2360" h="838">
                <a:moveTo>
                  <a:pt x="19359" y="13450"/>
                </a:moveTo>
                <a:cubicBezTo>
                  <a:pt x="19359" y="13457"/>
                  <a:pt x="19359" y="13465"/>
                  <a:pt x="19359" y="13472"/>
                </a:cubicBezTo>
                <a:cubicBezTo>
                  <a:pt x="19375" y="13477"/>
                  <a:pt x="19413" y="13511"/>
                  <a:pt x="19425" y="13538"/>
                </a:cubicBezTo>
                <a:cubicBezTo>
                  <a:pt x="19425" y="13545"/>
                  <a:pt x="19425" y="13553"/>
                  <a:pt x="19425" y="13560"/>
                </a:cubicBezTo>
                <a:cubicBezTo>
                  <a:pt x="19445" y="13567"/>
                  <a:pt x="19460" y="13598"/>
                  <a:pt x="19469" y="13626"/>
                </a:cubicBezTo>
                <a:cubicBezTo>
                  <a:pt x="19480" y="13660"/>
                  <a:pt x="19482" y="13705"/>
                  <a:pt x="19491" y="13736"/>
                </a:cubicBezTo>
                <a:cubicBezTo>
                  <a:pt x="19504" y="13779"/>
                  <a:pt x="19475" y="13816"/>
                  <a:pt x="19469" y="13847"/>
                </a:cubicBezTo>
                <a:cubicBezTo>
                  <a:pt x="19459" y="13896"/>
                  <a:pt x="19455" y="13959"/>
                  <a:pt x="19447" y="14001"/>
                </a:cubicBezTo>
                <a:cubicBezTo>
                  <a:pt x="19438" y="14048"/>
                  <a:pt x="19443" y="14070"/>
                  <a:pt x="19425" y="14111"/>
                </a:cubicBezTo>
                <a:cubicBezTo>
                  <a:pt x="19406" y="14155"/>
                  <a:pt x="19403" y="14157"/>
                  <a:pt x="19403" y="14199"/>
                </a:cubicBezTo>
                <a:cubicBezTo>
                  <a:pt x="19375" y="14208"/>
                  <a:pt x="19368" y="14229"/>
                  <a:pt x="19359" y="14265"/>
                </a:cubicBezTo>
                <a:cubicBezTo>
                  <a:pt x="19337" y="14265"/>
                  <a:pt x="19330" y="14265"/>
                  <a:pt x="19337" y="14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AutoShape 6"/>
          <p:cNvSpPr/>
          <p:nvPr/>
        </p:nvSpPr>
        <p:spPr>
          <a:xfrm>
            <a:off x="2514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990720" y="304920"/>
            <a:ext cx="130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Қа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8" name="WordArt 8"/>
          <p:cNvSpPr txBox="1"/>
          <p:nvPr/>
        </p:nvSpPr>
        <p:spPr>
          <a:xfrm>
            <a:off x="3352680" y="45720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ат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4800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5638680" y="380880"/>
            <a:ext cx="22860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есте сақт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12"/>
              <p:cNvSpPr txBox="1"/>
              <p:nvPr/>
            </p:nvSpPr>
            <p:spPr>
              <a:xfrm>
                <a:off x="685800" y="1600200"/>
                <a:ext cx="3581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жылдамдык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рынауыстыр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акы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03" name="Picture 14" descr="img2"/>
          <p:cNvPicPr/>
          <p:nvPr/>
        </p:nvPicPr>
        <p:blipFill>
          <a:blip r:embed="rId1"/>
          <a:stretch/>
        </p:blipFill>
        <p:spPr>
          <a:xfrm>
            <a:off x="2666880" y="2514600"/>
            <a:ext cx="2181240" cy="190512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6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17"/>
              <p:cNvSpPr txBox="1"/>
              <p:nvPr/>
            </p:nvSpPr>
            <p:spPr>
              <a:xfrm>
                <a:off x="5410080" y="2514600"/>
                <a:ext cx="228600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ϑ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ϑ</m:t>
                            </m:r>
                          </m:den>
                        </m:f>
                      </m:e>
                      <m:e>
                        <m:r>
                          <m:t xml:space="preserve">ϑ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7" name="Text Box 19"/>
          <p:cNvSpPr/>
          <p:nvPr/>
        </p:nvSpPr>
        <p:spPr>
          <a:xfrm>
            <a:off x="451080" y="4495680"/>
            <a:ext cx="809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Бірліктердің Халықаралық жүйесінде (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</a:t>
            </a: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) жылдамдықтың бірлігі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екундына метр (м/с) алынады. Бұл жылдамдық бірқалыпты түз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ызықты қозғалатын нүктенің 1с ішінде 1 метрге оры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ауыстыратынын білдіреді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4"/>
          <p:cNvSpPr txBox="1"/>
          <p:nvPr/>
        </p:nvSpPr>
        <p:spPr>
          <a:xfrm>
            <a:off x="990720" y="6858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ергіту сәті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4"/>
          <p:cNvSpPr txBox="1"/>
          <p:nvPr/>
        </p:nvSpPr>
        <p:spPr>
          <a:xfrm>
            <a:off x="838080" y="380880"/>
            <a:ext cx="6553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Есеп және озық о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тегия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0" name="Picture 5" descr="Изображение"/>
          <p:cNvPicPr/>
          <p:nvPr/>
        </p:nvPicPr>
        <p:blipFill>
          <a:blip r:embed="rId2"/>
          <a:stretch/>
        </p:blipFill>
        <p:spPr>
          <a:xfrm>
            <a:off x="380880" y="2133720"/>
            <a:ext cx="8001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07T17:40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